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26.wmf" ContentType="image/x-wmf"/>
  <Override PartName="/ppt/media/image15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842472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1280" y="4420440"/>
            <a:ext cx="842472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1280" y="442044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8400" y="442044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9960" y="188136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8640" y="188136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1280" y="442044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9960" y="442044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8640" y="442044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d3a1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11280" y="630000"/>
            <a:ext cx="842472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d3a1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11280" y="442044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d3a1"/>
              </a:solidFill>
              <a:latin typeface="Trebuchet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8400" y="442044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11280" y="4420440"/>
            <a:ext cx="842472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842472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11280" y="4420440"/>
            <a:ext cx="842472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11280" y="442044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8400" y="442044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59960" y="188136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08640" y="188136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11280" y="442044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59960" y="442044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08640" y="442044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11280" y="630000"/>
            <a:ext cx="842472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d3a1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1280" y="442044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8400" y="442044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1280" y="4420440"/>
            <a:ext cx="842472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17640"/>
            <a:ext cx="2340000" cy="4986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503280" y="480960"/>
            <a:ext cx="8640720" cy="1292400"/>
          </a:xfrm>
          <a:prstGeom prst="rect">
            <a:avLst/>
          </a:prstGeom>
          <a:solidFill>
            <a:srgbClr val="a719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0" y="1773360"/>
            <a:ext cx="503280" cy="5084640"/>
          </a:xfrm>
          <a:prstGeom prst="rect">
            <a:avLst/>
          </a:prstGeom>
          <a:solidFill>
            <a:srgbClr val="a719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bd5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1630440"/>
            <a:ext cx="1660680" cy="52354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0" y="-17640"/>
            <a:ext cx="7740720" cy="1648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655640" y="1628640"/>
            <a:ext cx="7524720" cy="5229360"/>
          </a:xfrm>
          <a:prstGeom prst="rect">
            <a:avLst/>
          </a:prstGeom>
          <a:solidFill>
            <a:srgbClr val="a719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71280" y="2130120"/>
            <a:ext cx="7093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bd5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3a1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d3a1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828440" y="2742840"/>
            <a:ext cx="7093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bd5"/>
                </a:solidFill>
                <a:latin typeface="Times New Roman"/>
              </a:rPr>
              <a:t>Systemy pomiarowe</a:t>
            </a:r>
            <a:br>
              <a:rPr sz="2800"/>
            </a:br>
            <a:r>
              <a:rPr b="1" lang="en-US" sz="2800" spc="-1" strike="noStrike">
                <a:solidFill>
                  <a:srgbClr val="ffebd5"/>
                </a:solidFill>
                <a:latin typeface="Times New Roman"/>
              </a:rPr>
              <a:t>  ( </a:t>
            </a:r>
            <a:r>
              <a:rPr b="1" lang="en-US" sz="2400" spc="-1" strike="noStrike">
                <a:solidFill>
                  <a:srgbClr val="ffebd5"/>
                </a:solidFill>
                <a:latin typeface="Times New Roman"/>
              </a:rPr>
              <a:t>Systemy akwizycji i przetwarzania </a:t>
            </a:r>
            <a:br>
              <a:rPr sz="2400"/>
            </a:br>
            <a:r>
              <a:rPr b="1" lang="en-US" sz="2400" spc="-1" strike="noStrike">
                <a:solidFill>
                  <a:srgbClr val="ffebd5"/>
                </a:solidFill>
                <a:latin typeface="Times New Roman"/>
              </a:rPr>
              <a:t>danych pomiarowych )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871280" y="5697000"/>
            <a:ext cx="70930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ebd5"/>
                </a:solidFill>
                <a:latin typeface="Times New Roman"/>
              </a:rPr>
              <a:t>Definicja; rodzaje urządzeń; typowe interfejsy; środowiska projektowe.</a:t>
            </a:r>
            <a:endParaRPr b="0" lang="en-US" sz="1400" spc="-1" strike="noStrike">
              <a:solidFill>
                <a:srgbClr val="ffd3a1"/>
              </a:solidFill>
              <a:latin typeface="Trebuchet MS"/>
            </a:endParaRPr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Arial"/>
              </a:rPr>
              <a:t>Systemy modułowe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1905120"/>
            <a:ext cx="80931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odstawowe składniki systemu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-10152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oduł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urządzenia pozbawione interfejsu użytkownika oraz zasilania. Poza tym odpowiadają funkcjonalnie swoim odpowiednikom wykonanym w wersji urządzenia autonomiczneg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-10152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Kase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obudowy przeznaczone do integracji modułów w działający system. Zawierają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asilacz dostarczający napięć modułom instalowanym w kaseci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gistralę interfejsową zapewniającą komunikację pomiędzy modułami kase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00600" y="4343400"/>
            <a:ext cx="4191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rzykład kase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Duża liczba linii interfejsu i krótkie odległości umożliwiają bardzo szybką transmisję danych pomiędzy modułami kase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914400" y="4038480"/>
          <a:ext cx="3610080" cy="26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4038480"/>
                    <a:ext cx="3610080" cy="26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 flipH="1">
            <a:off x="4419720" y="4495680"/>
            <a:ext cx="380880" cy="76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3505320" y="5334120"/>
            <a:ext cx="1295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Arial"/>
              </a:rPr>
              <a:t>Systemy modułowe techniki pomiarowej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39" name=""/>
          <p:cNvSpPr/>
          <p:nvPr/>
        </p:nvSpPr>
        <p:spPr>
          <a:xfrm>
            <a:off x="838080" y="2438280"/>
            <a:ext cx="7712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wa popularne w technice pomiarowej systemy modułow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ystem VX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VMEbus Extensions for Instrumentation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lang="pl-PL" sz="1800" spc="-1" strike="noStrike">
                <a:solidFill>
                  <a:srgbClr val="0000ff"/>
                </a:solidFill>
                <a:latin typeface="Arial"/>
              </a:rPr>
              <a:t>VXI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) jest specyfikacją systemu modułowego zarządzaną przez VXIbus Consortiu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ystem PX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PCI eXtensions for Instrumentation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lang="pl-PL" sz="1800" spc="-1" strike="noStrike">
                <a:solidFill>
                  <a:srgbClr val="0000ff"/>
                </a:solidFill>
                <a:latin typeface="Arial"/>
              </a:rPr>
              <a:t>PXI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) jest otwartą specyfikacją systemu modułowego, zarządzaną przez PXI Systems Allian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VXI_mag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6664320" cy="4194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762120" y="5181480"/>
            <a:ext cx="8001000" cy="14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0000"/>
                </a:solidFill>
                <a:latin typeface="Arial"/>
              </a:rPr>
              <a:t>Dodatkowe zespoły linii połączeniowych dotyczą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0000"/>
                </a:solidFill>
                <a:latin typeface="Arial"/>
              </a:rPr>
              <a:t>Szyny wyzwalania, sumy analogowej,szyny lokalnej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0000"/>
                </a:solidFill>
                <a:latin typeface="Arial"/>
              </a:rPr>
              <a:t>Połączeń w topologii gwiazdy ( Star, MODID, Clock&amp;Sync 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odatkowe połączenia mają zapewnić bardzo szybką komunikację międzymodułową oraz dostarczenie sygnałów zegarowych, synchronizacyjnych i wyzwalania o dużej precyzji, np. synchronizacja z dokładnością na poziomie nsek. (&lt;2nsek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ebd5"/>
                </a:solidFill>
                <a:latin typeface="Trebuchet MS"/>
              </a:rPr>
              <a:t>System modułowy VXI - magistrala</a:t>
            </a:r>
            <a:endParaRPr b="1" lang="en-US" sz="1600" spc="-1" strike="noStrike">
              <a:solidFill>
                <a:srgbClr val="ffebd5"/>
              </a:solidFill>
              <a:latin typeface="Trebuchet MS"/>
            </a:endParaRPr>
          </a:p>
        </p:txBody>
      </p:sp>
    </p:spTree>
  </p:cSld>
  <p:transition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ebd5"/>
                </a:solidFill>
                <a:latin typeface="Arial"/>
              </a:rPr>
              <a:t>Systemy modułowe VXI - kasety VXI:</a:t>
            </a:r>
            <a:endParaRPr b="1" lang="en-US" sz="2800" spc="-1" strike="noStrike">
              <a:solidFill>
                <a:srgbClr val="ffebd5"/>
              </a:solidFill>
              <a:latin typeface="Trebuchet MS"/>
            </a:endParaRPr>
          </a:p>
        </p:txBody>
      </p:sp>
      <p:pic>
        <p:nvPicPr>
          <p:cNvPr id="144" name="kaseta" descr=""/>
          <p:cNvPicPr/>
          <p:nvPr/>
        </p:nvPicPr>
        <p:blipFill>
          <a:blip r:embed="rId1"/>
          <a:stretch/>
        </p:blipFill>
        <p:spPr>
          <a:xfrm>
            <a:off x="5791320" y="2133720"/>
            <a:ext cx="2539800" cy="1854000"/>
          </a:xfrm>
          <a:prstGeom prst="rect">
            <a:avLst/>
          </a:prstGeom>
          <a:ln w="0">
            <a:noFill/>
          </a:ln>
        </p:spPr>
      </p:pic>
      <p:pic>
        <p:nvPicPr>
          <p:cNvPr id="145" name="kasetaag" descr=""/>
          <p:cNvPicPr/>
          <p:nvPr/>
        </p:nvPicPr>
        <p:blipFill>
          <a:blip r:embed="rId2"/>
          <a:stretch/>
        </p:blipFill>
        <p:spPr>
          <a:xfrm>
            <a:off x="990720" y="2743200"/>
            <a:ext cx="2222280" cy="32637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4038480" y="205740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aseta 13-modułow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22096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aseta 4-modułow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05320" y="4267080"/>
            <a:ext cx="5333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stępne kase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óżnych rozmiarów (A,B,C,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óżnej pojemności (liczbie slotów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 różną wydajnością zasilacz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kasecie można instalować moduły o mniejszym rozmiarze, czyli np. moduły A, B w kasecie rozmiaru 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ebd5"/>
                </a:solidFill>
                <a:latin typeface="Arial"/>
              </a:rPr>
              <a:t>Systemy modułowe VXI - moduły przyrządowe VXI:</a:t>
            </a:r>
            <a:endParaRPr b="1" lang="en-US" sz="2800" spc="-1" strike="noStrike">
              <a:solidFill>
                <a:srgbClr val="ffebd5"/>
              </a:solidFill>
              <a:latin typeface="Trebuchet MS"/>
            </a:endParaRPr>
          </a:p>
        </p:txBody>
      </p:sp>
      <p:pic>
        <p:nvPicPr>
          <p:cNvPr id="150" name="part1_carte_vxi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2982960" cy="32767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143000" y="58672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duł przyrządowy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62520" y="2133720"/>
            <a:ext cx="487656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me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zetworniki ADC i D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cyloskop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cznik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ły kondycjonowania sygnałó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ory funkcj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ory impulsó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ły cyfrowych wejść/wyjś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ksery sygnałów analogowych (półprzewodnikowe, elektromechanicz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837720"/>
            <a:ext cx="842508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bd5"/>
                </a:solidFill>
                <a:latin typeface="Arial"/>
              </a:rPr>
              <a:t>Systemy modułowe VXI – moduły sterujące:</a:t>
            </a:r>
            <a:endParaRPr b="1" lang="en-US" sz="2800" spc="-1" strike="noStrike">
              <a:solidFill>
                <a:srgbClr val="ffebd5"/>
              </a:solidFill>
              <a:latin typeface="Trebuchet MS"/>
            </a:endParaRPr>
          </a:p>
        </p:txBody>
      </p:sp>
      <p:pic>
        <p:nvPicPr>
          <p:cNvPr id="154" name="embended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2540160" cy="1854000"/>
          </a:xfrm>
          <a:prstGeom prst="rect">
            <a:avLst/>
          </a:prstGeom>
          <a:ln w="0">
            <a:noFill/>
          </a:ln>
        </p:spPr>
      </p:pic>
      <p:pic>
        <p:nvPicPr>
          <p:cNvPr id="155" name="commander" descr=""/>
          <p:cNvPicPr/>
          <p:nvPr/>
        </p:nvPicPr>
        <p:blipFill>
          <a:blip r:embed="rId2"/>
          <a:stretch/>
        </p:blipFill>
        <p:spPr>
          <a:xfrm>
            <a:off x="685800" y="4495680"/>
            <a:ext cx="2540160" cy="18543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33520" y="39625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duł sterujący GPIB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647712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omputer modułowy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69960" y="1413000"/>
            <a:ext cx="23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8120" y="3048120"/>
            <a:ext cx="5943600" cy="23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ystem VXI może być sterowany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ewnętrznym komputerem sprzęgniętym z kasetą za pośrednictwem modułu sterującego wyposażonego w określony typ interfejsu łączący go z komputerem, np. GPIB, IEEE1394, Vxlink, MX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14480">
              <a:lnSpc>
                <a:spcPct val="100000"/>
              </a:lnSpc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budowany komputer modułow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1760" y="914400"/>
            <a:ext cx="8381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ebd5"/>
                </a:solidFill>
                <a:latin typeface="Arial"/>
              </a:rPr>
              <a:t>Systemy modułowe VXI - Konfiguracja z zewnętrznym komputerem:</a:t>
            </a:r>
            <a:endParaRPr b="1" lang="en-US" sz="2000" spc="-1" strike="noStrike">
              <a:solidFill>
                <a:srgbClr val="ffebd5"/>
              </a:solidFill>
              <a:latin typeface="Trebuchet MS"/>
            </a:endParaRPr>
          </a:p>
        </p:txBody>
      </p:sp>
      <p:pic>
        <p:nvPicPr>
          <p:cNvPr id="161" name="ster_vxi1a" descr=""/>
          <p:cNvPicPr/>
          <p:nvPr/>
        </p:nvPicPr>
        <p:blipFill>
          <a:blip r:embed="rId1"/>
          <a:stretch/>
        </p:blipFill>
        <p:spPr>
          <a:xfrm>
            <a:off x="2438280" y="3124080"/>
            <a:ext cx="5029200" cy="30751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914400" y="236232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astosowanie interfejsu GPIB (IEEE48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99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ebd5"/>
                </a:solidFill>
                <a:latin typeface="Arial"/>
              </a:rPr>
              <a:t>Systemy modułowe VXI - Przykład systemu VXI.</a:t>
            </a:r>
            <a:endParaRPr b="1" lang="en-US" sz="2000" spc="-1" strike="noStrike">
              <a:solidFill>
                <a:srgbClr val="ffebd5"/>
              </a:solidFill>
              <a:latin typeface="Trebuchet MS"/>
            </a:endParaRPr>
          </a:p>
        </p:txBody>
      </p:sp>
      <p:pic>
        <p:nvPicPr>
          <p:cNvPr id="164" name="auto_vxi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508720" cy="32925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905120" y="5562720"/>
            <a:ext cx="5654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dstawowe zalety systemów modułowych VX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bilność system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Łatwa odtwarzalność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zeroka gama urządzeń modułowych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ża szybkość działan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Arial"/>
              </a:rPr>
              <a:t>System modułowy PXI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67" name=""/>
          <p:cNvSpPr/>
          <p:nvPr/>
        </p:nvSpPr>
        <p:spPr>
          <a:xfrm>
            <a:off x="990720" y="5943600"/>
            <a:ext cx="7696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gistrala PXI jest oparta na magistrali PCI znanej z architektury komputera P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 stosunku do typowej magistrali PCI zostały wprowadzone rozszerzenia związane z zastosowaniami system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120" y="1905120"/>
            <a:ext cx="815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0000"/>
                </a:solidFill>
                <a:latin typeface="Arial"/>
              </a:rPr>
              <a:t>PCI eXtensions for Instrumentation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pl-PL" sz="1400" spc="-1" strike="noStrike">
                <a:solidFill>
                  <a:srgbClr val="0000ff"/>
                </a:solidFill>
                <a:latin typeface="Arial"/>
              </a:rPr>
              <a:t>PXI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) jest otwartą specyfikacją, zarządzaną przez PXI Systems Allianc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14400" y="2514600"/>
          <a:ext cx="7275600" cy="320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514600"/>
                    <a:ext cx="7275600" cy="32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Ba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Arial"/>
              </a:rPr>
              <a:t>Magistrala systemu PXI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371600" y="1981080"/>
          <a:ext cx="6114960" cy="326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981080"/>
                    <a:ext cx="6114960" cy="32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 flipH="1">
            <a:off x="5943240" y="3505320"/>
            <a:ext cx="1600200" cy="99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98560" y="51973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27880" y="5334120"/>
            <a:ext cx="5202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 skład magistrali PXI wchodzą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gistrala PCI; 32 lub 64 bitow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zyny lokalne łączące sąsiadujące moduły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Linia sygnału zegarowego 10MHz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zyna wyzwalania (montowana opcjonalnie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Linie wyzwalania w systemie połączeń gwiazdowyc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bd5"/>
                </a:solidFill>
                <a:latin typeface="Arial"/>
              </a:rPr>
              <a:t>System akwizycji danych :</a:t>
            </a:r>
            <a:endParaRPr b="1" lang="en-US" sz="28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4038480"/>
            <a:ext cx="7483680" cy="19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rzyczyny stosowania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żliwość bardzo szybkiej akwizycji danych i pracy w czasie rzeczywistym   ( </a:t>
            </a:r>
            <a:r>
              <a:rPr b="0" i="1" lang="en-US" sz="1400" spc="-1" strike="noStrike">
                <a:solidFill>
                  <a:srgbClr val="5f5f5f"/>
                </a:solidFill>
                <a:latin typeface="Arial"/>
              </a:rPr>
              <a:t>miliony danych na sekundę, bieżąca analiza danych  itp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żliwość realizacji pomiarów w warunkach groźnych lub niedostępnych dla człowiek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Łatwość gromadzenia, przetwarzania i przechowywania danych ( </a:t>
            </a:r>
            <a:r>
              <a:rPr b="0" i="1" lang="en-US" sz="1400" spc="-1" strike="noStrike">
                <a:solidFill>
                  <a:srgbClr val="5f5f5f"/>
                </a:solidFill>
                <a:latin typeface="Arial"/>
              </a:rPr>
              <a:t>między innymi zmniejszenie czasu i kosztów badań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2362320"/>
            <a:ext cx="748332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ystem akwizycji danych pomiarowyc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 system pomiarowy)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espół urządzeń objętych wspólnym sterowaniem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przeznaczony do realizacji procesu pomiarowego w sposób automatyczn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bd5"/>
                </a:solidFill>
                <a:latin typeface="Arial"/>
              </a:rPr>
              <a:t>Systemy modułowe PXI - Konfiguracja z zewnętrznym komputerem:</a:t>
            </a:r>
            <a:endParaRPr b="1" lang="en-US" sz="2000" spc="-1" strike="noStrike">
              <a:solidFill>
                <a:srgbClr val="ffebd5"/>
              </a:solidFill>
              <a:latin typeface="Trebuchet MS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838080" y="1905120"/>
          <a:ext cx="4191120" cy="18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4191120" cy="18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822240" y="4022640"/>
            <a:ext cx="8093160" cy="23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stem PXI łączy z zewnętrznym komputerem przezroczyste dla użytkownika szybkie łącze szeregowe MXI ( 1.5Gbit/s 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aseta PXI używa specjalnego modułu sterującego MXI w pozycji 1 a komputer karty interfejsu MX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a urządzenia można połączyć kablem przewodowym (7m) lub światłowodem (200m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dczas uruchamiania systemu, komputer rozpoznaje wszystkie peryferyjne moduły z kasety PXI jako urządzenia PC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bd5"/>
                </a:solidFill>
                <a:latin typeface="Arial"/>
              </a:rPr>
              <a:t>Systemy modułowe PXI - Konfiguracja z wbudowanym komputerem:</a:t>
            </a:r>
            <a:endParaRPr b="1" lang="en-US" sz="20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1828800"/>
            <a:ext cx="8382240" cy="13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onfiguracja z wbudowanym kontrolerem jest zwartym i mobilnym systemem pomiarowy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budowany kontroler jest typowym komputerem PC ale w wersji modułowej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ontroler NI PXI-8187 dysponuje procesorem Pentium 4-M 2.5GHz, do 1GB pamięci DDR, dyskiem twardym i standardowymi peryferiami : USB 2.0, Ethernet, port szeregowy i równoległy. Można zainstalować system operacyjny Windows 2000/X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2819520" y="3581280"/>
          <a:ext cx="2838240" cy="252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3581280"/>
                    <a:ext cx="2838240" cy="25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Ba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95680" y="630000"/>
            <a:ext cx="45403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bd5"/>
                </a:solidFill>
                <a:latin typeface="Arial"/>
              </a:rPr>
              <a:t>Systemy modułowe PXI – moduły:</a:t>
            </a:r>
            <a:endParaRPr b="1" lang="en-US" sz="20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822240" y="3489480"/>
            <a:ext cx="8093160" cy="31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dzaje dostępnych modułów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Oscyloskop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– szybkie przetworniki AC i oscyloskopy o rozdzielczości od 8 do 24 bitów oraz szybkości próbkowania do 250 MS/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Generatory sygnałow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– generatory funkcji i kształtu o rozdzielczości od 12 do 16 bitów i szybkości do 400MS/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Generatory i analizatory sygnałów cyfrowyc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– o szybkości do 200MHz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Urządzenia dużej częstotliwości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– generacja i analiza do 7GHz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Multimetry cyfrow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– do 7,5 cyfry, rozdzielczość do 26 bitów , szybkość próbkowania do 2MS/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rogramowalne źródła napięć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–  do 20W, rozdzielczość do 16 bitów, czas programowania krótszy od 1m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rzełączniki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– przełączniki ogólnego zastosowania, multipleksery oraz matryce przełączające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219320" y="762120"/>
          <a:ext cx="2628720" cy="25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762120"/>
                    <a:ext cx="2628720" cy="25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5410080" y="990720"/>
          <a:ext cx="3210120" cy="264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990720"/>
                    <a:ext cx="3210120" cy="26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2286000" y="2895480"/>
            <a:ext cx="170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scyloskop do 2G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085520" y="3200400"/>
            <a:ext cx="153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ltimetr 7,5 cyf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Arial"/>
              </a:rPr>
              <a:t>Dostępne platformy budowy systemów 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94" name=""/>
          <p:cNvSpPr/>
          <p:nvPr/>
        </p:nvSpPr>
        <p:spPr>
          <a:xfrm>
            <a:off x="1143000" y="2286000"/>
            <a:ext cx="76960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VXI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, PX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Duża wydajność (szybkość działani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Mobilność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Bardzo kosztow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GPIB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 (IEEE48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Szeroka gama dostępnych przyrządó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Dość wol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Brak możliwości integracji sprzętowej; mała mobilność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Karty DA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skie kosz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Duża wydajność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Brak funkcjonalności charakterystycznej dla przyrządów autonomicznyc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Dużo gorsze własności użytkowe w stosunku do wersji modułowych (niezawodność, odporność na zakłócenia elekromagnetyczne oraz warunki otoczenia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Arial"/>
              </a:rPr>
              <a:t>Oprogramowanie systemów akwizycji 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1828800"/>
            <a:ext cx="5029200" cy="1159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5f5f5f"/>
                </a:solidFill>
                <a:latin typeface="Arial"/>
              </a:rPr>
              <a:t>Sterowniki interfejsów systemu komputeroweg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erowniki wirtualne związane z konkretnym rozwiązaniem karty interfejsowej, np. dla GPIB (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GPIBTNT.VX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G341i32.VX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lub systemowe w przypadku standardowego interfejsu systemu komputerowego jak RS232 lub USB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09840" y="19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143000" y="2438280"/>
          <a:ext cx="2523960" cy="36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438280"/>
                    <a:ext cx="2523960" cy="36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3886200" y="3200400"/>
            <a:ext cx="5029200" cy="2012040"/>
          </a:xfrm>
          <a:prstGeom prst="rect">
            <a:avLst/>
          </a:prstGeom>
          <a:solidFill>
            <a:srgbClr val="b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5f5f5f"/>
                </a:solidFill>
                <a:latin typeface="Arial"/>
              </a:rPr>
              <a:t>Biblioteki I/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blioteki dynamiczne dostarczające funkcje we/wy dla określonego typu interfejsu i jego realizacji, np.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GPIB-32.DL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la kart GPIB produkcji N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wersalne biblioteki dynamiczne niezależne od stosowanej platformy interfejsowej. Identyczne funkcje dla GPIB, RS232 lub USB.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Biblioteka VISA (VISA32.DLL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dczas realizacji zleceń wykorzystuje sterownik danego interfejs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86200" y="5410080"/>
            <a:ext cx="502920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5f5f5f"/>
                </a:solidFill>
                <a:latin typeface="Arial"/>
              </a:rPr>
              <a:t>Drajwer przyrządowy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iblioteka dotyczy konkretnego urządzenia (</a:t>
            </a:r>
            <a:r>
              <a:rPr b="0" lang="pl-PL" sz="1400" spc="-1" strike="noStrike">
                <a:solidFill>
                  <a:srgbClr val="ff0000"/>
                </a:solidFill>
                <a:latin typeface="Arial"/>
              </a:rPr>
              <a:t>HP34401.DLL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) i jest zestawem funkcji realizujących pewne procedury obsługi urządzenia. Zwalnia programistę od konieczności pełnej znajomości sposobu programowania i obsługi urządzen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Arial"/>
              </a:rPr>
              <a:t>Tekstowe środowiska projektowania aplikacji 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3309840" y="19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143000" y="2438280"/>
          <a:ext cx="2523960" cy="36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438280"/>
                    <a:ext cx="2523960" cy="36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3809880" y="3200400"/>
            <a:ext cx="5029200" cy="2100600"/>
          </a:xfrm>
          <a:prstGeom prst="rect">
            <a:avLst/>
          </a:prstGeom>
          <a:solidFill>
            <a:srgbClr val="b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5f5f5f"/>
                </a:solidFill>
                <a:latin typeface="Arial"/>
              </a:rPr>
              <a:t>API bibliotek I/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iblioteka NI488.2 firmy NI (GPIB-32.DL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ecl-32.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orlandC_gpib-32.ob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zykład funkcji wyjścia - ibwrite(...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iblioteka VISA (VISA32.DL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Visa.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Visa32.li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zykład funkcji wyjścia - viWrite(...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9880" y="1828800"/>
            <a:ext cx="5029200" cy="1203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5f5f5f"/>
                </a:solidFill>
                <a:latin typeface="Arial"/>
              </a:rPr>
              <a:t>API drajwerów przyrządowych (przykład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HP34401a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Hp34401a.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Hp34401a.li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zykład funkcji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hp34401a_MeasureMultiPoint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(..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828800" y="2743200"/>
            <a:ext cx="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124080" y="2743200"/>
            <a:ext cx="0" cy="45720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124080" y="3352680"/>
            <a:ext cx="0" cy="45720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2743200"/>
            <a:ext cx="0" cy="17524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9880" y="5334120"/>
            <a:ext cx="5029200" cy="137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ff0000"/>
                </a:solidFill>
                <a:latin typeface="Arial"/>
              </a:rPr>
              <a:t>Najczęściej stosowane tekstowe środowiska projektow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orlan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crosof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elphi   -  Bor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VI  -  National Instr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Visual 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Arial"/>
              </a:rPr>
              <a:t>Graficzne środowiska projektowania aplikacji 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214" name=""/>
          <p:cNvSpPr/>
          <p:nvPr/>
        </p:nvSpPr>
        <p:spPr>
          <a:xfrm>
            <a:off x="3309840" y="19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19320" y="3657600"/>
            <a:ext cx="6933960" cy="2189160"/>
          </a:xfrm>
          <a:prstGeom prst="rect">
            <a:avLst/>
          </a:prstGeom>
          <a:solidFill>
            <a:srgbClr val="b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5f5f5f"/>
                </a:solidFill>
                <a:latin typeface="Arial"/>
              </a:rPr>
              <a:t>Zalety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uicyjne rozwiązywanie projektu; praktycznie nie jest potrzebna bardzo dobra znajomość zasad programowania aplikacj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rdzo krótki czas projektowania aplikacj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totne ułatwienia w odniesieniu do konstrukcji interfejsu użytkownika, przetwarzania danych oraz prezentacji wyników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sparcie dla różnych platform interfejsowych. Łatwa obsługa różnorodnych urządzeń pomiarowych poczynając od kart DAQ, poprzez urządzenia GPIB do urządzeń modułowych VX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19320" y="2286000"/>
            <a:ext cx="6933960" cy="888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5f5f5f"/>
                </a:solidFill>
                <a:latin typeface="Arial"/>
              </a:rPr>
              <a:t>Popularne środowiska projektow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HP VEE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 -  Agilent ( Hewlett-Packard) obecnie Agilent VEE P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LabView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 -  National Instru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bd5"/>
                </a:solidFill>
                <a:latin typeface="Arial"/>
              </a:rPr>
              <a:t>Model funkcjonalny systemu pomiarowego :</a:t>
            </a:r>
            <a:endParaRPr b="1" lang="en-US" sz="2800" spc="-1" strike="noStrike">
              <a:solidFill>
                <a:srgbClr val="ffebd5"/>
              </a:solidFill>
              <a:latin typeface="Trebuchet MS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09480" y="1981080"/>
            <a:ext cx="8047080" cy="2209680"/>
            <a:chOff x="609480" y="1981080"/>
            <a:chExt cx="8047080" cy="2209680"/>
          </a:xfrm>
        </p:grpSpPr>
        <p:grpSp>
          <p:nvGrpSpPr>
            <p:cNvPr id="89" name=""/>
            <p:cNvGrpSpPr/>
            <p:nvPr/>
          </p:nvGrpSpPr>
          <p:grpSpPr>
            <a:xfrm>
              <a:off x="609480" y="1981080"/>
              <a:ext cx="1524240" cy="2209680"/>
              <a:chOff x="609480" y="1981080"/>
              <a:chExt cx="1524240" cy="2209680"/>
            </a:xfrm>
          </p:grpSpPr>
          <p:sp>
            <p:nvSpPr>
              <p:cNvPr id="90" name=""/>
              <p:cNvSpPr/>
              <p:nvPr/>
            </p:nvSpPr>
            <p:spPr>
              <a:xfrm>
                <a:off x="609480" y="1981080"/>
                <a:ext cx="1524240" cy="2209680"/>
              </a:xfrm>
              <a:custGeom>
                <a:avLst/>
                <a:gdLst/>
                <a:ahLst/>
                <a:rect l="l" t="t" r="r" b="b"/>
                <a:pathLst>
                  <a:path w="1062" h="922">
                    <a:moveTo>
                      <a:pt x="176" y="169"/>
                    </a:moveTo>
                    <a:cubicBezTo>
                      <a:pt x="136" y="182"/>
                      <a:pt x="135" y="201"/>
                      <a:pt x="112" y="233"/>
                    </a:cubicBezTo>
                    <a:cubicBezTo>
                      <a:pt x="83" y="274"/>
                      <a:pt x="93" y="239"/>
                      <a:pt x="72" y="281"/>
                    </a:cubicBezTo>
                    <a:cubicBezTo>
                      <a:pt x="46" y="333"/>
                      <a:pt x="57" y="391"/>
                      <a:pt x="24" y="441"/>
                    </a:cubicBezTo>
                    <a:cubicBezTo>
                      <a:pt x="16" y="473"/>
                      <a:pt x="7" y="504"/>
                      <a:pt x="0" y="537"/>
                    </a:cubicBezTo>
                    <a:cubicBezTo>
                      <a:pt x="18" y="609"/>
                      <a:pt x="42" y="661"/>
                      <a:pt x="120" y="681"/>
                    </a:cubicBezTo>
                    <a:cubicBezTo>
                      <a:pt x="149" y="703"/>
                      <a:pt x="204" y="751"/>
                      <a:pt x="240" y="769"/>
                    </a:cubicBezTo>
                    <a:cubicBezTo>
                      <a:pt x="371" y="835"/>
                      <a:pt x="222" y="745"/>
                      <a:pt x="320" y="801"/>
                    </a:cubicBezTo>
                    <a:cubicBezTo>
                      <a:pt x="349" y="818"/>
                      <a:pt x="360" y="846"/>
                      <a:pt x="384" y="865"/>
                    </a:cubicBezTo>
                    <a:cubicBezTo>
                      <a:pt x="389" y="869"/>
                      <a:pt x="438" y="880"/>
                      <a:pt x="440" y="881"/>
                    </a:cubicBezTo>
                    <a:cubicBezTo>
                      <a:pt x="481" y="909"/>
                      <a:pt x="512" y="905"/>
                      <a:pt x="560" y="897"/>
                    </a:cubicBezTo>
                    <a:cubicBezTo>
                      <a:pt x="638" y="903"/>
                      <a:pt x="715" y="910"/>
                      <a:pt x="792" y="921"/>
                    </a:cubicBezTo>
                    <a:cubicBezTo>
                      <a:pt x="829" y="918"/>
                      <a:pt x="868" y="922"/>
                      <a:pt x="904" y="913"/>
                    </a:cubicBezTo>
                    <a:cubicBezTo>
                      <a:pt x="915" y="910"/>
                      <a:pt x="921" y="898"/>
                      <a:pt x="928" y="889"/>
                    </a:cubicBezTo>
                    <a:cubicBezTo>
                      <a:pt x="970" y="835"/>
                      <a:pt x="981" y="779"/>
                      <a:pt x="992" y="713"/>
                    </a:cubicBezTo>
                    <a:cubicBezTo>
                      <a:pt x="998" y="615"/>
                      <a:pt x="1008" y="513"/>
                      <a:pt x="1032" y="417"/>
                    </a:cubicBezTo>
                    <a:cubicBezTo>
                      <a:pt x="1038" y="354"/>
                      <a:pt x="1062" y="179"/>
                      <a:pt x="984" y="153"/>
                    </a:cubicBezTo>
                    <a:cubicBezTo>
                      <a:pt x="939" y="108"/>
                      <a:pt x="885" y="93"/>
                      <a:pt x="824" y="81"/>
                    </a:cubicBezTo>
                    <a:cubicBezTo>
                      <a:pt x="742" y="27"/>
                      <a:pt x="673" y="13"/>
                      <a:pt x="576" y="1"/>
                    </a:cubicBezTo>
                    <a:cubicBezTo>
                      <a:pt x="536" y="4"/>
                      <a:pt x="495" y="0"/>
                      <a:pt x="456" y="9"/>
                    </a:cubicBezTo>
                    <a:cubicBezTo>
                      <a:pt x="414" y="19"/>
                      <a:pt x="379" y="67"/>
                      <a:pt x="336" y="81"/>
                    </a:cubicBezTo>
                    <a:cubicBezTo>
                      <a:pt x="219" y="70"/>
                      <a:pt x="244" y="61"/>
                      <a:pt x="176" y="129"/>
                    </a:cubicBezTo>
                    <a:cubicBezTo>
                      <a:pt x="166" y="159"/>
                      <a:pt x="164" y="145"/>
                      <a:pt x="176" y="169"/>
                    </a:cubicBezTo>
                    <a:close/>
                  </a:path>
                </a:pathLst>
              </a:custGeom>
              <a:solidFill>
                <a:srgbClr val="e3221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38080" y="2209680"/>
                <a:ext cx="1121040" cy="162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roc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u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biek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adań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2209680" y="2514600"/>
              <a:ext cx="6446880" cy="1295280"/>
              <a:chOff x="2209680" y="2514600"/>
              <a:chExt cx="6446880" cy="1295280"/>
            </a:xfrm>
          </p:grpSpPr>
          <p:sp>
            <p:nvSpPr>
              <p:cNvPr id="93" name=""/>
              <p:cNvSpPr/>
              <p:nvPr/>
            </p:nvSpPr>
            <p:spPr>
              <a:xfrm>
                <a:off x="2727360" y="2830680"/>
                <a:ext cx="1539720" cy="642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kwizycj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anyc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800600" y="2819520"/>
                <a:ext cx="1722600" cy="642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rzetwarzani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anyc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086600" y="2819520"/>
                <a:ext cx="1569960" cy="642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rezentacj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anyc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209680" y="32004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209680" y="2514600"/>
                <a:ext cx="38124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>
                <a:off x="2209680" y="3429000"/>
                <a:ext cx="38124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343400" y="312408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629400" y="312408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" name=""/>
          <p:cNvSpPr/>
          <p:nvPr/>
        </p:nvSpPr>
        <p:spPr>
          <a:xfrm>
            <a:off x="533520" y="4495680"/>
            <a:ext cx="8610480" cy="12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Akwizycja danych to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bieranie sygnałów elektrycznych z czujników i przetworników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miar ich parametrów ora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prowadzenie uzyskanych danych do komputera w celu ich dalszego przetworzen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789156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ebd5"/>
                </a:solidFill>
                <a:latin typeface="Arial"/>
              </a:rPr>
              <a:t>Model sprzętowy systemu pomiarowego:</a:t>
            </a:r>
            <a:endParaRPr b="1" lang="en-US" sz="2800" spc="-1" strike="noStrike">
              <a:solidFill>
                <a:srgbClr val="ffebd5"/>
              </a:solidFill>
              <a:latin typeface="Trebuchet MS"/>
            </a:endParaRPr>
          </a:p>
        </p:txBody>
      </p:sp>
      <p:pic>
        <p:nvPicPr>
          <p:cNvPr id="103" name="sys1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7315200" cy="2035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219320" y="3733920"/>
            <a:ext cx="694980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Urządzenia akwizycj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Modułowe ( </a:t>
            </a:r>
            <a:r>
              <a:rPr b="0" i="1" lang="pl-PL" sz="1400" spc="-1" strike="noStrike">
                <a:solidFill>
                  <a:srgbClr val="5f5f5f"/>
                </a:solidFill>
                <a:latin typeface="Arial"/>
              </a:rPr>
              <a:t>karty AC, moduły systemu VXI, PXI,  FieldBus itp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.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Autonomiczne ( </a:t>
            </a:r>
            <a:r>
              <a:rPr b="0" lang="pl-PL" sz="1400" spc="-1" strike="noStrike">
                <a:solidFill>
                  <a:srgbClr val="5f5f5f"/>
                </a:solidFill>
                <a:latin typeface="Arial"/>
              </a:rPr>
              <a:t>przyrządy pomiarowe – multimetry, oscyloskopy itp.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19320" y="4724280"/>
            <a:ext cx="694980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Urządzenia stymulacj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Modułowe ( </a:t>
            </a:r>
            <a:r>
              <a:rPr b="0" i="1" lang="pl-PL" sz="1400" spc="-1" strike="noStrike">
                <a:solidFill>
                  <a:srgbClr val="5f5f5f"/>
                </a:solidFill>
                <a:latin typeface="Arial"/>
              </a:rPr>
              <a:t>karty CA, moduły systemu VXI, PXI, FieldBus itp.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Autonomiczne ( </a:t>
            </a:r>
            <a:r>
              <a:rPr b="0" i="1" lang="pl-PL" sz="1400" spc="-1" strike="noStrike">
                <a:solidFill>
                  <a:srgbClr val="5f5f5f"/>
                </a:solidFill>
                <a:latin typeface="Arial"/>
              </a:rPr>
              <a:t>przyrządy pomiarowe – generatory, zasilacze itp.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19320" y="5726160"/>
            <a:ext cx="76197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Kontroler systemu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lizuje algorytm procesu pomiarowego; zbierania danych ( 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a więc sterowania urządzeniami akwizycji danych oraz stymulacj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), przetwarzania danych i prezentacji wyników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Arial"/>
              </a:rPr>
              <a:t>Interfejsy urządzeń akwizycji danych 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08" name=""/>
          <p:cNvSpPr/>
          <p:nvPr/>
        </p:nvSpPr>
        <p:spPr>
          <a:xfrm>
            <a:off x="1600200" y="2590920"/>
            <a:ext cx="6400800" cy="26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Rodzaje urządzeń i stosowane interfejs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arty DAQ do systemów komputerowych –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magistrala systemu komputerowego, np. PCI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rządzenia pomiarowe autonomiczne –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interfejs RS232, IEC625/IEEE488, USB, Ethernet it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rządzenia systemów modułowych –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specyficzny interfejs danego systemu, np. VXI, PXI,  FieldPoint it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837720"/>
            <a:ext cx="842508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ebd5"/>
                </a:solidFill>
                <a:latin typeface="Arial"/>
              </a:rPr>
              <a:t>Karty DAQ ( Data Acquisition Board) :</a:t>
            </a:r>
            <a:endParaRPr b="1" lang="en-US" sz="2800" spc="-1" strike="noStrike">
              <a:solidFill>
                <a:srgbClr val="ffebd5"/>
              </a:solidFill>
              <a:latin typeface="Trebuchet MS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828800" y="1828800"/>
            <a:ext cx="5691240" cy="4849920"/>
            <a:chOff x="1828800" y="1828800"/>
            <a:chExt cx="5691240" cy="4849920"/>
          </a:xfrm>
        </p:grpSpPr>
        <p:pic>
          <p:nvPicPr>
            <p:cNvPr id="111" name="pci6115l" descr=""/>
            <p:cNvPicPr/>
            <p:nvPr/>
          </p:nvPicPr>
          <p:blipFill>
            <a:blip r:embed="rId1"/>
            <a:stretch/>
          </p:blipFill>
          <p:spPr>
            <a:xfrm>
              <a:off x="2286000" y="3352680"/>
              <a:ext cx="4572000" cy="332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DAQ1" descr=""/>
            <p:cNvPicPr/>
            <p:nvPr/>
          </p:nvPicPr>
          <p:blipFill>
            <a:blip r:embed="rId2"/>
            <a:stretch/>
          </p:blipFill>
          <p:spPr>
            <a:xfrm>
              <a:off x="1905120" y="1828800"/>
              <a:ext cx="5371920" cy="17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1828800" y="6095880"/>
              <a:ext cx="56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Karta przetwornika A/D ze złączem PCI - 10 MS/s, 12-Bit, 4 Analog Inpu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905120" y="3581280"/>
              <a:ext cx="56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ypowy system bazujący na kartach DAQ.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842508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bd5"/>
                </a:solidFill>
                <a:latin typeface="Arial"/>
              </a:rPr>
              <a:t>Porównanie własności kart ADC :</a:t>
            </a:r>
            <a:endParaRPr b="1" lang="en-US" sz="2800" spc="-1" strike="noStrike">
              <a:solidFill>
                <a:srgbClr val="ffebd5"/>
              </a:solidFill>
              <a:latin typeface="Trebuchet MS"/>
            </a:endParaRPr>
          </a:p>
        </p:txBody>
      </p:sp>
      <p:pic>
        <p:nvPicPr>
          <p:cNvPr id="116" name="A_C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914400" y="1828800"/>
            <a:ext cx="7924680" cy="46483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277440" y="3276720"/>
            <a:ext cx="715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ig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l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bd5"/>
                </a:solidFill>
                <a:latin typeface="Arial"/>
              </a:rPr>
              <a:t>Przyrząd autonomiczny (interfejs IEEE488):</a:t>
            </a:r>
            <a:endParaRPr b="1" lang="en-US" sz="2800" spc="-1" strike="noStrike">
              <a:solidFill>
                <a:srgbClr val="ffebd5"/>
              </a:solidFill>
              <a:latin typeface="Trebuchet MS"/>
            </a:endParaRPr>
          </a:p>
        </p:txBody>
      </p:sp>
      <p:pic>
        <p:nvPicPr>
          <p:cNvPr id="119" name="34401A" descr=""/>
          <p:cNvPicPr/>
          <p:nvPr/>
        </p:nvPicPr>
        <p:blipFill>
          <a:blip r:embed="rId1"/>
          <a:stretch/>
        </p:blipFill>
        <p:spPr>
          <a:xfrm>
            <a:off x="5638680" y="1828800"/>
            <a:ext cx="2000520" cy="1131840"/>
          </a:xfrm>
          <a:prstGeom prst="rect">
            <a:avLst/>
          </a:prstGeom>
          <a:ln w="0">
            <a:noFill/>
          </a:ln>
        </p:spPr>
      </p:pic>
      <p:pic>
        <p:nvPicPr>
          <p:cNvPr id="120" name="33120A" descr=""/>
          <p:cNvPicPr/>
          <p:nvPr/>
        </p:nvPicPr>
        <p:blipFill>
          <a:blip r:embed="rId2"/>
          <a:stretch/>
        </p:blipFill>
        <p:spPr>
          <a:xfrm>
            <a:off x="1066680" y="1828800"/>
            <a:ext cx="2222640" cy="1295280"/>
          </a:xfrm>
          <a:prstGeom prst="rect">
            <a:avLst/>
          </a:prstGeom>
          <a:ln w="0">
            <a:noFill/>
          </a:ln>
        </p:spPr>
      </p:pic>
      <p:pic>
        <p:nvPicPr>
          <p:cNvPr id="121" name="zest3" descr=""/>
          <p:cNvPicPr/>
          <p:nvPr/>
        </p:nvPicPr>
        <p:blipFill>
          <a:blip r:embed="rId3"/>
          <a:stretch/>
        </p:blipFill>
        <p:spPr>
          <a:xfrm>
            <a:off x="1447920" y="3048120"/>
            <a:ext cx="6492600" cy="35319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990720" y="6583320"/>
            <a:ext cx="739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ypowy schemat systemu przyrządowego wykorzystującego interfejs IEC625/IEEE488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848720" y="205740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ltimet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00400" y="205740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nerator funkcj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837720"/>
            <a:ext cx="842508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bd5"/>
                </a:solidFill>
                <a:latin typeface="Arial"/>
              </a:rPr>
              <a:t>Przyrząd autonomiczny (interfejs RS232):</a:t>
            </a:r>
            <a:endParaRPr b="1" lang="en-US" sz="28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6583320"/>
            <a:ext cx="609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ypowy schemat systemu przyrządowego wykorzystującego interfejs RS 232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066680" y="1828800"/>
            <a:ext cx="7258320" cy="4587840"/>
            <a:chOff x="1066680" y="1828800"/>
            <a:chExt cx="7258320" cy="4587840"/>
          </a:xfrm>
        </p:grpSpPr>
        <p:pic>
          <p:nvPicPr>
            <p:cNvPr id="128" name="stanRS" descr=""/>
            <p:cNvPicPr/>
            <p:nvPr/>
          </p:nvPicPr>
          <p:blipFill>
            <a:blip r:embed="rId1"/>
            <a:stretch/>
          </p:blipFill>
          <p:spPr>
            <a:xfrm>
              <a:off x="1295280" y="2438280"/>
              <a:ext cx="6607440" cy="397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33120A" descr=""/>
            <p:cNvPicPr/>
            <p:nvPr/>
          </p:nvPicPr>
          <p:blipFill>
            <a:blip r:embed="rId2"/>
            <a:stretch/>
          </p:blipFill>
          <p:spPr>
            <a:xfrm>
              <a:off x="1066680" y="1828800"/>
              <a:ext cx="222264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34401A" descr=""/>
            <p:cNvPicPr/>
            <p:nvPr/>
          </p:nvPicPr>
          <p:blipFill>
            <a:blip r:embed="rId3"/>
            <a:stretch/>
          </p:blipFill>
          <p:spPr>
            <a:xfrm>
              <a:off x="6324480" y="2057400"/>
              <a:ext cx="2000520" cy="1131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9T11:32:03Z</dcterms:created>
  <dc:creator>Kasprzak</dc:creator>
  <dc:description/>
  <dc:language>en-US</dc:language>
  <cp:lastModifiedBy>Kasprzak</cp:lastModifiedBy>
  <dcterms:modified xsi:type="dcterms:W3CDTF">2006-11-28T10:24:49Z</dcterms:modified>
  <cp:revision>80</cp:revision>
  <dc:subject/>
  <dc:title>Prezentacja programu PowerPoint</dc:title>
</cp:coreProperties>
</file>