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819520"/>
            <a:ext cx="7089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Interfejs IEEE 488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5486400"/>
            <a:ext cx="70898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Funkcje interfejsowe,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adresowanie,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rozkazy interfejsowe 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Opis działania funkcji odbiorc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895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unkcja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dr10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5383080" cy="2239920"/>
          </a:xfrm>
          <a:prstGeom prst="rect">
            <a:avLst/>
          </a:prstGeom>
          <a:ln w="0">
            <a:noFill/>
          </a:ln>
        </p:spPr>
      </p:pic>
      <p:pic>
        <p:nvPicPr>
          <p:cNvPr id="131" name="adr6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5178240" cy="1235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60040" y="4724280"/>
            <a:ext cx="289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ja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 – mój adres rozszerzają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G – pierwsza grupa rozkaz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AS – stan funkcji TE (nadaw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la funkcji L w odbiorze dan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34" name="2a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754520" cy="451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1320" y="2209680"/>
            <a:ext cx="32004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TN=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nkcja L w stanie L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ymusza stan spoczynkowy (AIDS) funkcji AH. Interfejs tego urządzenia nie bierze udziału w transferze danych. Funkcja AH nie wpływa na stan linii NRFD i NDAC magistrali GP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nkcja L w stanie L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blokowuje działanie funkcji AH. Urządzenie bierze udział w transferze danych, a funkcja AH wpływa na stan linii NRFD INDA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Rola funkcji nadawc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19720"/>
            <a:ext cx="830592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rządzenie dysponuje dwoma źródłami danych wyjściowych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str statusowy, dostarczający danych o stanie urządzenia (wystąpienie predefiniowanego zdarzenia, gotowość danych). Jest to jednobajtowy komunik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str danych, dostarczający odpowiedzi urządzenia (wyniki pomiaru, dane o ustawieniach przyrządu). Są to komunikaty wielobajt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ola funkcji nadawcy T/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Zapamiętuje stan zaadresowania interfejsu urządzenia do nadawa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dblokowuje działanie funkcji SH synchronizującej nadawanie bajtó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01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Określa, które źródło danych wyprowadza bajt na szynę DIO i odblokowuje wyjście na szynę 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dr17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4011840" cy="2411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81480" y="2057400"/>
            <a:ext cx="38102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Oznaczenia funkcj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adawca podstawowy (adresowanie        jednobajtow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nadawca rozszerzony (adresowanie dwubajtow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Opis działania funkcji nadawcy podstawowego - T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1" name="adr1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383080" cy="346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20" y="57913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ozkaz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zezwolenie odpytywania szeregowego; wydawaj bajt statusowy ( STB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zablokowanie odpytywania szeregowego; wydawaj dane (nie STB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220968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kcja nadawcy dla adresowania jednobajt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wag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systemie może być aktywny tylko jeden nadawca ( </a:t>
            </a:r>
            <a:r>
              <a:rPr b="1" lang="en-US" sz="1200" spc="-1" strike="noStrike">
                <a:solidFill>
                  <a:srgbClr val="e32213"/>
                </a:solidFill>
                <a:latin typeface="Arial"/>
              </a:rPr>
              <a:t>OT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19112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ój adres nadaw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L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inny adres odbio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inny adres nadaw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Rozkaz SPE i SPD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286000"/>
            <a:ext cx="8092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Arial"/>
              </a:rPr>
              <a:t>Rozkaz SPE - kod 0x18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E (Serial Poll Enable) przygotowuje urządzenia systemu do wydawania bajtu statusowego. Rozkaz ustawia stan SPMS funkcji interfejsowych T/TE urządzeń dołączonych do magistrali dzięki, któremu po ich zaadresowaniu następuje wyprowadzenie na szynę DIO bajtu statusowego urząd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Arial"/>
              </a:rPr>
              <a:t>Rozkaz SPD - kod 0x19 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PD (Serial Poll Disable) powiadamia urządzenia systemu o zakończeniu procesu zbierania bajtów statusowych przez kontroler systemu. Rozkaz przywraca podstawowy tryb pracy funkcji interfejsowych T/TE urządzeń systemu ustawiając je w stanie SP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Oba rozkazy mają charakter uniwersaln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Opis działania funkcji nadawcy rozszerzonego - T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8" name="3a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5383080" cy="4479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48520" y="3124080"/>
            <a:ext cx="2682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T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mój adres nadaw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L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inny adres odbio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T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inny adres nadaw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S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mój adres rozszerzają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inny adres rozszerzają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PA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stan funkcji LE tego samego urząd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CG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pierwsza grupa rozkaz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?_Vb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kwencja adresując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r podst.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r roz.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20968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kcja nadawcy dla adresowania dwubajtow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la funkcji T w nadawaniu dan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520" y="1828800"/>
            <a:ext cx="8458200" cy="4892760"/>
            <a:chOff x="533520" y="1828800"/>
            <a:chExt cx="8458200" cy="4892760"/>
          </a:xfrm>
        </p:grpSpPr>
        <p:pic>
          <p:nvPicPr>
            <p:cNvPr id="153" name="4a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6778440" cy="48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781680" y="1905120"/>
              <a:ext cx="221004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Arial"/>
                </a:rPr>
                <a:t>ATN=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Funkcja T w stanie TID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ymusza stan spoczynkowy (SIDS) funkcji SH. Interfejs tego urządzenia nie bierze udziału w transferze danyc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Funkcja T w stanie TAC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lub SPA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odblokowuje działanie funkcji SH. Urządzenie bierze udział w transferze danych a jej funkcja SH określa stan linii DAV magistrali GPI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6355200">
              <a:off x="4119120" y="2591640"/>
              <a:ext cx="759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36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36017"/>
                </a:path>
              </a:pathLst>
            </a:custGeom>
            <a:noFill/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Linia EOI (END) a funkcja nadawc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>
            <a:off x="809640" y="2233440"/>
            <a:ext cx="780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ia EOI jest używana przez nadawcę danych do sygnalizacji końca komunikatu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7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60800" cy="1782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2120" y="5181480"/>
            <a:ext cx="763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ni funkcja SH ani funkcja nadawcy nie są odpowiedzialne bezpośrednio za komunikat 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ch rola sprowadza się tylko do blokowania wyjścia na linię EOI, gdy funkcja nadawcy nie jest aktyw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ND nie jest ustawiany podczas wydawania bajtu statusow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af"/>
                </a:solidFill>
                <a:latin typeface="Arial"/>
                <a:ea typeface="Arial"/>
              </a:rPr>
              <a:t>Adresowane i uniwersalne rozkazy interfejsowe</a:t>
            </a:r>
            <a:r>
              <a:rPr b="1" lang="en-US" sz="2400" spc="-1" strike="noStrike">
                <a:solidFill>
                  <a:srgbClr val="ffd9a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822320"/>
            <a:ext cx="78645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Arial"/>
              </a:rPr>
              <a:t>Rozkazy adresowa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są to polecenia interfejsowe, które wywołują określoną reakcję wyłącznie w </a:t>
            </a:r>
            <a:r>
              <a:rPr b="0" lang="pl-PL" sz="1800" spc="-1" strike="noStrike">
                <a:solidFill>
                  <a:srgbClr val="e32213"/>
                </a:solidFill>
                <a:latin typeface="Arial"/>
                <a:ea typeface="Arial"/>
              </a:rPr>
              <a:t>urządzeniach zaadresowa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o odbioru lub nadawania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le pod warunkiem, że interfejs urządzenia implementuje funkcję interfejsową związaną z danym rozkaz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łużą do selektywnego oddziaływania na urządzenia dołączone do magistrali. Spośród 5 zdefiniowanych rozkazów adresowanych, cztery wymagają wskazania urządzenia przez zaadresowanie go do odbior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kazy te mogą zatem oddziaływać na pojedyncze urządzenie lub dowolnie wybraną grupę urządzeń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kaz TCT wymaga wskazania urządzenia przez zaadresowanie go do nada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Arial"/>
              </a:rPr>
              <a:t>Rozkazy uniwersal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są poleceniami interfejsowymi, które wywołują określoną reakcję w każdym urządzeniu dołączonym do magistrali </a:t>
            </a:r>
            <a:r>
              <a:rPr b="0" lang="pl-PL" sz="1800" spc="-1" strike="noStrike">
                <a:solidFill>
                  <a:srgbClr val="e32213"/>
                </a:solidFill>
                <a:latin typeface="Arial"/>
                <a:ea typeface="Arial"/>
              </a:rPr>
              <a:t>niezależnie od stanu jego zaadresowa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ale pod warunkiem, że interfejs urządzenia implementuje funkcję interfejsową związaną z danym rozkazem. Rozkazy uniwersalne służą do globalnego oddziaływania na urządzenia dołączone do magist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RL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81080"/>
            <a:ext cx="7925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Arial"/>
              </a:rPr>
              <a:t>Funkcja RL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Remote/Local) jest odpowiedzialna za wybór źródła danych programujących funkcje urządzeniowe przyrządu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gramowani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rząd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an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45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okaln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 płyty czołow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45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daln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 interfejsu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adr12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035600" cy="1839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omunikat interfejs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784836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 interfejsowy to ciąg znaków ASCII, którym przypisano szczególne znaczenie w odniesieniu do interfejsu GPIB. Ich zadaniem jest ustawienie określonego stanu interfejsów urządzeń dołączonych do magistrali GPI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awcą komunikatów interfejsowych jest zawsze urządzenie z aktywną funkcją kontroli bieżącej interfejsu (komputer sterujący pracą system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y interfejsowe są przesyłane szyną DIO przy linii ATN=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y interfejsowe są odbierane i analizowane przez interfejsy wszystkich urządzeń dołączonych do magistrali. Urządzenia mogą ignorować pewne komunikaty interfejsowe, jeśli zaimplementowane właściwości interfejsowe nie obejmują danych rozkazów. Wtedy jest on odbierany i ignorowa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zkaz GTL i LLO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66" name="adr12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4035600" cy="1839960"/>
          </a:xfrm>
          <a:prstGeom prst="rect">
            <a:avLst/>
          </a:prstGeom>
          <a:ln w="0">
            <a:noFill/>
          </a:ln>
        </p:spPr>
      </p:pic>
      <p:pic>
        <p:nvPicPr>
          <p:cNvPr id="167" name="adr13" descr=""/>
          <p:cNvPicPr/>
          <p:nvPr/>
        </p:nvPicPr>
        <p:blipFill>
          <a:blip r:embed="rId2"/>
          <a:stretch/>
        </p:blipFill>
        <p:spPr>
          <a:xfrm>
            <a:off x="838080" y="4724280"/>
            <a:ext cx="4114800" cy="1839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2209680"/>
            <a:ext cx="3825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GTL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- kod 0x01 :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Go To Local) przestawia </a:t>
            </a:r>
            <a:r>
              <a:rPr b="0" lang="pl-PL" sz="1400" spc="-1" strike="noStrike">
                <a:solidFill>
                  <a:srgbClr val="cc3300"/>
                </a:solidFill>
                <a:latin typeface="Arial"/>
                <a:ea typeface="Arial"/>
              </a:rPr>
              <a:t>wybra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urządzenie w stan programowania lokalnego, czyli z jego płyty czoł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LLO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- kod 0x11 :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Local Lockout) blokuje przełączanie przyrządów w stan programowania lokalnego za pomocą przewidzianego do tego celu przycisk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LOCAL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mieszczonego na płytach czołowych urząd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śli interfejs urządzenia nie ma funkcji RL rozkazy są odbierane i ignorowane. Urządzenie nie zgłasza sytuacji szczególnych związanych z tym fak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Działanie funkcji RL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70" name="adr1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4267440" cy="2729160"/>
          </a:xfrm>
          <a:prstGeom prst="rect">
            <a:avLst/>
          </a:prstGeom>
          <a:ln w="0">
            <a:noFill/>
          </a:ln>
        </p:spPr>
      </p:pic>
      <p:pic>
        <p:nvPicPr>
          <p:cNvPr id="171" name="5a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4035600" cy="177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9880" y="5116680"/>
            <a:ext cx="3650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GTL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przejdź do programowania lokaln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LL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blokada 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rtl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LOCAL (komunikat lokaln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DC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74" name=""/>
          <p:cNvSpPr/>
          <p:nvPr/>
        </p:nvSpPr>
        <p:spPr>
          <a:xfrm>
            <a:off x="746280" y="2475000"/>
            <a:ext cx="801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Arial"/>
              </a:rPr>
              <a:t>Funkcja DC (Device Clear)</a:t>
            </a: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odnie z ustaleniami </a:t>
            </a:r>
            <a:r>
              <a:rPr b="0" lang="pl-PL" sz="1800" spc="-1" strike="noStrike">
                <a:solidFill>
                  <a:srgbClr val="cc3300"/>
                </a:solidFill>
                <a:latin typeface="Arial"/>
              </a:rPr>
              <a:t>IEEE-488.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jest odpowiedzialna za zdalne zerowanie funkcji urządzeniowych przyrządu czyli ustawienie ich w pewien stan początkowy określony w specyfikacji przyrząd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enia </a:t>
            </a:r>
            <a:r>
              <a:rPr b="0" lang="pl-PL" sz="1800" spc="-1" strike="noStrike">
                <a:solidFill>
                  <a:srgbClr val="cc3300"/>
                </a:solidFill>
                <a:latin typeface="Arial"/>
              </a:rPr>
              <a:t>IEEE-488.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eniają jej przeznaczenie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raz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st odpowiedzialn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ylk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zerowa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forów komunikacyjnych ( wejściowego i wyjściowego ) urządzenia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zero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yrząd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zeznaczone specjalne polecenia programujące (komunikaty z grupy komunikatów urządzeniowych - </a:t>
            </a: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*rs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zkaz SDC i DCL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76" name="adr1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4035240" cy="1463760"/>
          </a:xfrm>
          <a:prstGeom prst="rect">
            <a:avLst/>
          </a:prstGeom>
          <a:ln w="0">
            <a:noFill/>
          </a:ln>
        </p:spPr>
      </p:pic>
      <p:pic>
        <p:nvPicPr>
          <p:cNvPr id="177" name="adr1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4035600" cy="143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65640" y="2398680"/>
            <a:ext cx="3597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SDC - kod 0x04 :</a:t>
            </a:r>
            <a:br>
              <a:rPr sz="16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lected Device Clear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eruje urządzenie lub tylko jego bufory komunikacyjne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kaz adresowany; działanie selektyw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DCL - kod 0x14 :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evice Clear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iała identycznie jak SDC, ale dotyczy wszystkich urządzeń dołączonych do magistral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śli interfejs urządzenia nie ma funkcji DC rozkazy są odbierane i ignorowane. Urządzenie nie zgłasza sytuacji szczególnych związanych z tym faktem. 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Interfejs urządzenia zgodny z IEEE488.2 musi implementować funkcję DC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DT i rozkaz GET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82880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Funkcja D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Device Trigger) jest odpowiedzialna za zdalne wyzwolenie akcji przyrządu czyli najczęściej zainicjalizowanie akcji pomiarowej przyrząd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adr16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035600" cy="152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4114800"/>
            <a:ext cx="85345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GET - kod 0x08 :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Group Execute Trigger) inicjalizuje działanie części funkcjonalnej </a:t>
            </a:r>
            <a:r>
              <a:rPr b="0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wybrane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urządzenia lub grupy urząd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urządzeniach zaadresowanych do odbior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inicjuj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akcję urządzenia, np. start pomiar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serii pomiarów it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IEEE-488.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definiuje jego odpowiednik w grupie komunikatów urządzeniowych ( </a:t>
            </a: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*trg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GE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to symboliczne oznaczenie rozkazu, który jest jednym bajtem wysłanym w trybie rozkazowym (ATN=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*trg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to tekst polecenia złożonego z czterech znaków wysłanych w trybie danych (ATN=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PP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905120"/>
            <a:ext cx="784836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Funkcja PP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(Parallel Poll) udostępnia urządzeniu możliwość wydania jednobitowego komunikatu statusowego 'ist' w odpowiedzi na odpytywanie równoległe systemu zainicjowane przez aktualny kontrol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Odpowiedzi jednobitowe są wydawane tylko przez uprawnione do tego urządzen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rzed korzystaniem z możliwości odpytywania równoległego należy przygotować urządzenia do wydawania odpowiedzi równoległych. Polega to na odpowiednim zaprogramowaniu funkcji PP urządzeń mających wydawać odpowiedzi jednobitow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ezpośrednio po zainicjowaniu pracy systemu funkcje PP urządzeń pozostają w stanie spoczynkowym i nie mają prawa wydawać odpowied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Układ realizujący funkcję PP jest obsługiwany przez rozkazy interfejsowe PPC, PPU, PPE i PP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srq6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4778640" cy="2411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zkaz PPC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2144880"/>
            <a:ext cx="809280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Rozkaz PPC - kod 0x05 :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PC (Parallel Poll Configure) jest adresowanym rozkazem, który pozwala skonfigurować wybrane urządzenie do wydawania odpowiedzi równoległej na żądanie kontrolera 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aktywniona rozkazem PPC funkcja PP interpretuje rozkazy z grupy SCG jako rozkazy PPE lub PPD konfigurujące sposób wydawania odpowiedzi równoległ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naki z grupy SCG są albo drugimi bajtami adresującymi albo rozkazami PPE i PPD. Rozkaz PPC poprzedzający taki znak każe traktować go jako rozkaz PPE lub PPD a nie drugi bajt adresują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odanej sekwencji rozkazowej 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k 'a' jest traktowany jako rozkaz PPE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UNL&gt;&lt;UNT&gt;&lt;LAD&gt;&lt;PPC&gt; 'a' &lt;UN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tomiast w drugiej sekwencji rozkazowej jest interpretowany jako adres rozszerzają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UNL&gt;&lt;UNT&gt;&lt;LAD&gt; 'a' &lt;UN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zkazy PP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209680"/>
            <a:ext cx="7940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Arial"/>
              </a:rPr>
              <a:t>Rozkazy PPE - kody od 0x60 do 0x6F :</a:t>
            </a:r>
            <a:br>
              <a:rPr sz="16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Parallel Poll Enable) są rozkazami przeznaczonymi do konfigurowania sposobu wydawania odpowiedzi równoległej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nr linii DI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 uprawnienia funkcji PP wybranego urządzenia do wydawania odpowiedzi na żądanie kontrolera 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adr20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5029200" cy="158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46280" y="5522760"/>
            <a:ext cx="801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powiedź wystawiana na linię DIO jest wynikiem operacji </a:t>
            </a: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NOT EXCLUSIVE O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na argumentach </a:t>
            </a: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is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powiednie wybranie wartości</a:t>
            </a: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 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ozwala realizować iloczyn lub sumę logiczną odpowiedzi urządzeń korzystających z tej samej linii 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ozkazy PPD oraz PP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057400"/>
            <a:ext cx="3521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Rozkazy PPD - kody od 0x70 do 0x7F 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(Parallel Poll Disable) są rozkazami przeznaczonymi do odebrania funkcji PP prawa wydawania odpowiedzi (zerują one funkcję P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dobnie jak rozkaz PPE rozkaz PPD musi być poprzedzony rozkazem PPC, który zapewnia właściwą jego interpretację oraz selektywne oddziaływanie na urządzenia system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rzystając z rozkazów PPD można wyłączyć wybrane urządzenia z grupy odpytywanych równolegle urządzeń system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Rozkaz PPU - kod 0x15 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PU (Parallel Poll Unconfigure) jest rozkazem uniwersalnym, który ustawia funkcje interfejsowe PP urządzeń dołączonych do magistrali w stanie spoczynkowy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Oznacza to odebranie urządzeniom prawa wydawania odpowiedzi równoległej na żądanie kontrolera syste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adr21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857480" cy="1463400"/>
          </a:xfrm>
          <a:prstGeom prst="rect">
            <a:avLst/>
          </a:prstGeom>
          <a:ln w="0">
            <a:noFill/>
          </a:ln>
        </p:spPr>
      </p:pic>
      <p:pic>
        <p:nvPicPr>
          <p:cNvPr id="195" name="adr22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4263840" cy="1965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Opis działania funkcji PP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97" name="3ab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422600" cy="3749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601992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pe – lokalne konfigurowanie funkcji PP do wydawania odpowiedzi (PP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Dekodowanie komunikatów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24852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rzy ATN=1, operacje odbioru i dekodowania są realizowane przez wszystkie urząd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1a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4765680" cy="406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38680" y="4191120"/>
            <a:ext cx="3124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 – przestań odbiera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LA – mój adres odbio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A – mój adres nada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A – inny adres nada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3 – czas trwania zdekodowanego komunika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arunki wydania odpowiedzi równoległej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00" name="srq7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58080" cy="4514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Tablica rozkazów i adresów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02" name="ascii" descr=""/>
          <p:cNvPicPr/>
          <p:nvPr/>
        </p:nvPicPr>
        <p:blipFill>
          <a:blip r:embed="rId1"/>
          <a:stretch/>
        </p:blipFill>
        <p:spPr>
          <a:xfrm>
            <a:off x="838080" y="184320"/>
            <a:ext cx="4618080" cy="6673680"/>
          </a:xfrm>
          <a:prstGeom prst="rect">
            <a:avLst/>
          </a:prstGeom>
          <a:ln w="0">
            <a:noFill/>
          </a:ln>
        </p:spPr>
      </p:pic>
      <p:pic>
        <p:nvPicPr>
          <p:cNvPr id="203" name="key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378160" cy="1131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Składniki interfejsu urządzenia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05" name="fun1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925880" cy="4378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410080" y="2286000"/>
            <a:ext cx="358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unkcje interfejsow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soby sprzętowe układu interfejsowego urządzenia odpowiedzialne za realizację określonych jego możliwości dotyczących zdalnej obsługi urządzenia (wymiany danych, zerowania, wyzwolenia itd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ersje funkcji interfejsow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08" name=""/>
          <p:cNvSpPr/>
          <p:nvPr/>
        </p:nvSpPr>
        <p:spPr>
          <a:xfrm>
            <a:off x="746280" y="2322360"/>
            <a:ext cx="8169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ejs urządzenia może zawierać określony podzbiór funkcji interfejs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staw implementowanych funkcji musi być sensownie dobrany do potencjalnych własności projektowanego przyrzą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zczególne funkcje mogą być implementowane w jednej z dopuszczalnych wer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sja funkcji dotyczy zakresu jej możliwości funkcjonalny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a dostępnych wersji jest jednoznacznie zdefiniow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zaj wersji jest określany arbitralnie wybranym numerem , np. L3, L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 0 oznacza brak danej funkcji, np. RL0 to brak funkcji 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ersje funkcji odbiorc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0" name="adr6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3448080" cy="2124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24040" y="3200400"/>
            <a:ext cx="450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Wersje funkcji 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0 – brak funkcji odbior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1 – brak warunku przejścia M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2 – brak warunku przejścia MTA oraz l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3 – pełne możliwoś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4 – brak przejścia l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ymagane wersje według IEEE488.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1203480" y="262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133720" y="1905120"/>
          <a:ext cx="5181480" cy="405432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236232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k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rs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zwa funk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a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sowane obowiązko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eptor współp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Źródło współp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 lub 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lub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daw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 lub 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lub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dbio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Żądanie obsłu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er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2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sowane opcjonal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dalny/loka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zwol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dpytywanie równoległ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4 &amp; C 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 7, 9 lub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ontroler interfej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891080" y="6019920"/>
            <a:ext cx="559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Najczęściej do realizacji wybiera się następujący zestaw funkcji interfejsowych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AH1,  SH1,  T5,  L3,  SR1,  DC1,         RL1,  DT1,  PP0,  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Przepływ komunikatów w urządzeniu TL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7" name="mes_flow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99520" cy="3686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Operacje rozkazow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895480"/>
            <a:ext cx="76212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3962520"/>
            <a:ext cx="67816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omunikat interfejsowy:            ?  _  +  1  \x08  ?  Q 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Podaj operacje realizowane przez urządzenia systemu oraz stan zaadresowania urządzeń po wykonaniu sekwencji rozkaz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14600" y="2057400"/>
          <a:ext cx="3743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3743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114800" y="3048120"/>
            <a:ext cx="8380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Operacje rozkazowe 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267080"/>
            <a:ext cx="6782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omunikat interfejsowy:            ?  _  +  1  4  3  \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Podaj operacje realizowane przez urządzenia systemu oraz stan zaadresowania urządzeń po wykonaniu sekwencji rozkaz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2057400"/>
            <a:ext cx="3743280" cy="1552680"/>
            <a:chOff x="1066680" y="2057400"/>
            <a:chExt cx="3743280" cy="1552680"/>
          </a:xfrm>
        </p:grpSpPr>
        <p:sp>
          <p:nvSpPr>
            <p:cNvPr id="227" name=""/>
            <p:cNvSpPr/>
            <p:nvPr/>
          </p:nvSpPr>
          <p:spPr>
            <a:xfrm>
              <a:off x="3962160" y="2895480"/>
              <a:ext cx="762120" cy="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1066680" y="2057400"/>
            <a:ext cx="37432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057400"/>
                      <a:ext cx="37432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666880" y="3048120"/>
              <a:ext cx="8380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722120" y="2133720"/>
            <a:ext cx="395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H1,  SH1,  T5,  L3,  SR1,  DC1,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RL1,  DT0,  PP0,  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H1,  SH1,  T5,  L3,  SR1,  DC1,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RL0,  DT1,  PP0,  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H1,  SH1,  T5,  L3,  SR1,  DC1,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RL1,  DT1,  PP1,  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358128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696080" y="358128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Przesyłanie dan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819520"/>
            <a:ext cx="7848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stawowym zadaniem komunikatów interfejsowych jest skonfigurowanie urządzeń do wymiany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y interfejsowe pozwalają wyznaczyć nadawcę danych oraz ich odbiorcę lub odbiorc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iero po zaadresowaniu może nastąpić przesłanie komunikatu danych urządzeni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munikat urządzeni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1981080"/>
            <a:ext cx="7543800" cy="2462040"/>
            <a:chOff x="1219320" y="1981080"/>
            <a:chExt cx="7543800" cy="2462040"/>
          </a:xfrm>
        </p:grpSpPr>
        <p:grpSp>
          <p:nvGrpSpPr>
            <p:cNvPr id="94" name=""/>
            <p:cNvGrpSpPr/>
            <p:nvPr/>
          </p:nvGrpSpPr>
          <p:grpSpPr>
            <a:xfrm>
              <a:off x="1219320" y="1981080"/>
              <a:ext cx="7543800" cy="1371600"/>
              <a:chOff x="1219320" y="1981080"/>
              <a:chExt cx="7543800" cy="1371600"/>
            </a:xfrm>
          </p:grpSpPr>
          <p:sp>
            <p:nvSpPr>
              <p:cNvPr id="95" name=""/>
              <p:cNvSpPr/>
              <p:nvPr/>
            </p:nvSpPr>
            <p:spPr>
              <a:xfrm>
                <a:off x="1219320" y="1981080"/>
                <a:ext cx="7543800" cy="1371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95640" y="2819160"/>
                <a:ext cx="220968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unkcje pomiarowe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DC, CDC, VAC, CAC, RES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57600" y="2819160"/>
                <a:ext cx="236232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odzakresy pomiarowe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1, 1, 10, 100, 1000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72200" y="2819160"/>
                <a:ext cx="221004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zas całkowania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01, 0.1, 1, 10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62640" y="2057040"/>
                <a:ext cx="251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rządzenie pomiarow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26760" y="2438280"/>
                <a:ext cx="681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.................................................  Zasoby funkcjonalne urządzenia .............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355760" y="4074840"/>
              <a:ext cx="61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&lt;Nagłówek&gt; [&lt;separator&gt;] &lt;argument&gt; [&lt;terminator&gt;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2971440"/>
              <a:ext cx="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057400" y="2971440"/>
              <a:ext cx="167652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057400" y="2971440"/>
              <a:ext cx="419112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514600" y="3199680"/>
              <a:ext cx="220968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724280" y="3199680"/>
              <a:ext cx="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24280" y="3199680"/>
              <a:ext cx="175284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4495680"/>
            <a:ext cx="830592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Nagłów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znak alfabetu lub słowo kluczowe, wybiera zasób funkcjonaln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Separato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dzieli komunikat na nagłówek i argument; zwykle znak spacji; stosowany opcjonalni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Argumen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znak cyfry lub zapis dziesiątkowy liczby; ustala żądany stan zasobu funkcjonalneg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Terminator polece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określony arbitralnie znak ASCII; najczęściej znak &lt;NL&gt;; stosowany opcjonal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p.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2R3A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lub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unction VDC; Range 19; Apertur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Adresowanie jedno- i dwubajtow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286000"/>
            <a:ext cx="586728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resowanie to uaktywnienie w interfejsie danego urządzenia własności nadawania lub odbior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ejs może implementować adresowanie jedno- lub dwubajtowe; tzn. adresowanie realizuje się przy użyciu jednego lub dwóch znaków adresując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ządzenia muszą mieć przypisane sobie unikalne adresy na magistr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res urządzenia to numer na magistrali przypisany urządzeniu – wartość z zakresu 0 – 30. Przypisany numer jest zachowany w ustawieniach konfiguracyjnych  urząd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y adresowaniu dwubajtowym urządzenie ma przypisane dwa numery na magistrali; podstawowy i rozszerzają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6360" y="52578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zykładowe num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ządzeń na magistra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4012a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1942920" cy="2468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Adres jednobajt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5" name="adr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5051520" cy="1565280"/>
          </a:xfrm>
          <a:prstGeom prst="rect">
            <a:avLst/>
          </a:prstGeom>
          <a:ln w="0">
            <a:noFill/>
          </a:ln>
        </p:spPr>
      </p:pic>
      <p:pic>
        <p:nvPicPr>
          <p:cNvPr id="116" name="adr3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4160880" cy="1189080"/>
          </a:xfrm>
          <a:prstGeom prst="rect">
            <a:avLst/>
          </a:prstGeom>
          <a:ln w="0">
            <a:noFill/>
          </a:ln>
        </p:spPr>
      </p:pic>
      <p:pic>
        <p:nvPicPr>
          <p:cNvPr id="117" name="adr4" descr=""/>
          <p:cNvPicPr/>
          <p:nvPr/>
        </p:nvPicPr>
        <p:blipFill>
          <a:blip r:embed="rId3"/>
          <a:stretch/>
        </p:blipFill>
        <p:spPr>
          <a:xfrm>
            <a:off x="1143000" y="5638680"/>
            <a:ext cx="4160880" cy="84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03320" y="281952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ktura adr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bajt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57200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zykład adresu odbioru i nadawania urządzenia o numerze 22 na magistra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1720" y="5715000"/>
            <a:ext cx="21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kaz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 – przestań odbiera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T – przestań nadawa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Adres dwubajt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2" name="adr8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051160" cy="1121040"/>
          </a:xfrm>
          <a:prstGeom prst="rect">
            <a:avLst/>
          </a:prstGeom>
          <a:ln w="0">
            <a:noFill/>
          </a:ln>
        </p:spPr>
      </p:pic>
      <p:pic>
        <p:nvPicPr>
          <p:cNvPr id="123" name="adr9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4435200" cy="3108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52840" y="2362320"/>
            <a:ext cx="21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ruktura drugi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jtu adresując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41008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zykład dwubajtowego adresu odbioru i nadawania urządzenia o numerze podstawowym 22 i rozszerzającym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odbiorc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438280"/>
            <a:ext cx="7848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Podstawowe zadania funkcji odbior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apamiętuje stan zaadresowania interfejsu do odbio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dblokowuje działanie funkcji AH synchronizującej odbiór baj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dblokowuje działanie funkcji interfejsowych dla rozkazów adresowanych; czyli umożliwia selektywne wykonywanie pewnych poleceń interfejs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dblokowuje wpis stanu szyny DIO do rejestru wejściowego urząd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</a:rPr>
              <a:t>Oznaczenia funk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– odbiorca podstawowy (adresowanie jednobajtow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</a:rPr>
              <a:t>L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– odbiorca rozszerzony (adresowanie dwubajtow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 Bogdan</cp:lastModifiedBy>
  <dcterms:modified xsi:type="dcterms:W3CDTF">2006-05-10T20:13:58Z</dcterms:modified>
  <cp:revision>115</cp:revision>
  <dc:subject/>
  <dc:title>Zasady sterowania urządzeniami systemów pomiarowych.</dc:title>
</cp:coreProperties>
</file>