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5.jpeg" ContentType="image/jpeg"/>
  <Override PartName="/ppt/media/image16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30440"/>
            <a:ext cx="1660680" cy="5235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1280" y="2130120"/>
            <a:ext cx="7093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967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ebd5"/>
                </a:solidFill>
                <a:latin typeface="Arial"/>
              </a:rPr>
              <a:t>Obsługa urządzeń pomiarowych</a:t>
            </a:r>
            <a:r>
              <a:rPr b="1" lang="pl-PL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 w </a:t>
            </a:r>
            <a:r>
              <a:rPr b="1" lang="pl-PL" sz="1800" spc="-1" strike="noStrike">
                <a:solidFill>
                  <a:srgbClr val="ffebd5"/>
                </a:solidFill>
                <a:latin typeface="Arial"/>
              </a:rPr>
              <a:t>ś</a:t>
            </a:r>
            <a:r>
              <a:rPr b="1" lang="pl-PL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rodowisku LabVIEW</a:t>
            </a:r>
            <a:r>
              <a:rPr b="1" lang="pl-PL" sz="3600" spc="-1" strike="noStrike">
                <a:solidFill>
                  <a:srgbClr val="ffebd5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905120"/>
            <a:ext cx="748332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ziałani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 ob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e ok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nej platformy interfejsowej zapewnia odpowiednia biblioteka I/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LabVIEW </a:t>
            </a:r>
            <a:r>
              <a:rPr b="0" lang="pl-PL" sz="1600" spc="-1" strike="noStrike">
                <a:solidFill>
                  <a:srgbClr val="0000ff"/>
                </a:solidFill>
                <a:latin typeface="Arial"/>
              </a:rPr>
              <a:t>dysponuje bibliotekami I/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8568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ff"/>
                </a:solidFill>
                <a:latin typeface="Arial"/>
                <a:ea typeface="Arial"/>
              </a:rPr>
              <a:t>NI488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– interfejs GPIB (oznaczenie 488);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8568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ff"/>
                </a:solidFill>
                <a:latin typeface="Arial"/>
                <a:ea typeface="Arial"/>
              </a:rPr>
              <a:t>VIS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– interfejs GPIB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VX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Ethernet, USB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oznaczenie VISA) oraz interfejs szeregowy RS232 (oznaczenie SERIAL);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8568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ff"/>
                </a:solidFill>
                <a:latin typeface="Arial"/>
              </a:rPr>
              <a:t>NI DAQ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obsługa kart DAQ a także modułów PX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00"/>
                </a:solidFill>
                <a:latin typeface="Arial"/>
              </a:rPr>
              <a:t>oraz bibliotekami przyrządowym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85680">
              <a:lnSpc>
                <a:spcPct val="100000"/>
              </a:lnSpc>
              <a:spcBef>
                <a:spcPts val="3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00"/>
                </a:solidFill>
                <a:latin typeface="Arial"/>
              </a:rPr>
              <a:t>Instrument librar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drajwery przyrządowe IVI (GPIB, VXI, PX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85680">
              <a:lnSpc>
                <a:spcPct val="100000"/>
              </a:lnSpc>
              <a:spcBef>
                <a:spcPts val="3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00"/>
                </a:solidFill>
                <a:latin typeface="Arial"/>
              </a:rPr>
              <a:t>IVI</a:t>
            </a:r>
            <a:r>
              <a:rPr b="0" lang="pl-PL" sz="1600" spc="-1" strike="noStrike">
                <a:solidFill>
                  <a:srgbClr val="e3221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– drajwery IVI klas przyrządow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8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dstawione biblioteki są dostępne po zainstalowaniu odpowiedniego pakietu oprogramowania firmy 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NI DAQ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obsługa kart DAQ i systemu PX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VIS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obsługa urządzeń GPIB ( komputer z lokalną kartą GPIB potrzebuje dodatkowo drajwera tej kart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425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Struktura z parametrami sesji VISA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49" name="image004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243480" cy="3774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29560" y="6019920"/>
            <a:ext cx="62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Modyfikacj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własności sesji urządzeniowej za pomocą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w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z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a Property Node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914040"/>
            <a:ext cx="84247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Szeregowanie operacji węzłów I/O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981080"/>
            <a:ext cx="800100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ęzły operacji Write, Read, Trigger itd. muszą się wykonać w ściśle określonej kolejności. Można ją uzyskać za pomocą przepływu danych pomiędzy węzłami lub przez zastosowanie konstrukcji sekwen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ażdy węzeł I/O musi otrzymać nazwę zasobu określającą na jakim urządzeniu ma wykonać swoje operacje. Jednocześnie każdy węzeł przekazuje na jedno ze swoich wyjść otrzymaną nazwę zasob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askadowe połączenie węzłów linią przepływu danej z nazwą zasobu w naturalny sposób zapewnia żądaną kolejność wykonania operacji VISA na danym zasob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rys1" descr=""/>
          <p:cNvPicPr/>
          <p:nvPr/>
        </p:nvPicPr>
        <p:blipFill>
          <a:blip r:embed="rId1"/>
          <a:stretch/>
        </p:blipFill>
        <p:spPr>
          <a:xfrm>
            <a:off x="1295280" y="5029200"/>
            <a:ext cx="6477120" cy="1498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630360"/>
            <a:ext cx="8424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Szeregowanie operacji węzłów I/O dla różnych zasobów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05120"/>
            <a:ext cx="83822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cje przyrządowe muszą się wykonać w ściśle określonej kolejności, np. najpierw ustawienie częstotliwości generatora i dopiero wtedy pomiar napięcia. Podobnie jak poprzednio można uzyskać wymaganą kolejność za pomocą przepływu danych pomiędzy węzłami lub przez zastosowanie konstrukcji sekwencj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żdy węzeł I/O ma zdefiniowane wejście oraz wyjście błędu. Wejście błędu pozwala zablokować podstawowe funkcje węzła a wyjście dostarcza informacje o stanie wykonania przewidzianych dla niego ope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skadowe połączenie węzłów linią przepływu danej o błędzie w naturalny sposób zapewni żądaną kolejność wykonania operacji VISA na różnych zasob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image012" descr=""/>
          <p:cNvPicPr/>
          <p:nvPr/>
        </p:nvPicPr>
        <p:blipFill>
          <a:blip r:embed="rId1"/>
          <a:stretch/>
        </p:blipFill>
        <p:spPr>
          <a:xfrm>
            <a:off x="1600200" y="4191120"/>
            <a:ext cx="6095880" cy="2496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4247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Dodatkowe cechy wejść błędów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80010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87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ęzeł I/O wykona przewidziane dla niego operacje tylko wtedy, gdy otrzyma na wejściu błędu informację, że poprzedzające operacje zakończyły się sukces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87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go wyjście błędu dostarczy wtedy stan wykonania jego operac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87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śli dostanie daną sygnalizującą błąd, nie wykonuje swoich operacji i przenosi na wyjście błędu otrzymaną dan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87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skadowe połączenie węzłów linią przepływu danej o błędzie blokuje wykonanie operacji przez następne węzły. Jednocześnie na wyjściu kaskady połączeniowej dostaje się niezmienioną informację z węzła, w którym wystąpił błą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87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zięki temu nie rozmnażają się błędy i łatwiej jest je zidentyfikować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rys1" descr=""/>
          <p:cNvPicPr/>
          <p:nvPr/>
        </p:nvPicPr>
        <p:blipFill>
          <a:blip r:embed="rId1"/>
          <a:stretch/>
        </p:blipFill>
        <p:spPr>
          <a:xfrm>
            <a:off x="990720" y="4876920"/>
            <a:ext cx="6324480" cy="1463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4250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Zasada budowy węzłów I/O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5334120"/>
            <a:ext cx="7391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ea konstrukcji 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VIS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zapewniając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konanie zasadniczych funkcji węzła, gdy Error_In sygnalizuje brak błędu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minięcie wykonania funkcji węzła, gdy Error_In sygnalizuje błąd oraz przekazania dalej nie zmienionej informacji o błędz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066680" y="2209680"/>
            <a:ext cx="7010640" cy="2913120"/>
            <a:chOff x="1066680" y="2209680"/>
            <a:chExt cx="7010640" cy="2913120"/>
          </a:xfrm>
        </p:grpSpPr>
        <p:pic>
          <p:nvPicPr>
            <p:cNvPr id="163" name="image010" descr=""/>
            <p:cNvPicPr/>
            <p:nvPr/>
          </p:nvPicPr>
          <p:blipFill>
            <a:blip r:embed="rId1"/>
            <a:stretch/>
          </p:blipFill>
          <p:spPr>
            <a:xfrm>
              <a:off x="1066680" y="2209680"/>
              <a:ext cx="7010640" cy="25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048120" y="4724280"/>
              <a:ext cx="2057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False – nie ma błędu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True  – jest błąd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2438280" y="4266720"/>
              <a:ext cx="60984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048120" y="4800600"/>
              <a:ext cx="1447560" cy="304920"/>
              <a:chOff x="3048120" y="4800600"/>
              <a:chExt cx="1447560" cy="304920"/>
            </a:xfrm>
          </p:grpSpPr>
          <p:sp>
            <p:nvSpPr>
              <p:cNvPr id="167" name=""/>
              <p:cNvSpPr/>
              <p:nvPr/>
            </p:nvSpPr>
            <p:spPr>
              <a:xfrm>
                <a:off x="3048120" y="48006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8120" y="5105520"/>
                <a:ext cx="1447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9280" y="837720"/>
            <a:ext cx="84247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Budowa danej błędu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70" name="image008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205400" cy="210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4495680"/>
            <a:ext cx="815328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Wskaźnik błędu (boolean);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Uzyskuje wartość TRUE jeśli operacje węzła zakończą się błędem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Numeryczny kod błędu (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rtości mniejsze od zera oznaczają błąd (wtedy wsk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k błędu przyjmie wartość TRU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rtość zero oznacza poprawne wykonanie operacji węzł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rtości większe od zera oznaczają poprawne wykonanie operacji z pewnym zastrzeżeniem (ostrzeżen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Opis błędu (string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określający nazwę węzła i programu VI (subVI), w którym wystąpi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raca w warunkach współdzielenia zasobów pomiarowych.</a:t>
            </a: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523880" y="2133720"/>
            <a:ext cx="6019920" cy="4362480"/>
            <a:chOff x="1523880" y="2133720"/>
            <a:chExt cx="6019920" cy="4362480"/>
          </a:xfrm>
        </p:grpSpPr>
        <p:pic>
          <p:nvPicPr>
            <p:cNvPr id="174" name="image016" descr=""/>
            <p:cNvPicPr/>
            <p:nvPr/>
          </p:nvPicPr>
          <p:blipFill>
            <a:blip r:embed="rId1"/>
            <a:stretch/>
          </p:blipFill>
          <p:spPr>
            <a:xfrm>
              <a:off x="3733920" y="2133720"/>
              <a:ext cx="38098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image014" descr=""/>
            <p:cNvPicPr/>
            <p:nvPr/>
          </p:nvPicPr>
          <p:blipFill>
            <a:blip r:embed="rId2"/>
            <a:stretch/>
          </p:blipFill>
          <p:spPr>
            <a:xfrm>
              <a:off x="3733920" y="3809880"/>
              <a:ext cx="3809880" cy="16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23880" y="3124080"/>
              <a:ext cx="15242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Rezerwacja zasobu na wyłącznoś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(access mode =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5181480"/>
              <a:ext cx="10666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wolnienie zasobu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743200" y="5028840"/>
              <a:ext cx="14479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8120" y="3657600"/>
              <a:ext cx="152388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048120" y="2971800"/>
              <a:ext cx="12189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3200" y="5486400"/>
              <a:ext cx="14479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733920" y="5715000"/>
              <a:ext cx="3809880" cy="781200"/>
              <a:chOff x="3733920" y="5715000"/>
              <a:chExt cx="3809880" cy="781200"/>
            </a:xfrm>
          </p:grpSpPr>
          <p:graphicFrame>
            <p:nvGraphicFramePr>
              <p:cNvPr id="183" name=""/>
              <p:cNvGraphicFramePr/>
              <p:nvPr/>
            </p:nvGraphicFramePr>
            <p:xfrm>
              <a:off x="4267080" y="5791320"/>
              <a:ext cx="2705400" cy="704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267080" y="5791320"/>
                        <a:ext cx="27054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5" name=""/>
              <p:cNvSpPr/>
              <p:nvPr/>
            </p:nvSpPr>
            <p:spPr>
              <a:xfrm>
                <a:off x="3733920" y="5715000"/>
                <a:ext cx="380988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rzykład otwarcia dwóch sesji z zajęciem zasobów na wyłączność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87" name="image018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10280" cy="3456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0600" y="2133720"/>
            <a:ext cx="957960" cy="246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Timeout = 1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9600" y="4800600"/>
            <a:ext cx="18342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 moda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rezerwacja na wyłączność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590920" y="3962520"/>
            <a:ext cx="3808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2362320"/>
            <a:ext cx="3049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Arial"/>
              </a:rPr>
              <a:t>Programowanie zdalne urządzeń.</a:t>
            </a: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93" name="image020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343400" cy="1052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66680" y="3276720"/>
            <a:ext cx="762012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Problemem nie jest samo wys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anie komunikatu ale jego przygotowanie.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 Węzeł  Write musi dostać gotowy tekst komunikatu. Nie wykonuje już żadnych operacji na dostarczonym tekście komunikatu. Realizuje tylko jego wysłan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Potrzebna jest znajomo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 formatów i postaci polece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 stosowanych w danym urz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dzeniu oraz sposób ich wytworzenia w 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rodowisku LabVie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Programista mo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e spotka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ć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 si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 z trzema kategoriami urz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dze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 pomiarowych GPIB stosuj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cych ró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ne formaty i postaci komunikatów :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>
              <a:lnSpc>
                <a:spcPct val="100000"/>
              </a:lnSpc>
              <a:spcBef>
                <a:spcPts val="1001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Arial"/>
              </a:rPr>
              <a:t>urządzenia zgodne z specyfikacją IEEE488.1 (urządzenia produkowane przed 1987 r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>
              <a:lnSpc>
                <a:spcPct val="100000"/>
              </a:lnSpc>
              <a:spcBef>
                <a:spcPts val="1001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Arial"/>
              </a:rPr>
              <a:t>urządzenia zgodne z specyfikacją IEEE488.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>
              <a:lnSpc>
                <a:spcPct val="100000"/>
              </a:lnSpc>
              <a:spcBef>
                <a:spcPts val="1001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urządzenia zgodne z specyfikacją SCPI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4250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rzygotowanie komunikatu tekstowego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09680"/>
            <a:ext cx="7788240" cy="12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rbitralny komunikat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ustawiaj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y zasób funkcjonalny w ustalony sposób niezale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ż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ny od danych wypracowywanych w aplikacji, np. ustawienie na sta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e generacji sygna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u sinusoidalnego o okre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lonej cz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stotliwo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W tej sytuacji wystarczy wykorzysta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ć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sta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łą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tekstow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z odpowiednio zdefiniowan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tre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i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ą, np.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”FUNC:SHAP SIN;:FREQ 100”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733920"/>
            <a:ext cx="7772400" cy="247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Komunikat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zależny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, czyli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ustawia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y zasób funkcjonalny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na podstawie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danych wypracowywanych w aplikacji, np. ustawienie cz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stotliw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i sygn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u stosownie do wart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i uzyskanej z oblicze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ń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Aft>
                <a:spcPts val="499"/>
              </a:spcAft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W tej sytuacji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trzeb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wykorzyst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funkc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formatu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dane numeryczne do postaci tekstowej i d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zy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ten tekst do tekstu nag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ówk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Aft>
                <a:spcPts val="499"/>
              </a:spcAft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Do formatowania stosuje się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w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ze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Format Into String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(odpowiednik funkcji sprintf w 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Aft>
                <a:spcPts val="499"/>
              </a:spcAft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W urz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zeniach SCPI m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żn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stosow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formatowanie domy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lne, w innych m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e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zachodzić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potrzeba zastosowania okre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lonego sposobu formatowa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Aft>
                <a:spcPts val="499"/>
              </a:spcAft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Np.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w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ze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Format Into String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z doprowadzoną daną typu DBL oraz zadeklarowanym stringiem formatującym </a:t>
            </a:r>
            <a:r>
              <a:rPr b="0" lang="pl-PL" sz="1400" spc="-1" strike="noStrike">
                <a:solidFill>
                  <a:srgbClr val="0000ff"/>
                </a:solidFill>
                <a:latin typeface="Arial"/>
              </a:rPr>
              <a:t>”FREQ %f”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 dostarczy dla danej 100 tekst </a:t>
            </a:r>
            <a:r>
              <a:rPr b="0" lang="pl-PL" sz="1400" spc="-1" strike="noStrike">
                <a:solidFill>
                  <a:srgbClr val="0000ff"/>
                </a:solidFill>
                <a:latin typeface="Arial"/>
              </a:rPr>
              <a:t>”FREQ 100.000000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Grupy bibliotek I/O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1981080"/>
          <a:ext cx="1362240" cy="22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1362240" cy="22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800600" y="1981080"/>
          <a:ext cx="268596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981080"/>
                    <a:ext cx="26859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066680" y="4419720"/>
          <a:ext cx="3810240" cy="22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419720"/>
                    <a:ext cx="381024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V="1">
            <a:off x="1219320" y="2209320"/>
            <a:ext cx="3581280" cy="1295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886200"/>
            <a:ext cx="4191120" cy="533520"/>
          </a:xfrm>
          <a:prstGeom prst="line">
            <a:avLst/>
          </a:prstGeom>
          <a:ln w="28440">
            <a:solidFill>
              <a:srgbClr val="7812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886200"/>
            <a:ext cx="152280" cy="533520"/>
          </a:xfrm>
          <a:prstGeom prst="line">
            <a:avLst/>
          </a:prstGeom>
          <a:ln w="2844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1080" y="23623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"/>
              </a:rPr>
              <a:t>Karty DAQ oraz PX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410080" y="4343400"/>
            <a:ext cx="3599280" cy="2238480"/>
            <a:chOff x="5410080" y="4343400"/>
            <a:chExt cx="3599280" cy="2238480"/>
          </a:xfrm>
        </p:grpSpPr>
        <p:graphicFrame>
          <p:nvGraphicFramePr>
            <p:cNvPr id="95" name=""/>
            <p:cNvGraphicFramePr/>
            <p:nvPr/>
          </p:nvGraphicFramePr>
          <p:xfrm>
            <a:off x="5423040" y="4343400"/>
            <a:ext cx="2638440" cy="2238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23040" y="4343400"/>
                      <a:ext cx="2638440" cy="22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6701040" y="4876920"/>
              <a:ext cx="23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8120a"/>
                  </a:solidFill>
                  <a:latin typeface="Arial"/>
                </a:rPr>
                <a:t>GPIB, VXI, RS232, USB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10080" y="5257800"/>
              <a:ext cx="1600200" cy="380880"/>
            </a:xfrm>
            <a:prstGeom prst="ellipse">
              <a:avLst/>
            </a:prstGeom>
            <a:noFill/>
            <a:ln w="28440">
              <a:solidFill>
                <a:srgbClr val="7812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19320" y="4876920"/>
            <a:ext cx="3189240" cy="380880"/>
            <a:chOff x="1219320" y="4876920"/>
            <a:chExt cx="3189240" cy="380880"/>
          </a:xfrm>
        </p:grpSpPr>
        <p:sp>
          <p:nvSpPr>
            <p:cNvPr id="100" name=""/>
            <p:cNvSpPr/>
            <p:nvPr/>
          </p:nvSpPr>
          <p:spPr>
            <a:xfrm>
              <a:off x="2740320" y="4876920"/>
              <a:ext cx="166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0000"/>
                  </a:solidFill>
                  <a:latin typeface="Arial"/>
                </a:rPr>
                <a:t>Drajwery urządze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4876920"/>
              <a:ext cx="11430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425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rzykład 1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99" name="image022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05720" cy="387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66680" y="6019920"/>
            <a:ext cx="702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Przykład operacji programowania generatora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 z użyciem komunikatów arbitralnych oraz komunikatu zależneg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rzykład 2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02" name="image024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05160" cy="1965600"/>
          </a:xfrm>
          <a:prstGeom prst="rect">
            <a:avLst/>
          </a:prstGeom>
          <a:ln w="0">
            <a:noFill/>
          </a:ln>
        </p:spPr>
      </p:pic>
      <p:pic>
        <p:nvPicPr>
          <p:cNvPr id="203" name="image026" descr=""/>
          <p:cNvPicPr/>
          <p:nvPr/>
        </p:nvPicPr>
        <p:blipFill>
          <a:blip r:embed="rId2"/>
          <a:stretch/>
        </p:blipFill>
        <p:spPr>
          <a:xfrm>
            <a:off x="1905120" y="4419720"/>
            <a:ext cx="4724280" cy="1858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68400" y="4038480"/>
            <a:ext cx="675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peracj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programowania 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wymagająca zastosowania stałego formatu zapisu liczb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76200" y="6324480"/>
            <a:ext cx="626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Ustawianie podzakresu V553 na podstawie spodziewanej wartości typu DB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425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bd5"/>
                </a:solidFill>
                <a:latin typeface="Arial"/>
              </a:rPr>
              <a:t>Znak terminalny komunikatu :</a:t>
            </a:r>
            <a:endParaRPr b="1" lang="en-US" sz="1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563868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Jeśli urządzenie wymaga znaku terminalnego, trzeba go dodać w procesie tworzenia tekstu komunikatu. Operacja Write nie dodaje automatycznie znaków terminal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image028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172200" cy="3098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bd5"/>
                </a:solidFill>
                <a:latin typeface="Arial"/>
              </a:rPr>
              <a:t>Stosowanie komunikatów złożonych :</a:t>
            </a:r>
            <a:endParaRPr b="1" lang="en-US" sz="16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10" name="image030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562720" cy="2451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34040" y="4495680"/>
            <a:ext cx="8009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300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*rst;*cls –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zerowanie generatora i czyszczenie kolejki zarejestrowanych błędó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300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:outp:load 50 –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określenie obciążenia źródła (50 ohm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300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:func:shap SIN –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ustawienie generacji sygnału sinusoidalneg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300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:volt %f –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ustawienie amplitudy zgodnie z wartością otrzymaną z nastawnika Amplitud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300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Arial"/>
              </a:rPr>
              <a:t>:freq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%f –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ustawienie częstotliwości zgodnie z wartością otrzymaną z nastawnika Częstotliwość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300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syst:err? –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Arial"/>
              </a:rPr>
              <a:t>zapytanie o błąd wykryty przez urządze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6172200"/>
            <a:ext cx="771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apytanie o b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 (syst:err?) stanowi tutaj osobne polecenie, co uzyskano przez wstawienie przed nim znaku terminatora NL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Arial"/>
              </a:rPr>
              <a:t>Odczyt danych z urządzeń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14" name="image032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248160" cy="1127160"/>
          </a:xfrm>
          <a:prstGeom prst="rect">
            <a:avLst/>
          </a:prstGeom>
          <a:ln w="0">
            <a:noFill/>
          </a:ln>
        </p:spPr>
      </p:pic>
      <p:pic>
        <p:nvPicPr>
          <p:cNvPr id="215" name="image034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3657600" cy="275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58400" y="3200400"/>
            <a:ext cx="73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Read dostarcza surowy komunikat z urządzenia, czyli dane numeryczne w postaci tekst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5029200"/>
            <a:ext cx="268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icjowanie wydania odpowiedzi w ur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zeniach pomiarowych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Konwersja odebranych danych urządzeniowych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133720"/>
            <a:ext cx="769644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799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Węzeł Read dostarcza surowy komunikat z urządzenia (typ string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799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Dane liczbowe uzyskane z urządzeń trzeba przekształcić do typów numerycznych  int, float, double itp. aby można wykonać na nich oblic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799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Wykorzystuje się do tego węzeł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Scan From String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 (odpowiednik funkcji sscanf w 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image036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5029200" cy="2754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4250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rzykłady konwersji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22" name="image038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086600" cy="2520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41560" y="5562720"/>
            <a:ext cx="731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Konwersja z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o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onego komunikatu liczbowego do typu double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</a:rPr>
              <a:t> (dane tablicowe)</a:t>
            </a:r>
            <a:r>
              <a:rPr b="0" lang="pl-PL" sz="1600" spc="-1" strike="noStrike">
                <a:solidFill>
                  <a:srgbClr val="78120a"/>
                </a:solidFill>
                <a:latin typeface="Arial"/>
                <a:ea typeface="Times New Roman"/>
              </a:rPr>
              <a:t>.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630360"/>
            <a:ext cx="84247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Separator cz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ęś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ci u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ł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amkowej zapisu liczby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286000"/>
            <a:ext cx="8016840" cy="17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Aft>
                <a:spcPts val="499"/>
              </a:spcAft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Węzły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Format Into String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oraz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Scan From String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wykorzystują systemowe ustawienia znaku dziesiętnego zapisu liczb.</a:t>
            </a:r>
            <a:r>
              <a:rPr b="0" lang="pl-PL" sz="1400" spc="-1" strike="noStrike">
                <a:solidFill>
                  <a:srgbClr val="ffebd5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Windows PL domyślnie ma ustawiony znak</a:t>
            </a:r>
            <a:r>
              <a:rPr b="0" lang="pl-PL" sz="1400" spc="-1" strike="noStrike">
                <a:solidFill>
                  <a:srgbClr val="ffebd5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przecinka.</a:t>
            </a:r>
            <a:r>
              <a:rPr b="0" lang="pl-PL" sz="1400" spc="-1" strike="noStrike">
                <a:solidFill>
                  <a:srgbClr val="ffebd5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Urządzenia stosują znak kropki.</a:t>
            </a:r>
            <a:r>
              <a:rPr b="0" lang="pl-PL" sz="1400" spc="-1" strike="noStrike">
                <a:solidFill>
                  <a:srgbClr val="ffebd5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Aft>
                <a:spcPts val="499"/>
              </a:spcAft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W tych warunkach węzły formatowania nie dostarczą poprawnych tekstów poleceń programujących. Urządzenie zasygnalizuje błąd argumentu polec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Aft>
                <a:spcPts val="499"/>
              </a:spcAft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Trzeba przestawić ustawienia systemowe lub stosować dodatkowe dane w stringu formatujący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4191120"/>
            <a:ext cx="634068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%.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tawia kropkę jako separator części ułamk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%,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tawia przecinek jako separator części ułamkow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%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wrót do domyślnego ustawienia systemow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715000"/>
            <a:ext cx="771228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700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ody okre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laj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wy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łą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znie rodzaj separatora i nie wymagaj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ż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adnych dodatkowych wej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ść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lub wyj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ść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dla w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z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łó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w realizuj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ych konwersj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700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Zmiana obowi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zuje dla wszystkich pó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ź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niejszych operacji a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ż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do jawnego odwo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ania.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Arial"/>
              </a:rPr>
              <a:t>darze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nia przyrządowe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2133720"/>
            <a:ext cx="28958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PON – Pow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URQ – User 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CME – Command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EXE – Execut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DDE – Device dependent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QYE – Query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RQC – Request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OPC – Operation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stat4a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5337360" cy="4092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H="1" flipV="1">
            <a:off x="4419720" y="2437920"/>
            <a:ext cx="1676160" cy="175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438280" y="2437920"/>
            <a:ext cx="373392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54864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jt Statusowy - S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638320" y="5638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Informacje statusowe urządzeń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36" name="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4960800" cy="1211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216080" y="3503520"/>
            <a:ext cx="70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429000"/>
            <a:ext cx="8147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nia SRQ magistrali GPIB służy urządzeniom systemu do zgłaszania żądań obsługi (specyficznych zdarzeń) kontrolerowi system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is przyczyny żądania obsługi jest dostępny w informacjach statusowych urządzenia dostępnych w rejestrze statusowym urządzenia oraz szeregu różnych rejestrów stanu i zdarzeń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dstawowa informacja znajduje się w rejestrze statusowym ST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srq3" descr=""/>
          <p:cNvPicPr/>
          <p:nvPr/>
        </p:nvPicPr>
        <p:blipFill>
          <a:blip r:embed="rId2"/>
          <a:stretch/>
        </p:blipFill>
        <p:spPr>
          <a:xfrm>
            <a:off x="2057400" y="5334120"/>
            <a:ext cx="4419720" cy="1112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425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aleta funkcji biblioteki VISA (interfejsy GPIB, RS232, VXI, ....)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03" name="image002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5334120" cy="317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1905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zwinięta paleta funkcji biblioteki VI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191120"/>
            <a:ext cx="19051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pis do urządz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czyt z urządz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343400"/>
            <a:ext cx="2743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4419360"/>
            <a:ext cx="32767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657600" y="4876920"/>
            <a:ext cx="137160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24280" y="4876920"/>
            <a:ext cx="76212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5791320"/>
            <a:ext cx="53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erowanie      Odczyt bajtu statusowego       Wyzwole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943600" y="4876920"/>
            <a:ext cx="83808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Technika synchronizacji; wykorzystanie SRQ w aplikacji.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41" name="image040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5334120" cy="3343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324480" y="2666880"/>
            <a:ext cx="2667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aktywnienie reakcji na zdarzenie określone przez ‘event type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bronienie reakcji na określony typ zdar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czekiwanie na SRQ od wybranego urząd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rzykład synchronizacji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44" name="image042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232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85800" y="5029200"/>
            <a:ext cx="81691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Uwaga:</a:t>
            </a:r>
            <a:r>
              <a:rPr b="0" lang="pl-PL" sz="1600" spc="-1" strike="noStrike">
                <a:solidFill>
                  <a:srgbClr val="ffebd5"/>
                </a:solidFill>
                <a:latin typeface="Arial"/>
                <a:ea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 warunkach wspó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zielenia zasobów pomiarowych a wi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 równi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czas pracy na serwerach pomiarowych nie mo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 stosow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w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sy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ronizacji Wait for RQ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k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a on,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 w czasie jego realizacji linia SRQ jest ustawiana tylko przez urz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zenie okr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ne nazw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zasob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 tak nie jest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ko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zy swoje dzi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ie w momencie wystawienia SRQ przez inne urz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zenie lub b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łę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m przeterminowania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tak jest przynajmniej w odniesieniu do serwerów Sicland)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425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ętla czytania STB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47" name="image043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162920" cy="3076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80320" y="5715000"/>
            <a:ext cx="791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ask Any Set – ustawione bity (1) określają oczekiwane zdar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imeout – czas oczekiwania w msek. Po jego przekroczeniu wyjście error zgłasza błąd timeout’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630360"/>
            <a:ext cx="84247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rzykład wykorzystania STB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50" name="image045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172200" cy="3112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38080" y="5486400"/>
            <a:ext cx="7788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B = 0x41 – niedopełnienie ( przejdź na mniejszy podzak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B = 0x48 – przekroczenie ( przejdź na wyższy podzak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B = 0x40 – właściwy podzakres ( można odebrać wyni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modyfikowane numery podzakresów 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rzekazywane do kolejnej iteracji za pomo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rejestru przesuwnego 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li (Shift Register)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Komunikat z danymi binarnymi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53" name="image047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1741320"/>
          </a:xfrm>
          <a:prstGeom prst="rect">
            <a:avLst/>
          </a:prstGeom>
          <a:ln w="0">
            <a:noFill/>
          </a:ln>
        </p:spPr>
      </p:pic>
      <p:pic>
        <p:nvPicPr>
          <p:cNvPr id="254" name="image049" descr=""/>
          <p:cNvPicPr/>
          <p:nvPr/>
        </p:nvPicPr>
        <p:blipFill>
          <a:blip r:embed="rId2"/>
          <a:stretch/>
        </p:blipFill>
        <p:spPr>
          <a:xfrm>
            <a:off x="1981080" y="3886200"/>
            <a:ext cx="5181840" cy="2684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Komunikat z danymi binarnymi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56" name="image053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6324840" cy="2600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85800" y="2133720"/>
            <a:ext cx="8229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D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an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e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tekstowo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ATA  VOLATILE, &lt;value&gt;, &lt;value&gt;, …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gdzie &lt;value&gt; jest wart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i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rzeczywist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z zakresu (-1,+1)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 w zapisie dziesiątkowym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lub binarni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ATA:DAC  VOLATILE, &lt;nag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</a:rPr>
              <a:t>łó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wek bloku binarnego&gt; &lt;bajt&gt; &lt;bajt&gt; ....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   gdzie k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a para bajtów reprezentuje dan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c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kowit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(Int16) z zakresu (-2047,+2047).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8920" y="837720"/>
            <a:ext cx="77389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Dlaczego biblioteka VISA ?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819520"/>
            <a:ext cx="80168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st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ynik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em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umowy unifikacyjnej producentów sprzętu pomiarowego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VXIplug&amp;play Systems Allianc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jmuj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szystkie platformy interfejsowe stosowane w systemach pomiarow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siada jednakowe API w odniesieniu do ró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ych platform interfejsowych, rozw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art interfejsowych oraz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dowisk pracy (Windows, Unix itd.)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fikacj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pewnia niezależność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tkownik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d producenta sprz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 i oprogramowani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jwery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rządow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XIplug&amp;play oraz IVI wykorzystuj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ibliotek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VIS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Funkcje obs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ł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ugi urz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ą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dze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ń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  <a:ea typeface="Times New Roman"/>
              </a:rPr>
              <a:t> programowanych komunikatami tekstowymi </a:t>
            </a: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9810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985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3880" y="2057400"/>
          <a:ext cx="5943600" cy="4614840"/>
        </p:xfrm>
        <a:graphic>
          <a:graphicData uri="http://schemas.openxmlformats.org/drawingml/2006/table">
            <a:tbl>
              <a:tblPr/>
              <a:tblGrid>
                <a:gridCol w="2361960"/>
                <a:gridCol w="2438640"/>
                <a:gridCol w="114300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8120a"/>
                          </a:solidFill>
                          <a:latin typeface="Arial"/>
                          <a:ea typeface="Times New Roman"/>
                        </a:rPr>
                        <a:t>ANSI C</a:t>
                      </a:r>
                      <a:r>
                        <a:rPr b="1" lang="en-US" sz="1000" spc="-1" strike="noStrike">
                          <a:solidFill>
                            <a:srgbClr val="78120a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8120a"/>
                          </a:solidFill>
                          <a:latin typeface="Arial"/>
                          <a:ea typeface="Times New Roman"/>
                        </a:rPr>
                        <a:t>GWIN98</a:t>
                      </a:r>
                      <a:r>
                        <a:rPr b="1" lang="en-US" sz="1000" spc="-1" strike="noStrike">
                          <a:solidFill>
                            <a:srgbClr val="78120a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ead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A R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Webdings"/>
                          <a:ea typeface="Webdings"/>
                        </a:rPr>
                        <a:t>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eadA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Wr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A Wr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Webdings"/>
                          <a:ea typeface="Webdings"/>
                        </a:rPr>
                        <a:t>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WriteA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eadTo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A Read To 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WriteFrom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A Write From 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etBu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A Set I/O Buffer 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Flu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A Flush I/O Buff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BufWr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BufR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Printf / viVPrin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Printf / viVSPrin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canf / viVSca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Scanf / viVSSca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Queryf / viVQuery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eadS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A Read S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Webdings"/>
                          <a:ea typeface="Webdings"/>
                        </a:rPr>
                        <a:t>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AssertTrig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A Assert Trig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Webdings"/>
                          <a:ea typeface="Webdings"/>
                        </a:rPr>
                        <a:t>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Cl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A Cl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Webdings"/>
                          <a:ea typeface="Webdings"/>
                        </a:rPr>
                        <a:t>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Nazwy zasobów pomiarowych systemu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057400"/>
            <a:ext cx="84582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enie pomiarowe stanowi zasób (resource) przy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wy wzgl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m, którego m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 realizow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funkcje 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tkow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biblioteki I/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y zasób jest identyfikowany naz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asobu (instrument descriptor)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81952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4160" y="3048120"/>
            <a:ext cx="8210880" cy="3247920"/>
            <a:chOff x="614160" y="3048120"/>
            <a:chExt cx="8210880" cy="3247920"/>
          </a:xfrm>
        </p:grpSpPr>
        <p:sp>
          <p:nvSpPr>
            <p:cNvPr id="122" name=""/>
            <p:cNvSpPr/>
            <p:nvPr/>
          </p:nvSpPr>
          <p:spPr>
            <a:xfrm>
              <a:off x="614160" y="3048120"/>
              <a:ext cx="58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8120a"/>
                  </a:solidFill>
                  <a:latin typeface="Arial"/>
                  <a:ea typeface="Arial"/>
                </a:rPr>
                <a:t>Interface_Type [Board_Index]::Address::VISA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5880" y="3581280"/>
              <a:ext cx="272916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O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kre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ś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lenie grupy dost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ę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pnych operacji (funkcji biblioteki)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 oraz typu struktury z parametrami sesji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.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5000" y="342900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360"/>
              <a:ext cx="27288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A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dres (numer) urz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ą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dzenia w interfejsie magistralowym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.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14800" y="3429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3429000"/>
              <a:ext cx="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4647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5248080"/>
              <a:ext cx="27288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I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dentyfikator karty interfejsu w systemie komputerowym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.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6019560"/>
              <a:ext cx="27291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R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  <a:ea typeface="Times New Roman"/>
                </a:rPr>
                <a:t>odzaj stosowanego interfejsu</a:t>
              </a:r>
              <a:r>
                <a:rPr b="1" lang="en-US" sz="1200" spc="-1" strike="noStrike">
                  <a:solidFill>
                    <a:srgbClr val="78120a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3429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24080" y="342900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5486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3429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7920" y="3429000"/>
              <a:ext cx="0" cy="27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6172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8920" y="914040"/>
            <a:ext cx="7738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Przykłady nazw zasobów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86000"/>
            <a:ext cx="797724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GPIB[board]::primary_address[::secondary_address][::INSTR] 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, n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  <a:ea typeface="Times New Roman"/>
              </a:rPr>
              <a:t>GPIB0::9::3::INSTR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-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urz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zenie dzi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a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e w interfejsie GPIB realizowanym przez kart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GPIB o numerze logicznym 0 w systemie komputerowym. Urz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zenie wykorzystuje adresowanie dwubajtowe (numer podstawowy na magistrali 9 i rozszerza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y 3).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809880"/>
            <a:ext cx="7824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ASRL[</a:t>
            </a:r>
            <a:r>
              <a:rPr b="1" i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board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][::INSTR]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, n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  <a:ea typeface="Times New Roman"/>
              </a:rPr>
              <a:t>ASRL1::INSTR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-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urz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zenie działa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e w interfejsie szeregowym realizowanym przez port szeregowy COM1 systemu komputeroweg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.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029200"/>
            <a:ext cx="782460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TCPIP::Numer_IP::GPIB[</a:t>
            </a:r>
            <a:r>
              <a:rPr b="1" i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board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],</a:t>
            </a:r>
            <a:r>
              <a:rPr b="1" i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primary_addres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s [,</a:t>
            </a:r>
            <a:r>
              <a:rPr b="1" i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secondary_addres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s]::INSTR </a:t>
            </a:r>
            <a:r>
              <a:rPr b="0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, n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  <a:ea typeface="Times New Roman"/>
              </a:rPr>
              <a:t>TCPIP::156.17.45.29::GPIB0,9,3::INSTR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-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urz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zenie dzi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a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e w interfejsie GPIB realizowanym przez kart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GPIB o numerze logicznym 0 w systemie komputerowym o numerze IP 156.17.45.29, udost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pniane w sieci LAN poprzez protokó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TCP/IP (standard VXI-11). Urz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zenie wykorzystuje adresowanie dwubajtowe (numer podstawowy na magistrali 9 i rozszerza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y 3).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425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bd5"/>
                </a:solidFill>
                <a:latin typeface="Arial"/>
              </a:rPr>
              <a:t>Szkielet programu obsługi przyrządu (język C)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438280"/>
            <a:ext cx="76201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ViSession  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  <a:ea typeface="Times New Roman"/>
              </a:rPr>
              <a:t>vi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, viDefaultRM;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9900"/>
                </a:solidFill>
                <a:latin typeface="Arial"/>
                <a:ea typeface="Times New Roman"/>
              </a:rPr>
              <a:t>// Identyfikatory ses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ebd5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ffebd5"/>
                </a:solidFill>
                <a:latin typeface="Times New Roman"/>
                <a:ea typeface="Times New Roman"/>
              </a:rPr>
              <a:t>       </a:t>
            </a:r>
            <a:r>
              <a:rPr b="1" lang="pl-PL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ViChar          rdResponse[100];                 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// inne zmie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ViUInt32       retCou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//Otwarcie sesji z zarz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c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, który mi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zy innymi inicjalizuje system VISA dla aplikacji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viOpenDefaultRM(&amp;viDefaultRM);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//Zarz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ca otrzymuje nazw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zasobu i otwiera sesj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komunikacyjn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do niego.</a:t>
            </a:r>
            <a:r>
              <a:rPr b="1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viOpen(viDefaultRM, ”TCPIP::156.17.45.27::GPIB0,1::INSTR”,0 ,0, &amp;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Times New Roman"/>
              </a:rPr>
              <a:t>vi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// Operacje urz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zeniowe; korzystaj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ą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z identyfikatora sesji ‘vi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en-US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viWrite(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  <a:ea typeface="Times New Roman"/>
              </a:rPr>
              <a:t>vi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, ”*idn?”, 5, &amp;retCount 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en-US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viRead(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  <a:ea typeface="Times New Roman"/>
              </a:rPr>
              <a:t>vi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, rdResponse, 60, &amp;retCount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120a"/>
                </a:solidFill>
                <a:latin typeface="Symbol"/>
                <a:ea typeface="Symbol"/>
              </a:rPr>
              <a:t></a:t>
            </a:r>
            <a:r>
              <a:rPr b="1" lang="en-US" sz="1400" spc="-1" strike="noStrike">
                <a:solidFill>
                  <a:srgbClr val="78120a"/>
                </a:solidFill>
                <a:latin typeface="Times New Roman"/>
                <a:ea typeface="Times New Roman"/>
              </a:rPr>
              <a:t>          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ffebd5"/>
                </a:solidFill>
                <a:latin typeface="Times New Roman"/>
                <a:ea typeface="Times New Roman"/>
              </a:rPr>
              <a:t>         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viClose(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Times New Roman"/>
              </a:rPr>
              <a:t>vi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);</a:t>
            </a:r>
            <a:r>
              <a:rPr b="1" lang="pl-PL" sz="1400" spc="-1" strike="noStrike">
                <a:solidFill>
                  <a:srgbClr val="ffebd5"/>
                </a:solidFill>
                <a:latin typeface="Arial"/>
                <a:ea typeface="Times New Roman"/>
              </a:rPr>
              <a:t>	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//Zamkni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i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ie sesji komunikacyjn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4250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ebd5"/>
                </a:solidFill>
                <a:latin typeface="Arial"/>
              </a:rPr>
              <a:t>Otwieranie sesji VISA w LabView :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46" name="image006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248520" cy="36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2120" y="5715000"/>
            <a:ext cx="79405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Niejawne 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otwar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cie sesji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nast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puje w trybie domy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lnym, czyli mi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dzy innymi bez za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ia zasobu na wy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zn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ść.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00"/>
              </a:spcBef>
              <a:buClr>
                <a:srgbClr val="781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Je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li aplikacja wymaga za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ia zasobu na wy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czn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ść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, wówczas trzeba jawnie u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żyć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funkcj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VISA</a:t>
            </a:r>
            <a:r>
              <a:rPr b="0" lang="pl-PL" sz="1400" spc="-1" strike="noStrike">
                <a:solidFill>
                  <a:srgbClr val="78120a"/>
                </a:solidFill>
                <a:latin typeface="Symbol"/>
                <a:ea typeface="Symbol"/>
              </a:rPr>
              <a:t>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Open z odpowiednimi argumentami jej wywo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ania</a:t>
            </a:r>
            <a:r>
              <a:rPr b="0" lang="pl-PL" sz="1400" spc="-1" strike="noStrike">
                <a:solidFill>
                  <a:srgbClr val="78120a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09:18:31Z</dcterms:created>
  <dc:creator>Kasprzak Bogdan</dc:creator>
  <dc:description/>
  <dc:language>en-US</dc:language>
  <cp:lastModifiedBy>Kasprzak</cp:lastModifiedBy>
  <dcterms:modified xsi:type="dcterms:W3CDTF">2006-12-05T10:45:16Z</dcterms:modified>
  <cp:revision>54</cp:revision>
  <dc:subject/>
  <dc:title>Obsługa urządzeń GPIB w środowisku LabVIEW </dc:title>
</cp:coreProperties>
</file>