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56272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80740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3921840"/>
            <a:ext cx="880740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392184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1200" y="392184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6160" y="83808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4080" y="83808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392184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6160" y="392184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4080" y="392184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880740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807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9280" y="172800"/>
            <a:ext cx="83167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92184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880740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1200" y="392184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921840"/>
            <a:ext cx="880740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80740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921840"/>
            <a:ext cx="880740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92184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1200" y="392184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6160" y="83808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4080" y="83808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92184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6160" y="392184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4080" y="3921840"/>
            <a:ext cx="283572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807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9280" y="172800"/>
            <a:ext cx="83167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392184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1200" y="392184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153720"/>
            <a:ext cx="8316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200" y="838080"/>
            <a:ext cx="429768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3921840"/>
            <a:ext cx="8807400" cy="28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3124080" cy="681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5800" y="-17640"/>
            <a:ext cx="8458200" cy="68112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240" y="838080"/>
            <a:ext cx="8807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1660680" cy="52354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2130120"/>
            <a:ext cx="7093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71280" y="2130120"/>
            <a:ext cx="7093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ebd5"/>
                </a:solidFill>
                <a:latin typeface="Trebuchet MS"/>
              </a:rPr>
              <a:t>Technika  kreowania  podprogramu    w LabView 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71280" y="5697000"/>
            <a:ext cx="7093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d3a1"/>
                </a:solidFill>
                <a:latin typeface="Trebuchet MS"/>
              </a:rPr>
              <a:t>Konstruowanie subVI i konfigurowanie jego własności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Przykład wejść ze statusem polecanym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838080"/>
          <a:ext cx="706608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0660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04920" y="403848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Podprogram oblicza macierz [A] dla jednoelementowego czwórnika z impedancją szeregową, którą reprezentuje układ zastępczy L w szereg z równoległym układem R i 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Poprzez dane z wejść R, C i  L można praktycznie modelować dowolny rzeczywisty dwójni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Jeśli wejścia R, C i L otrzymają status </a:t>
            </a:r>
            <a:r>
              <a:rPr b="1" lang="pl-PL" sz="1400" spc="-1" strike="noStrike">
                <a:solidFill>
                  <a:srgbClr val="3333cc"/>
                </a:solidFill>
                <a:latin typeface="Trebuchet MS"/>
              </a:rPr>
              <a:t>Recommended</a:t>
            </a: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 oraz </a:t>
            </a:r>
            <a:r>
              <a:rPr b="1" lang="pl-PL" sz="1400" spc="-1" strike="noStrike">
                <a:solidFill>
                  <a:srgbClr val="3333cc"/>
                </a:solidFill>
                <a:latin typeface="Trebuchet MS"/>
              </a:rPr>
              <a:t>podane wartości domyślne</a:t>
            </a: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 to zapewni się łatwy sposób modelowania różnych impedancji Z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28800" y="5410080"/>
          <a:ext cx="458136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410080"/>
                    <a:ext cx="45813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Nazwy wejść i wyjść podprogramu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914400"/>
          <a:ext cx="796140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96140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04920" y="472428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Obiekty pulpitu stanowiące wejścia i wyjścia subVI powinny otrzymać sensowne nazwy (własność </a:t>
            </a: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Label</a:t>
            </a: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 obiektów).   Pow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rebuchet MS"/>
              </a:rPr>
              <a:t>Czytelność projektu podprogram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rebuchet MS"/>
              </a:rPr>
              <a:t>Help kontekstowy podaje automatycznie opis węzła w zakresie definicji wejść i wyj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rebuchet MS"/>
              </a:rPr>
              <a:t>Przy aktywności narzędzia realizacji połączeń pokazywane są ich naz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Zastosowanie sensownych opisów będzie istotną pomocą dla programisty. Prosta auto-dokumentacja wskazuje przeznaczenie wejść i wyjść węzł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Konfigurowanie własności podprogramu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9480" y="1011240"/>
            <a:ext cx="7162920" cy="1635120"/>
            <a:chOff x="609480" y="1011240"/>
            <a:chExt cx="7162920" cy="1635120"/>
          </a:xfrm>
        </p:grpSpPr>
        <p:graphicFrame>
          <p:nvGraphicFramePr>
            <p:cNvPr id="167" name=""/>
            <p:cNvGraphicFramePr/>
            <p:nvPr/>
          </p:nvGraphicFramePr>
          <p:xfrm>
            <a:off x="609480" y="1011240"/>
            <a:ext cx="1828800" cy="1635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011240"/>
                      <a:ext cx="1828800" cy="16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3276720" y="1011240"/>
              <a:ext cx="4495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rebuchet MS"/>
                </a:rPr>
                <a:t>Wejście do definiowania własności programu VI; także podprogramu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86000" y="1201680"/>
              <a:ext cx="990720" cy="38088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1" name=""/>
          <p:cNvGraphicFramePr/>
          <p:nvPr/>
        </p:nvGraphicFramePr>
        <p:xfrm>
          <a:off x="228600" y="2971800"/>
          <a:ext cx="4991040" cy="35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971800"/>
                    <a:ext cx="49910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562720" y="3276720"/>
            <a:ext cx="3244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rebuchet MS"/>
              </a:rPr>
              <a:t>Kategorie konfigurowanych własności programu V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rebuchet MS"/>
              </a:rPr>
              <a:t>Najistotniejs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rebuchet MS"/>
              </a:rPr>
              <a:t>Tryb wykon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rebuchet MS"/>
              </a:rPr>
              <a:t>Tryb użycia pulpi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rebuchet MS"/>
              </a:rPr>
              <a:t>Rozmiar i skalowalność pulpi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rebuchet MS"/>
              </a:rPr>
              <a:t>Dokumentacja pomocnic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rebuchet MS"/>
              </a:rPr>
              <a:t>Zabezpieczenie i prywatność projekt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7760" y="3581280"/>
            <a:ext cx="2514600" cy="68580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Rozszerzona informacja pomocnicza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4920" y="762120"/>
            <a:ext cx="8424720" cy="5848200"/>
            <a:chOff x="304920" y="762120"/>
            <a:chExt cx="8424720" cy="5848200"/>
          </a:xfrm>
        </p:grpSpPr>
        <p:graphicFrame>
          <p:nvGraphicFramePr>
            <p:cNvPr id="177" name=""/>
            <p:cNvGraphicFramePr/>
            <p:nvPr/>
          </p:nvGraphicFramePr>
          <p:xfrm>
            <a:off x="304920" y="762120"/>
            <a:ext cx="7627680" cy="484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762120"/>
                      <a:ext cx="7627680" cy="484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 flipV="1">
              <a:off x="3429000" y="3733560"/>
              <a:ext cx="1600200" cy="22860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5867280"/>
              <a:ext cx="812016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3333cc"/>
                  </a:solidFill>
                  <a:latin typeface="Trebuchet MS"/>
                </a:rPr>
                <a:t>Pełny opis pomocniczy można zawrzeć w pliku z tekstem w formacie HLP lub HTM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3333cc"/>
                  </a:solidFill>
                  <a:latin typeface="Trebuchet MS"/>
                </a:rPr>
                <a:t>Odwołanie do niego umieścić w pozycji Help Pat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3333cc"/>
                  </a:solidFill>
                  <a:latin typeface="Trebuchet MS"/>
                </a:rPr>
                <a:t>Help kontekstowy automatycznie podaje wówczas odnośnik do pełnej dokumentac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600200" y="4800600"/>
              <a:ext cx="1371600" cy="137160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7226280" y="4343400"/>
            <a:ext cx="1413000" cy="139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26280" y="4343400"/>
                      <a:ext cx="1413000" cy="13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 flipV="1">
              <a:off x="6934320" y="5486400"/>
              <a:ext cx="761760" cy="91440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Wykorzystanie pulpitu podprogramu w aplikacji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914400"/>
          <a:ext cx="583092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83092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943600" y="1390680"/>
            <a:ext cx="30924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Trebuchet MS"/>
              </a:rPr>
              <a:t>Zaznaczenie opcji Dialog oznacza, że pulpit podprogramu pojawi się na ekranie i pozostanie na nim do zakończenia działania podprogra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Trebuchet MS"/>
              </a:rPr>
              <a:t>Podobne własności można uzyskać zaznaczając opcję Custom i w odpowiedni sposób konfigurując własności opcji dostosowanej do życzeń projekta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Trebuchet MS"/>
              </a:rPr>
              <a:t>Opcja Dialog posiada szereg specyficznych, ustalonych własnoś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5483160"/>
            <a:ext cx="876312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W opcji </a:t>
            </a:r>
            <a:r>
              <a:rPr b="0" lang="pl-PL" sz="1200" spc="-1" strike="noStrike">
                <a:solidFill>
                  <a:srgbClr val="e32213"/>
                </a:solidFill>
                <a:latin typeface="Trebuchet MS"/>
              </a:rPr>
              <a:t>Dialog</a:t>
            </a: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  subVI zachowuje się jak okno dialogowe w systemie operacyjnym tak, że w czasie jego aktywności użytkownik nie może współpracować z innymi oknami LabView .   Po wywołaniu podprogramu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Pulpit staje się widoczny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Nie ma belki menu oraz narzędziowe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Użytkownik nie może modyfikować rozmiarów okna, ale może zamknąć ok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447920" y="1523880"/>
            <a:ext cx="4495680" cy="243864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66880" y="2438280"/>
            <a:ext cx="3276720" cy="167652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599840" y="4114800"/>
            <a:ext cx="1066680" cy="15228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209680" y="4114800"/>
            <a:ext cx="457200" cy="38088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Wielokrotne, równoległe wykorzystanie podprogramu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3600" y="804960"/>
            <a:ext cx="8551800" cy="5824440"/>
            <a:chOff x="363600" y="804960"/>
            <a:chExt cx="8551800" cy="5824440"/>
          </a:xfrm>
        </p:grpSpPr>
        <p:graphicFrame>
          <p:nvGraphicFramePr>
            <p:cNvPr id="196" name=""/>
            <p:cNvGraphicFramePr/>
            <p:nvPr/>
          </p:nvGraphicFramePr>
          <p:xfrm>
            <a:off x="363600" y="804960"/>
            <a:ext cx="8418600" cy="524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3600" y="804960"/>
                      <a:ext cx="8418600" cy="52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4419720" y="4267080"/>
              <a:ext cx="449568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Trebuchet MS"/>
                </a:rPr>
                <a:t>SubVI </a:t>
              </a:r>
              <a:r>
                <a:rPr b="1" lang="pl-PL" sz="1200" spc="-1" strike="noStrike">
                  <a:solidFill>
                    <a:srgbClr val="e32213"/>
                  </a:solidFill>
                  <a:latin typeface="Trebuchet MS"/>
                </a:rPr>
                <a:t>One Plot.vi</a:t>
              </a:r>
              <a:r>
                <a:rPr b="1" lang="pl-PL" sz="1200" spc="-1" strike="noStrike">
                  <a:solidFill>
                    <a:srgbClr val="3333cc"/>
                  </a:solidFill>
                  <a:latin typeface="Trebuchet MS"/>
                </a:rPr>
                <a:t> gromadzi dostarczane struktury </a:t>
              </a:r>
              <a:r>
                <a:rPr b="1" lang="pl-PL" sz="1200" spc="-1" strike="noStrike">
                  <a:solidFill>
                    <a:srgbClr val="e32213"/>
                  </a:solidFill>
                  <a:latin typeface="Trebuchet MS"/>
                </a:rPr>
                <a:t>Cluster XY</a:t>
              </a:r>
              <a:r>
                <a:rPr b="1" lang="pl-PL" sz="1200" spc="-1" strike="noStrike">
                  <a:solidFill>
                    <a:srgbClr val="3333cc"/>
                  </a:solidFill>
                  <a:latin typeface="Trebuchet MS"/>
                </a:rPr>
                <a:t> w tablicy </a:t>
              </a:r>
              <a:r>
                <a:rPr b="1" lang="pl-PL" sz="1200" spc="-1" strike="noStrike">
                  <a:solidFill>
                    <a:srgbClr val="e32213"/>
                  </a:solidFill>
                  <a:latin typeface="Trebuchet MS"/>
                </a:rPr>
                <a:t>Array out</a:t>
              </a:r>
              <a:r>
                <a:rPr b="1" lang="pl-PL" sz="1200" spc="-1" strike="noStrike">
                  <a:solidFill>
                    <a:srgbClr val="3333cc"/>
                  </a:solidFill>
                  <a:latin typeface="Trebuchet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Trebuchet MS"/>
                </a:rPr>
                <a:t>Gdy dana indeksująca </a:t>
              </a:r>
              <a:r>
                <a:rPr b="1" lang="pl-PL" sz="1200" spc="-1" strike="noStrike">
                  <a:solidFill>
                    <a:srgbClr val="e32213"/>
                  </a:solidFill>
                  <a:latin typeface="Trebuchet MS"/>
                </a:rPr>
                <a:t>Clear</a:t>
              </a:r>
              <a:r>
                <a:rPr b="1" lang="pl-PL" sz="1200" spc="-1" strike="noStrike">
                  <a:solidFill>
                    <a:srgbClr val="3333cc"/>
                  </a:solidFill>
                  <a:latin typeface="Trebuchet MS"/>
                </a:rPr>
                <a:t> ma wartość 0, tworzona jest nawa tablica z jednym elementem X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Trebuchet MS"/>
                </a:rPr>
                <a:t>Dla wartości indeksujących &gt;0 elementy XY są dołączane do istniejącej tablicy. Zrealizowano to za pomocą zmiennej lokalnej do tablicy i węzła budującego tablicę przez dołączani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Trebuchet MS"/>
                </a:rPr>
                <a:t>Dwa wystąpienia subVI w przykładowym programie korzystają z tego samego zaalokowanego obszaru pamięci.  Skutkiem tego jest błędna prezentacja danyc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ebd5"/>
                </a:solidFill>
                <a:latin typeface="Trebuchet MS"/>
              </a:rPr>
              <a:t>SubVI z możliwością wykorzystania w wielu instancjach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838080"/>
            <a:ext cx="510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Każdy podprogram, który zapamiętuje dane musi pracować w trybie </a:t>
            </a:r>
            <a:r>
              <a:rPr b="0" lang="pl-PL" sz="1200" spc="-1" strike="noStrike">
                <a:solidFill>
                  <a:srgbClr val="e32213"/>
                </a:solidFill>
                <a:latin typeface="Trebuchet MS"/>
              </a:rPr>
              <a:t>Reentrreeant (wielobieżny)</a:t>
            </a: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, aby mógł występować w wielu instancj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2438280"/>
          <a:ext cx="396252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396252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09480" y="1295280"/>
            <a:ext cx="0" cy="273528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419720" y="4648320"/>
          <a:ext cx="457200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4648320"/>
                    <a:ext cx="457200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419720" y="166212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Tryb </a:t>
            </a:r>
            <a:r>
              <a:rPr b="0" lang="pl-PL" sz="1200" spc="-1" strike="noStrike">
                <a:solidFill>
                  <a:srgbClr val="e32213"/>
                </a:solidFill>
                <a:latin typeface="Trebuchet MS"/>
              </a:rPr>
              <a:t>Reentrant</a:t>
            </a: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 wyłączon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42051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Tryb </a:t>
            </a:r>
            <a:r>
              <a:rPr b="0" lang="pl-PL" sz="1200" spc="-1" strike="noStrike">
                <a:solidFill>
                  <a:srgbClr val="e32213"/>
                </a:solidFill>
                <a:latin typeface="Trebuchet MS"/>
              </a:rPr>
              <a:t>Reentrant</a:t>
            </a: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 włączon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419720" y="2046240"/>
          <a:ext cx="4572000" cy="19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2046240"/>
                    <a:ext cx="457200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Programowanie proceduralne;  Podprogram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919080"/>
            <a:ext cx="8578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Programowanie proceduralne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to zasada programowania zalecająca dzielenie kodu na 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procedury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, czyli fragmenty wykonujące ściśle określone operac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Podprogram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(inaczej funkcja lub procedura)  to wydzielona część programu wykonująca określone operac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programy stosuje się, aby uprościć program główny i zwiększyć czytelność k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efinicja podprogramu oprócz jego kodu obejmuje też deklarację  argumentów jego wywołania. Podprogram dysponuje 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argumentami wejściowymi i wyjściowymi.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rgumenty wejściowe dostarczają dane z miejsca wywołania do podprogra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rgumenty wyjściowe zapewniają zwrócenie danych wynikowych do procedury wywołującej dany pod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71920" y="4308120"/>
            <a:ext cx="7274880" cy="2134080"/>
            <a:chOff x="871920" y="4308120"/>
            <a:chExt cx="7274880" cy="2134080"/>
          </a:xfrm>
        </p:grpSpPr>
        <p:sp>
          <p:nvSpPr>
            <p:cNvPr id="86" name=""/>
            <p:cNvSpPr/>
            <p:nvPr/>
          </p:nvSpPr>
          <p:spPr>
            <a:xfrm>
              <a:off x="871920" y="5386680"/>
              <a:ext cx="7203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zykład definicji nagłówka funkcji w języku C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cc"/>
                  </a:solidFill>
                  <a:latin typeface="Arial"/>
                </a:rPr>
                <a:t>Void   my_function ( int arg1,  float arg2,  double *ptr1,  int *ptr2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78080" y="5721480"/>
              <a:ext cx="2133720" cy="56844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2415600" y="4308120"/>
              <a:ext cx="1219320" cy="14893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87760" y="5680080"/>
              <a:ext cx="2759040" cy="762120"/>
            </a:xfrm>
            <a:prstGeom prst="ellipse">
              <a:avLst/>
            </a:prstGeom>
            <a:noFill/>
            <a:ln w="28440">
              <a:solidFill>
                <a:srgbClr val="e32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4321080" y="4842000"/>
              <a:ext cx="2209680" cy="838080"/>
            </a:xfrm>
            <a:prstGeom prst="line">
              <a:avLst/>
            </a:prstGeom>
            <a:ln w="2844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ebd5"/>
                </a:solidFill>
                <a:latin typeface="Trebuchet MS"/>
              </a:rPr>
              <a:t>Podprogram w LabView (analogia do języka C)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762120"/>
            <a:ext cx="7410960" cy="5781600"/>
            <a:chOff x="228600" y="762120"/>
            <a:chExt cx="7410960" cy="5781600"/>
          </a:xfrm>
        </p:grpSpPr>
        <p:graphicFrame>
          <p:nvGraphicFramePr>
            <p:cNvPr id="93" name=""/>
            <p:cNvGraphicFramePr/>
            <p:nvPr/>
          </p:nvGraphicFramePr>
          <p:xfrm>
            <a:off x="2057400" y="2209680"/>
            <a:ext cx="4202280" cy="433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209680"/>
                      <a:ext cx="4202280" cy="433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405720" y="762120"/>
              <a:ext cx="7233840" cy="14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finicja funkcji w języku C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Void   Unit_RC (DUT Enum, float Freq_in, float C, float R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                                                                                     </a:t>
              </a: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double &amp;Ku,  double &amp;Freq_out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{   . 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     </a:t>
              </a: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3333cc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114440" y="1676520"/>
              <a:ext cx="160020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990720"/>
              <a:ext cx="3581280" cy="423720"/>
            </a:xfrm>
            <a:prstGeom prst="ellipse">
              <a:avLst/>
            </a:prstGeom>
            <a:noFill/>
            <a:ln w="28440">
              <a:solidFill>
                <a:srgbClr val="e32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48120" y="1414440"/>
              <a:ext cx="457200" cy="1862280"/>
            </a:xfrm>
            <a:prstGeom prst="line">
              <a:avLst/>
            </a:prstGeom>
            <a:ln w="2844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1405080"/>
              <a:ext cx="990360" cy="880920"/>
            </a:xfrm>
            <a:prstGeom prst="line">
              <a:avLst/>
            </a:prstGeom>
            <a:ln w="28440">
              <a:solidFill>
                <a:srgbClr val="7812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3048120"/>
              <a:ext cx="770040" cy="1981080"/>
            </a:xfrm>
            <a:prstGeom prst="ellipse">
              <a:avLst/>
            </a:prstGeom>
            <a:noFill/>
            <a:ln w="28440">
              <a:solidFill>
                <a:srgbClr val="e32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21320" y="1219320"/>
              <a:ext cx="2759040" cy="45720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3920" y="3048120"/>
              <a:ext cx="657000" cy="16761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189400" y="1676520"/>
              <a:ext cx="525600" cy="9144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1414440"/>
              <a:ext cx="1447560" cy="1176480"/>
            </a:xfrm>
            <a:prstGeom prst="line">
              <a:avLst/>
            </a:prstGeom>
            <a:ln w="2844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1414440"/>
              <a:ext cx="1447920" cy="1066680"/>
            </a:xfrm>
            <a:prstGeom prst="ellipse">
              <a:avLst/>
            </a:prstGeom>
            <a:noFill/>
            <a:ln w="28440">
              <a:solidFill>
                <a:srgbClr val="a719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920" y="3886200"/>
              <a:ext cx="1600200" cy="2057400"/>
            </a:xfrm>
            <a:prstGeom prst="line">
              <a:avLst/>
            </a:prstGeom>
            <a:ln w="28440">
              <a:solidFill>
                <a:srgbClr val="a719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914400" y="2480760"/>
              <a:ext cx="533520" cy="1405080"/>
            </a:xfrm>
            <a:prstGeom prst="line">
              <a:avLst/>
            </a:prstGeom>
            <a:ln w="28440">
              <a:solidFill>
                <a:srgbClr val="a719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572160" y="2809800"/>
            <a:ext cx="24638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Ikon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unikalny obrazek identyfikujący węzeł podprogramu w diagramie wykorzystującym ten sub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nikalność tylko dla zapewnienia jednoznaczności i czytelności kodu diagra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019560" y="2962440"/>
            <a:ext cx="476280" cy="237960"/>
          </a:xfrm>
          <a:prstGeom prst="line">
            <a:avLst/>
          </a:prstGeom>
          <a:ln w="2844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890720"/>
            <a:ext cx="2463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Złącz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wraz z elementami kontrolnymi pulpitu definiuje wejścia i wyjścia sub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189040" y="2057400"/>
            <a:ext cx="1070280" cy="676440"/>
          </a:xfrm>
          <a:prstGeom prst="line">
            <a:avLst/>
          </a:prstGeom>
          <a:ln w="2844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ebd5"/>
                </a:solidFill>
                <a:latin typeface="Trebuchet MS"/>
              </a:rPr>
              <a:t>Technika kreowania podprogramu  LabView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919080"/>
            <a:ext cx="8578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rebuchet MS"/>
              </a:rPr>
              <a:t>Zbudowanie programu VI realizującego algorytm podprogramu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. Powstaje samodzielny program wykonujący zadania przewidziane dla podprogramu, złożony z pulpitu i diagramu. Program zostaje zachowany w postaci pliku </a:t>
            </a:r>
            <a:r>
              <a:rPr b="1" lang="pl-PL" sz="1600" spc="-1" strike="noStrike">
                <a:solidFill>
                  <a:srgbClr val="e32213"/>
                </a:solidFill>
                <a:latin typeface="Trebuchet MS"/>
              </a:rPr>
              <a:t>VI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 o unikalnej nazwie. </a:t>
            </a:r>
            <a:r>
              <a:rPr b="1" lang="pl-PL" sz="1600" spc="-1" strike="noStrike">
                <a:solidFill>
                  <a:srgbClr val="009900"/>
                </a:solidFill>
                <a:latin typeface="Trebuchet MS"/>
              </a:rPr>
              <a:t>Każdy program VI jest potencjalnie podprogra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rebuchet MS"/>
              </a:rPr>
              <a:t>Edycja ikony reprezentującej podprogram w diagramach innych programów.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 Obrazek identyfikujący węzeł podprogramu w innych diagramach powinien być unikalny, aby zapewnić jednoznaczność odczytu kodu programu. </a:t>
            </a:r>
            <a:r>
              <a:rPr b="1" lang="pl-PL" sz="1600" spc="-1" strike="noStrike">
                <a:solidFill>
                  <a:srgbClr val="009900"/>
                </a:solidFill>
                <a:latin typeface="Trebuchet MS"/>
              </a:rPr>
              <a:t>Środowisko wykonawcze do rozpoznania subVI wykorzystuje nazwę pliku VI a nie ikon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rebuchet MS"/>
              </a:rPr>
              <a:t>Definicja argumentów podprogramu. 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Obejm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Wytypowanie wejść i wyjść danych ( elementy kontrolne i wskaźnikowe pulpitu podprogram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Określenie budowy złącza i przypisanie konkretnych wejść i wyjść do końcówek złąc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Określenie statusu wejś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rebuchet MS"/>
              </a:rPr>
              <a:t>Zdefiniowanie własności podprogramu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rebuchet MS"/>
              </a:rPr>
              <a:t>Utworzenie informacji pomocniczych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l-PL" sz="1600" spc="-1" strike="noStrike">
                <a:solidFill>
                  <a:srgbClr val="009900"/>
                </a:solidFill>
                <a:latin typeface="Trebuchet MS"/>
              </a:rPr>
              <a:t>(wspomagających programistę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rebuchet MS"/>
              </a:rPr>
              <a:t>Zapisanie dokonanych zmian projektu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l-PL" sz="1600" spc="-1" strike="noStrike">
                <a:solidFill>
                  <a:srgbClr val="009900"/>
                </a:solidFill>
                <a:latin typeface="Trebuchet MS"/>
              </a:rPr>
              <a:t>( plik o nazwie ustalonej w pkt 1).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3a1"/>
                </a:solidFill>
                <a:latin typeface="Trebuchet MS"/>
              </a:rPr>
              <a:t>Program VI z przeznaczeniem na podprogram.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206280" y="762120"/>
            <a:ext cx="857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Buduje się go tak jak każdy program VI. Różnica może dotyczyć wyłącznie </a:t>
            </a:r>
            <a:r>
              <a:rPr b="1" lang="en-US" sz="1600" spc="-1" strike="noStrike">
                <a:solidFill>
                  <a:srgbClr val="e32213"/>
                </a:solidFill>
                <a:latin typeface="Trebuchet MS"/>
              </a:rPr>
              <a:t>projektu pulpitu, głównie w zakresie formy wizualn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ajczęściej użytkownik aplikacji widzi i posługuje się jej pulpitem. Pulpity zastosowanych podprogramów zwykle nie są uwidaczni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eśli podprogram ma spełniać typowe funkcje podprogramów forma jego pulpitu powinna być możliwie pros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19280" y="2610000"/>
          <a:ext cx="308592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2610000"/>
                    <a:ext cx="308592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105520" y="2610000"/>
          <a:ext cx="3047760" cy="29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10000"/>
                    <a:ext cx="304776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 flipH="1">
            <a:off x="3881520" y="2433600"/>
            <a:ext cx="614160" cy="461880"/>
          </a:xfrm>
          <a:prstGeom prst="line">
            <a:avLst/>
          </a:prstGeom>
          <a:ln w="2844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6280" y="5749920"/>
            <a:ext cx="8578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Można określić własności subVI tak, aby jego pulpit był widoczny. Wtedy forma graficzna pulpitu oraz własności obiektów kontrolnych są istotne (np. format wyświetlanych wartości numerycznych, kolory itp.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3a1"/>
                </a:solidFill>
                <a:latin typeface="Trebuchet MS"/>
              </a:rPr>
              <a:t>Rola elementów pulpitu w podprogramie.</a:t>
            </a:r>
            <a:endParaRPr b="1" lang="en-US" sz="1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3" name=""/>
          <p:cNvSpPr/>
          <p:nvPr/>
        </p:nvSpPr>
        <p:spPr>
          <a:xfrm>
            <a:off x="206280" y="762120"/>
            <a:ext cx="857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Każdy obiekt nastawczy pulpitu stanowi wejście danych i może być użyty jako argument wejściowy podprogramu, czyli wejście danych subV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Każdy obiekt wskaźnikowy pulpitu stanowi wyjście danych i może być użyty jako argument wyjściowy podprogramu, czyli wyjście danych subV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Nadanie obiektom pulpitu statusu wejść i wyjść następuje poprzez zdefiniowanie złącza podprogramu (subVI connector), które polega na powiązaniu poszczególnych pól złącza z obiektami pulp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19280" y="2971800"/>
          <a:ext cx="3395520" cy="33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2971800"/>
                    <a:ext cx="33955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V="1">
            <a:off x="1752480" y="3428640"/>
            <a:ext cx="1981440" cy="762120"/>
          </a:xfrm>
          <a:prstGeom prst="line">
            <a:avLst/>
          </a:prstGeom>
          <a:ln w="28440">
            <a:solidFill>
              <a:srgbClr val="e3221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429000"/>
            <a:ext cx="4114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Złącze sub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Powiązanie wykonuje się za pomocą narzędzia ”szpulki”, zaznaczając wybrane pole złącza a następnie obiekt pulpi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Pola bez powiązania z obiektem pulpitu mają kolor biały. Powiązane przyjmują kolory odpowiadające typom dan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14800" y="35812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819520" y="3809880"/>
            <a:ext cx="1676160" cy="6098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ebd5"/>
                </a:solidFill>
                <a:latin typeface="Trebuchet MS"/>
              </a:rPr>
              <a:t>Edycja złącza subVI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206280" y="762120"/>
            <a:ext cx="857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dycję złącza można wykonać wyłącznie w oknie edytora pulpitu wykorzystując menu podręczne pola Ikona/Złąc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447920"/>
          <a:ext cx="172404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17240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905040" y="3581280"/>
          <a:ext cx="173340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5040" y="3581280"/>
                    <a:ext cx="173340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581280" y="2209680"/>
            <a:ext cx="4953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Wejście do edycji złącza podprogram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Edycja postaci złącza – liczba, rozkład pól i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38080" y="2362320"/>
            <a:ext cx="942840" cy="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9528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85920" y="5562720"/>
            <a:ext cx="495000" cy="7596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Liczba wejść i wyjść podprogramu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1028880"/>
            <a:ext cx="56833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aksymalna liczba wejść i wyjść podprogramu jest podyktowana dopuszczalną liczbą pól złącza (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zy dużej liczbie prostych danych wejściowych i wyjściowych można je grupować w typy złożone – struktu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owiązane logicznie dane można w ten sposób grupować zmniejszając liczbę osobnych wejść/wyjść podprogramu lub zapewnić dostarczenie więcej niż 28 prostych dan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04920" y="838080"/>
          <a:ext cx="2347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2347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610160" y="3581280"/>
          <a:ext cx="3733920" cy="291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0160" y="3581280"/>
                    <a:ext cx="373392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04920" y="4591080"/>
            <a:ext cx="3962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Wejście specyfikacji filtru F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jest klastrem złożonym z siedmiu prostych dan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Liczba osobnych wejść i wyjść a także sposób grupowania prostych danych decyduje o wygodzie użycia pod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724280"/>
            <a:ext cx="1905120" cy="30492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9280" y="172800"/>
            <a:ext cx="83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Trebuchet MS"/>
              </a:rPr>
              <a:t>Status wejścia podprogramu.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838080"/>
          <a:ext cx="2467080" cy="31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24670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044880" y="1143000"/>
            <a:ext cx="5991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rebuchet MS"/>
              </a:rPr>
              <a:t>Status doprowadzenia danej do wejś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90000"/>
              </a:lnSpc>
              <a:spcBef>
                <a:spcPts val="176"/>
              </a:spcBef>
              <a:buClr>
                <a:srgbClr val="e3221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Wymagane</a:t>
            </a: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 – zawsze wymaga doprowadzenia da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90000"/>
              </a:lnSpc>
              <a:spcBef>
                <a:spcPts val="176"/>
              </a:spcBef>
              <a:buClr>
                <a:srgbClr val="e3221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Polecane</a:t>
            </a: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 – wejście może pozostać nie podłączone do źródła danych (jest ostrzeżeni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90000"/>
              </a:lnSpc>
              <a:spcBef>
                <a:spcPts val="176"/>
              </a:spcBef>
              <a:buClr>
                <a:srgbClr val="e3221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Opcjonalne</a:t>
            </a: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 - wejście może pozostać nie podłączone do źródła danych (brak ostrzeżeni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Wejścia ze statusem innym niż </a:t>
            </a: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Required</a:t>
            </a: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 wymagają zdefiniowania dla nich wartości domyślnych wykorzystywanych przy braku danych zewnętrznych. </a:t>
            </a:r>
            <a:r>
              <a:rPr b="1" lang="pl-PL" sz="1400" spc="-1" strike="noStrike">
                <a:solidFill>
                  <a:srgbClr val="009900"/>
                </a:solidFill>
                <a:latin typeface="Trebuchet MS"/>
              </a:rPr>
              <a:t>Analogia do funkcji z argumentami domyślny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4495680"/>
          <a:ext cx="341964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495680"/>
                    <a:ext cx="34196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648240" y="4191120"/>
            <a:ext cx="5267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rebuchet MS"/>
              </a:rPr>
              <a:t>Przykł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Podprogram oblicza Ku dla zadanych wartości R, C i Freq_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Wejścia R, C i Freq_in powinny zawsze korzystać z doprowadzonych dan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rebuchet MS"/>
              </a:rPr>
              <a:t>Nie ma sensownego uzasadnienia dla wartości domyśln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Trebuchet MS"/>
              </a:rPr>
              <a:t>Wejściom R, C i Freq_in należy przypisać status Requi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52:53Z</dcterms:created>
  <dc:creator>Kasprzak Bogdan</dc:creator>
  <dc:description/>
  <dc:language>en-US</dc:language>
  <cp:lastModifiedBy>Kasprzak Bogdan</cp:lastModifiedBy>
  <dcterms:modified xsi:type="dcterms:W3CDTF">2006-11-15T19:58:13Z</dcterms:modified>
  <cp:revision>28</cp:revision>
  <dc:subject/>
  <dc:title>tytuł prezentacji</dc:title>
</cp:coreProperties>
</file>