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470D-D7DA-4125-B95C-1F50A935C7C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jlepiej użyć diagramów by wyciągnąć wnios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834C-4A87-4A40-951B-3EDB6E53D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A733-47E5-4E4F-A7F6-24240A63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DD07-9408-42E8-83AB-C8A9D49BF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0E33-22A1-4823-9C3E-8B69983C8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65D2-0997-4786-AE18-F16E4BFF3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AEEB-D7CC-47AB-8310-CA89820C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28D7-944E-448B-AAAA-CD3577E0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F35D-4298-4B2B-BAB9-F573EBB9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41E3-E6F3-4335-82C2-ADB00372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9D18-9015-4D58-98E8-3FF31A41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8406-56F1-4D87-AEBC-EEAE3B8F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129C-E291-46D2-8206-3E08EEB4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019E-74D4-476C-AB86-E7D14553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0A17-C0C4-4347-90A2-AB1D27EC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5AE9-5F2F-43C5-83A8-49A76166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359D-99F9-4ABB-AF75-84A106AFE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2B76-7ED9-4BD3-BEC8-B9A632738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A105-1B3D-463C-8387-888B02C0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7C99-477C-4F11-B09E-0046E9D1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E4E1-BDC0-4A21-9C0D-91D2DF51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D597-ACE8-436E-9A70-3A913E9F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5ADF-8DD8-45D3-A3A0-41D22F02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813A-2D8E-4422-A83A-5685A35B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4D69-7C67-4C87-BBB7-E43F8351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5E04-7BDA-4DF7-B207-CCF5F8113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3F6F-9FE5-4FC7-AFF2-A70F86F28CA1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AI2/szybkosc-wiedza.gif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hyperlink" Target="http://www.staff.ncl.ac.uk/nikolas.lloyd/games/wason.htm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AI2/chess-plot.jpg" TargetMode="External"/><Relationship Id="rId2" Type="http://schemas.openxmlformats.org/officeDocument/2006/relationships/hyperlink" Target="file:///AI2/chess-plot.jpg" TargetMode="External"/><Relationship Id="rId3" Type="http://schemas.openxmlformats.org/officeDocument/2006/relationships/hyperlink" Target="file:///AI2/chess-plot.jpg" TargetMode="External"/><Relationship Id="rId4" Type="http://schemas.openxmlformats.org/officeDocument/2006/relationships/hyperlink" Target="file:///AI2/chess-plot.jpg" TargetMode="External"/><Relationship Id="rId5" Type="http://schemas.openxmlformats.org/officeDocument/2006/relationships/hyperlink" Target="file:///AI2/chess-plot.jpg" TargetMode="External"/><Relationship Id="rId6" Type="http://schemas.openxmlformats.org/officeDocument/2006/relationships/hyperlink" Target="file:///AI2/chess-plot.jpg" TargetMode="External"/><Relationship Id="rId7" Type="http://schemas.openxmlformats.org/officeDocument/2006/relationships/hyperlink" Target="file:///AI2/ai-power.jpg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AI2/szybk-pam.jpg" TargetMode="External"/><Relationship Id="rId2" Type="http://schemas.openxmlformats.org/officeDocument/2006/relationships/hyperlink" Target="file:///AI2/power1000.jpg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620640"/>
            <a:ext cx="7721640" cy="1440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Arial"/>
              </a:rPr>
              <a:t>Sztuczna Inteligencja</a:t>
            </a:r>
            <a:br>
              <a:rPr sz="4400"/>
            </a:br>
            <a:r>
              <a:rPr b="0" lang="pl-PL" sz="3200" spc="-1" strike="noStrike">
                <a:solidFill>
                  <a:srgbClr val="ffff00"/>
                </a:solidFill>
                <a:latin typeface="Arial"/>
              </a:rPr>
              <a:t>Szukanie, gry i ludzkie myśle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00200" y="43430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Włodzisław D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Katedra Informatyki Stosowanej UM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Google: D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Go: większe wyzwani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139240" cy="55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Liczba ruchów w Go to średnio 260 (szachy tylko 35)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Liczba partii: 10</a:t>
            </a:r>
            <a:r>
              <a:rPr b="0" lang="pl-PL" sz="2000" spc="-1" strike="noStrike" baseline="30000">
                <a:solidFill>
                  <a:srgbClr val="ffffff"/>
                </a:solidFill>
                <a:latin typeface="Arial"/>
              </a:rPr>
              <a:t>260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(szachy 10</a:t>
            </a:r>
            <a:r>
              <a:rPr b="0" lang="pl-PL" sz="2000" spc="-1" strike="noStrike" baseline="30000">
                <a:solidFill>
                  <a:srgbClr val="ffffff"/>
                </a:solidFill>
                <a:latin typeface="Arial"/>
              </a:rPr>
              <a:t>123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Liczba różnych pozycji na planszy: 10</a:t>
            </a:r>
            <a:r>
              <a:rPr b="0" lang="pl-PL" sz="2000" spc="-1" strike="noStrike" baseline="30000">
                <a:solidFill>
                  <a:srgbClr val="ffffff"/>
                </a:solidFill>
                <a:latin typeface="Arial"/>
              </a:rPr>
              <a:t>172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(szachy 10</a:t>
            </a:r>
            <a:r>
              <a:rPr b="0" lang="pl-PL" sz="2000" spc="-1" strike="noStrike" baseline="30000">
                <a:solidFill>
                  <a:srgbClr val="ffffff"/>
                </a:solidFill>
                <a:latin typeface="Arial"/>
              </a:rPr>
              <a:t>46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Techniki szukania są mało przydatne: obecne programy są kiepskie na standardowej planszy 19x19, ale na poziomie mistrzowskim na planszach 9x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ierwszy program w 1968 roku, najlepszy obecnie Go4++ napisał M. Reiss, program jest znacznie lepszy od swojego twór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Konieczne do dobrego grania w Go jes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rozpoznawanie struktur (typ lokalnych konfiguracji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uczenie maszynow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strategie i planowanie,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metody reprezentacje wiedzy.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Nagroda 1 mln $ dla programu, który pokona mistrza z Taiwanu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59920"/>
            <a:ext cx="77724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  <a:ea typeface="Arial"/>
              </a:rPr>
              <a:t>Szukanie a ludzkie myślenie</a:t>
            </a: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15328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Jak ludzie rozwiązują problemy wymagające myślenia? Intuicj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Szachy: człowiek stosuje „zmodyfikowane progresywne pogłębianie”, ograniczone poszukiwanie w głąb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ocena w oparciu o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heurystyk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z doświadczen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Intuicja = o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gromna pamięć, rozpoznawan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wzorców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– inne 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ograniczenia sprzętowe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niż A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Liczba pamiętanych „prototypowych” wzorców ~ 50.00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Mistrz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szachowy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po 5-sek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ekspozycji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układa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średnio 23 figury z 25 na pokazanych pozycjach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nowicjusz 3 lub 4 figur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Figury ułożone przypadkowo </a:t>
            </a:r>
            <a:r>
              <a:rPr b="0" lang="pl-PL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taka sama liczba błęd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Szybki test poziomu gry w szac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Badania psychologiczn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rezentacja 5 sekund, ruchy oczu mistrza i nowicjusz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5524560" cy="1752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143000" y="5029200"/>
            <a:ext cx="6248520" cy="1581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7200" y="373392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rezentacja dłuższa, od nowicjusza do mistrz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Największe różnice są w czasach reakcji i liczbie prawidłowo zapamiętanych fig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143000" y="2743200"/>
            <a:ext cx="6896160" cy="3848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  <a:ea typeface="Arial"/>
              </a:rPr>
              <a:t>Szukanie </a:t>
            </a: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a ludzkie </a:t>
            </a:r>
            <a:r>
              <a:rPr b="0" lang="pl-PL" sz="3600" spc="-1" strike="noStrike">
                <a:solidFill>
                  <a:srgbClr val="ffff00"/>
                </a:solidFill>
                <a:latin typeface="Arial"/>
                <a:ea typeface="Arial"/>
              </a:rPr>
              <a:t>myślenie</a:t>
            </a: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Mechanizm „porcjowania” przy pamiętaniu złożonych struktur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mała pamięć robocza wymaga ciągłego porcjowan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ziała to trochę jak kompilacja przyrostowa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Szachy: uczenie + pamięć, rozpoznawanie wzorców, ocena sytuacji oparta na pamięc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Uwaga skupiona jest (rozwijana jest gałąź grafu) na obszarach słabszych, ocena wzrokowa wzorców struktu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Ekspert lepiej rozpoznaje i lepiej pamięta, ale tylko istotne struktury, znane z doświadczenia, a nie struktury przypadkow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orcjowanie jest wykorzystywane w mnemotechn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Inteligencja jest ściśle związana z sytuacją, domeną wiedzy. 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Złudzenia zmysłow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Zmysły często nas zwodzą, np. na tych obrazk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2489040" cy="3289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24280" y="2057400"/>
            <a:ext cx="3568680" cy="345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Złudzenia kognityw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rzeczytaj zdanie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FINISHED FILES ARE THE R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SULT OF YEARS OF SCIENTIF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IC STUDY COMBINED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THE EXPERIENCE OF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Teraz policz ile jest liter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F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w tym zdaniu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olicz je TYLKO RAZ, nie cofaj się i nie powtarzaj liczen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Paradoksy</a:t>
            </a:r>
            <a:r>
              <a:rPr b="0" lang="pl-PL" sz="3600" spc="-1" strike="noStrike">
                <a:solidFill>
                  <a:srgbClr val="ffff00"/>
                </a:solidFill>
                <a:latin typeface="Arial"/>
                <a:ea typeface="Arial"/>
              </a:rPr>
              <a:t> ludzkie</a:t>
            </a: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go</a:t>
            </a:r>
            <a:r>
              <a:rPr b="0" lang="pl-PL" sz="3600" spc="-1" strike="noStrike">
                <a:solidFill>
                  <a:srgbClr val="ffff00"/>
                </a:solidFill>
                <a:latin typeface="Arial"/>
                <a:ea typeface="Arial"/>
              </a:rPr>
              <a:t> myśleni</a:t>
            </a: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Myślenie przebiega schematycznie, możliwe są złudzenia poznawcze.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rzykład wnioskowania łatwy, trudniejszy i b. trudny (niemożliwy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Każdy człowiek jest ssaki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Sokrates jest człowieki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3429000"/>
            <a:ext cx="678168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Wniosek: Sokrates jest ssaki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Schemat: A =&gt; B, C=&gt;A, więc C=&gt;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5516640"/>
            <a:ext cx="64771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Wniosek: żaden Rurytanin nie jest żeglarz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Schemat: ~</a:t>
            </a:r>
            <a:r>
              <a:rPr b="0" lang="pl-PL" sz="2400" spc="-1" strike="noStrike">
                <a:solidFill>
                  <a:srgbClr val="ffffff"/>
                </a:solidFill>
                <a:latin typeface="Symbol"/>
                <a:ea typeface="Symbol"/>
              </a:rPr>
              <a:t>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A =&gt; B, C=&gt;A, więc  ~</a:t>
            </a:r>
            <a:r>
              <a:rPr b="0" lang="pl-PL" sz="2400" spc="-1" strike="noStrike">
                <a:solidFill>
                  <a:srgbClr val="ffffff"/>
                </a:solidFill>
                <a:latin typeface="Symbol"/>
                <a:ea typeface="Symbol"/>
              </a:rPr>
              <a:t>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C =&gt;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4508640"/>
            <a:ext cx="632484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Żaden rolnik nie jest żeglarz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Wszyscy Rurytanie to rolni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Niemożliwy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Wszyscy członkowie gabinetu to złodzie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Żaden muzyk nie jest członkiem gabine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niosek: ... muzycy ??? złodziej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Test karciany (Wason 196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283600" cy="16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Na jednej stronie kart są cyfry, na drugiej liter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Które karty należy obrócić, by sprawdzić prawdziwość reguły: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jeśli jest samogłoska to cyfra jest parzyst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116000" y="3213000"/>
            <a:ext cx="6480360" cy="1434600"/>
            <a:chOff x="1116000" y="3213000"/>
            <a:chExt cx="6480360" cy="1434600"/>
          </a:xfrm>
        </p:grpSpPr>
        <p:sp>
          <p:nvSpPr>
            <p:cNvPr id="139" name=""/>
            <p:cNvSpPr/>
            <p:nvPr/>
          </p:nvSpPr>
          <p:spPr>
            <a:xfrm>
              <a:off x="1116000" y="3213000"/>
              <a:ext cx="1008000" cy="1434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8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44720" y="3213000"/>
              <a:ext cx="1008000" cy="1434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800" spc="-1" strike="noStrike">
                  <a:solidFill>
                    <a:srgbClr val="ffff00"/>
                  </a:solidFill>
                  <a:latin typeface="Arial"/>
                </a:rPr>
                <a:t>K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45080" y="3213000"/>
              <a:ext cx="1008000" cy="1434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>
              <a:hlinkClick r:id="rId1" action="ppaction://hlinksldjump"/>
            </p:cNvPr>
            <p:cNvSpPr/>
            <p:nvPr/>
          </p:nvSpPr>
          <p:spPr>
            <a:xfrm>
              <a:off x="6588000" y="3213000"/>
              <a:ext cx="1008360" cy="1434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800" spc="-1" strike="noStrike">
                  <a:solidFill>
                    <a:srgbClr val="ffff00"/>
                  </a:solidFill>
                  <a:latin typeface="Arial"/>
                </a:rPr>
                <a:t>7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4360" y="4941720"/>
            <a:ext cx="7848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Ile minimalnie kart trzeba przewrócić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staff.ncl.ac.uk/nikolas.lloyd/games/wason.html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Wariant Waso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125000"/>
            <a:ext cx="828360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W barze piją różni ludzie a nadchodzi policj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Przy stolikach mamy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Pijących gin, nieznany wie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Pijących sok pomarańczowy, nieznany wiek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Dorosły, nie wiadomo co pij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Młodociany, nie wiadomo co pij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116000" y="3789360"/>
            <a:ext cx="6480360" cy="1434600"/>
            <a:chOff x="1116000" y="3789360"/>
            <a:chExt cx="6480360" cy="1434600"/>
          </a:xfrm>
        </p:grpSpPr>
        <p:sp>
          <p:nvSpPr>
            <p:cNvPr id="147" name=""/>
            <p:cNvSpPr/>
            <p:nvPr/>
          </p:nvSpPr>
          <p:spPr>
            <a:xfrm>
              <a:off x="1116000" y="3789360"/>
              <a:ext cx="1008000" cy="1434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800" spc="-1" strike="noStrike">
                  <a:solidFill>
                    <a:srgbClr val="ffff00"/>
                  </a:solidFill>
                  <a:latin typeface="Arial"/>
                </a:rPr>
                <a:t>G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44720" y="3789360"/>
              <a:ext cx="1008000" cy="1434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800" spc="-1" strike="noStrike">
                  <a:solidFill>
                    <a:srgbClr val="ffff00"/>
                  </a:solidFill>
                  <a:latin typeface="Arial"/>
                </a:rPr>
                <a:t>S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45080" y="3789360"/>
              <a:ext cx="1008000" cy="1434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800" spc="-1" strike="noStrike">
                  <a:solidFill>
                    <a:srgbClr val="ffff00"/>
                  </a:solidFill>
                  <a:latin typeface="Arial"/>
                </a:rPr>
                <a:t>&gt;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88000" y="3789360"/>
              <a:ext cx="1008360" cy="1434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800" spc="-1" strike="noStrike">
                  <a:solidFill>
                    <a:srgbClr val="ffff00"/>
                  </a:solidFill>
                  <a:latin typeface="Arial"/>
                </a:rPr>
                <a:t>&lt;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84360" y="55897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Kogo trzeba sprawdzić by się upewnić, że tylko dorośli piją alkohol? Znacznie łatwiej jest zgadnąć w tej sytuacj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Arial"/>
              </a:rPr>
              <a:t>Co będz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6858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Gry planszowe.</a:t>
            </a:r>
            <a:br>
              <a:rPr sz="2400"/>
            </a:b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Szukanie i ludzkie myślenie.</a:t>
            </a:r>
            <a:br>
              <a:rPr sz="2400"/>
            </a:b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Paradoksy kognityw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Reprezentacja wiedzy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Martwić się czy ni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39240" cy="23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Załóżmy, że w Polsce 1 na 1000 osób ma wirusa HIV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Nowy test polegający na badaniu śliny, o dokładności 99.5%, wprowadzono do obowiązkowych badań okresowyc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Test wypadł pozytywni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Jakie jest prawdopodobieństwo, że osoba ma HIV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Paradoks Monty Hal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153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onty Hall Paradox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, czyli przykład złudzenia kognitywne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Stosowany np. w teleturnieju „idź na całość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Reguły zabaw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Mamy 3 kubk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i złota monetę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Wychodzisz z pokoju, ja pod jednym z kubków ukrywam monetę. Wracasz i wybierasz jeden z kubków.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Ja, wiedząc, pod którym jest moneta, odkrywam jeden z </a:t>
            </a:r>
            <a:r>
              <a:rPr b="0" lang="pl-PL" sz="2000" spc="-1" strike="noStrike">
                <a:solidFill>
                  <a:srgbClr val="ffff00"/>
                </a:solidFill>
                <a:latin typeface="Arial"/>
                <a:ea typeface="Arial"/>
              </a:rPr>
              <a:t>pustych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kubków. 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Masz teraz szansę zmienić swoją decyzję i pozostać przy już wybranym kubku lub wybrać pozostał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4876920"/>
            <a:ext cx="822960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Czy najlepszą strategią jes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zawsze trzymanie się pierwotnego wybor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zawsze zmian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czy przypadkowy wybó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Wnios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153640" cy="33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Myślenie jest rzeczą trudną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prościej jest używać schemató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Tylko w kontekście naturalnych sytuacji myślen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przychodzi nam łatw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419640" y="3789360"/>
            <a:ext cx="2286000" cy="1965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Warca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1952, Samuel, pierwszy program uczący się gry w warcaby.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1992, Chinook (J. Schaeffer, UoA) wygrywa US. Open.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rogram używa szukania </a:t>
            </a:r>
            <a:r>
              <a:rPr b="0" lang="pl-PL" sz="2000" spc="-1" strike="noStrike">
                <a:solidFill>
                  <a:srgbClr val="ffffff"/>
                </a:solidFill>
                <a:latin typeface="Symbol"/>
                <a:ea typeface="Symbol"/>
              </a:rPr>
              <a:t>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Symbo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Mistrzostwa człowiek-maszyna, Londyn 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r. Marion Tinsley, wygrał z Chinookiem 4-2, 33 remis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Użyto 8-proc. stacji Silicon Graphics 4D/480, 256 MB RAM, baza danych wszystkich końcówek z 1-7 figurami 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rawie połowa wszystkich partii z 8 figurami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1994, remis 1-1 i 18 remisów.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1995, wygrana Chinooka 1-0 i 31 remis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Użyto komputera SGI z 512 MB RA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Trik-trak, Othel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2105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Trik-trak (backgammon), popularny w Japonii.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Zawiera element niepewności (rzut kostką).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1980, program BKG wygrał raz z mistrzem świata.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1992, program Tesauro, techniki jak dla warcabów + uczenie się (sieć neuronowa) lepszych ocen, ranking wśród 3 najlepszych graczy.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1995,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Logistello zwycięż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mistrz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świata Takeshi Murakami do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6 do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!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rogram grał parę tygodni sam z sobą poprawiając swoje funkcje oceny heurystyczn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Mistrzowskie rezultaty w wielu grach osiągnięto dopiero w latach 199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Moc obliczeniowa to warunek konieczny, ale nie wystarczający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Szachy – ogóln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7850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Statyczna ocena sytuacji na planszy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liczb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figur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wartość figur,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położenie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figur, możliwości ruchów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Funkcja oceny: suma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obierz wsp.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ależność 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"/>
              </a:rPr>
              <a:t>liczb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"/>
              </a:rPr>
              <a:t>a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3"/>
              </a:rPr>
              <a:t> ruchów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4"/>
              </a:rPr>
              <a:t> - 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5"/>
              </a:rPr>
              <a:t>sił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6"/>
              </a:rPr>
              <a:t>a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progra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Mistrz świata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&gt;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2800 punktó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Przewidywania na: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5 pełnych ruchów (10 poziomów)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1500 punktó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Od 5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10 poziomów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mamy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200 p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poziom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Dla 10 ruchów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ok.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2500 punktów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Ok. 35 ruchów/poziom,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heurystyk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redukują to do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/poz;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la 1000 ocen/sek, 150 sek/ruch, b=35, ok. 3-4 ruchy - nowicjus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Zależność 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jakość-szybkość obliczeń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6443640" y="2133720"/>
            <a:ext cx="2409840" cy="2124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Szachy – obcinanie alfa-be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76960" cy="15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ffffff"/>
                </a:solidFill>
                <a:latin typeface="Arial"/>
              </a:rPr>
              <a:t>Strategia obcinania </a:t>
            </a:r>
            <a:r>
              <a:rPr b="0" lang="pl-PL" sz="2100" spc="-1" strike="noStrike">
                <a:solidFill>
                  <a:srgbClr val="ffffff"/>
                </a:solidFill>
                <a:latin typeface="Symbol"/>
                <a:ea typeface="Symbol"/>
              </a:rPr>
              <a:t></a:t>
            </a:r>
            <a:r>
              <a:rPr b="0" lang="pl-PL" sz="2100" spc="-1" strike="noStrike">
                <a:solidFill>
                  <a:srgbClr val="ffffff"/>
                </a:solidFill>
                <a:latin typeface="Arial"/>
              </a:rPr>
              <a:t>ignoruj mało obiecujące gałęzi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ffffff"/>
                </a:solidFill>
                <a:latin typeface="Symbol"/>
                <a:ea typeface="Symbol"/>
              </a:rPr>
              <a:t></a:t>
            </a:r>
            <a:r>
              <a:rPr b="0" lang="pl-PL" sz="2100" spc="-1" strike="noStrike">
                <a:solidFill>
                  <a:srgbClr val="ffffff"/>
                </a:solidFill>
                <a:latin typeface="Arial"/>
              </a:rPr>
              <a:t>kres dolny do oceny Max, </a:t>
            </a:r>
            <a:br>
              <a:rPr sz="2100"/>
            </a:br>
            <a:r>
              <a:rPr b="0" lang="pl-PL" sz="21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pl-PL" sz="2100" spc="-1" strike="noStrike">
                <a:solidFill>
                  <a:srgbClr val="ffffff"/>
                </a:solidFill>
                <a:latin typeface="Arial"/>
              </a:rPr>
              <a:t> – kres górny do oceny Min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1547640" y="3068640"/>
            <a:ext cx="5715000" cy="2908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Szachy - histori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5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0280" indent="-3502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1958, p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ierwszy program szachowy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Alex Bernstei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0">
              <a:spcBef>
                <a:spcPts val="499"/>
              </a:spcBef>
              <a:buNone/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Szkocki międzynarodowy mistrz szachowy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funduje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nagrod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ę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dla programu, który ogra go chociaż raz na cztery partie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1985 roku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rzegrał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wszystkie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cztery partie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0">
              <a:spcBef>
                <a:spcPts val="499"/>
              </a:spcBef>
              <a:buNone/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1985, HiTech wśród najlepszych 800 graczy,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oceniał ok. 10 mln pozycji, w 1988 roku wygrał z arcymistrz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0" algn="just">
              <a:spcBef>
                <a:spcPts val="499"/>
              </a:spcBef>
              <a:buNone/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Intel+IBM: szachy to dobra reklama.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1994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Chess Genius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na PC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Pentium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kilk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a razy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zwyciężył Gary Kasparova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; c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zas grania ograniczo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do 25 minut na zawodnika.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1996 – Deep Blue przegrał z Kasparowem 2: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1997 – Deep Blue wygrał 3.5:2.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2002 – program Deep Fritz na PC remisuje z Vladimirem Kramniki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0" algn="just">
              <a:spcBef>
                <a:spcPts val="499"/>
              </a:spcBef>
              <a:buNone/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rzez 2 miesiące Kramink trenował z programem Deep Frit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Deep Thought i Deep 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eep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T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hought,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od 1985 roku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4 studentów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z USA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(T. Hsu, T. Anantharaman, M. Campbell, A. Nowatzyk)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rogram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Deep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Blue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(nowsze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Deep Thought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hardware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do gry w szachy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32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procesor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IBM RS6000/SP2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256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AS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Ocenia 200-1000 milionów pozycj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sek!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uża b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ibliotek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otwarć i końców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Deep Thought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– szukanie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alfa-beta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ok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10 ruchów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w skomplikowanych sytuacja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eep Blue - ok.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14 ruchów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3000 punktów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pobił Kasparova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Reakcja prasy – potworna szybkość i pamięć zwyciężył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Mózg: 10.000 razy 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iększa pamięć/szybkość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więc to uwagi bez sensu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Moc już nadchodz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i będzie z nami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Ostatni mecz 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4322880" cy="28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Kasporov vs. X3D Deep Fritz jun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Nowy Jork, listopad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Mecz zakończył się remisem; główną atrakcją była gra w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wirtualnej rzeczywistości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Komputer, na którym zainstalowany był program Fritz był około 100 raz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003640" y="1052640"/>
            <a:ext cx="3427560" cy="2504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11280" y="4005360"/>
            <a:ext cx="806436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wolniejszy niż Deep Blue i do tego zajęty generowaniem obrazu w 3 wymiarach, nic więc dziwnego, że mecz zakończył się remis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PC stoi w kącie ... następny taki mecz odbędzie się z programem działającym w telefonie 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0:23:55Z</dcterms:created>
  <dc:creator>W. Duch</dc:creator>
  <dc:description/>
  <dc:language>en-US</dc:language>
  <cp:lastModifiedBy>W. Duch</cp:lastModifiedBy>
  <dcterms:modified xsi:type="dcterms:W3CDTF">2007-05-16T13:09:44Z</dcterms:modified>
  <cp:revision>89</cp:revision>
  <dc:subject/>
  <dc:title>Szukanie, gry i ludzkie myślenie</dc:title>
</cp:coreProperties>
</file>