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d3a1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3280" y="480960"/>
            <a:ext cx="8640720" cy="12924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1773360"/>
            <a:ext cx="503280" cy="508464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1440" y="-19080"/>
            <a:ext cx="234144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630440"/>
            <a:ext cx="1660680" cy="5235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55640" y="1628640"/>
            <a:ext cx="7524720" cy="522936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71280" y="2130120"/>
            <a:ext cx="7093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-17640"/>
            <a:ext cx="7742160" cy="164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Założenia projektowe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8 piętrowy hot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na parterze znajduje się kasyn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na 7 piętrze znajduje się restauracj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2 systemy wi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4 windy 8-mio osobow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2 windy 20-sto osobow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Badane algorytm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last flo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next flo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Wnioski symulacji instalacji wind opartej na algorytmie </a:t>
            </a:r>
            <a:r>
              <a:rPr b="1" i="1" lang="pl-PL" sz="3200" spc="-1" strike="noStrike">
                <a:solidFill>
                  <a:srgbClr val="ffebd5"/>
                </a:solidFill>
                <a:latin typeface="Trebuchet MS"/>
              </a:rPr>
              <a:t>next floor</a:t>
            </a:r>
            <a:endParaRPr b="1" lang="en-US" sz="32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Średni czas oczekiwania na windę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rzewaga instalacji wind 8-osobowych niezależnie od ilości wind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nstalując 4 windy 8-osobowe zyskujemy ok. 45% czasu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aksymalny czas oczekiwania na windę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raz ze wzrostem liczby wind maleje przewaga systemu wind z kabinami 8-osobowymi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rzy instalacji 2 wind 20-osobowych tracimy w krytycznych warunkach 300 sekund (90% czasu dla 4 kabin 8-osobowych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iczba ruchów pomiędzy sąsiednimi piętrami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Dla systemu 2-windowego pomniejszamy liczbę ruchów o 30%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"/>
          <p:cNvSpPr/>
          <p:nvPr/>
        </p:nvSpPr>
        <p:spPr>
          <a:xfrm>
            <a:off x="-7086960" y="2619720"/>
            <a:ext cx="2331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Hi!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Can you send me this items to Europe by USPS Airmail or EMS? I'm honest and fast paying person - check my feedbacks. I hope it won't be problem to mark parcel as a gift and write lower value?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best regards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Piotr Komoniewsk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www.komoniewski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bd5"/>
                </a:solidFill>
                <a:latin typeface="Trebuchet MS"/>
              </a:rPr>
              <a:t>Zestawienie wyników badanych rozwiązań</a:t>
            </a:r>
            <a:endParaRPr b="1" lang="en-US" sz="32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Dla wygody użytkownika wybieramy system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4 wind 8-osobowych sterownych alg. </a:t>
            </a:r>
            <a:r>
              <a:rPr b="0" i="1" lang="pl-PL" sz="2800" spc="-1" strike="noStrike">
                <a:solidFill>
                  <a:srgbClr val="000000"/>
                </a:solidFill>
                <a:latin typeface="Trebuchet MS"/>
              </a:rPr>
              <a:t>next flo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Od strony ekonomicznej wybieramy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2 wind 20-osobowych sterownych alg. Last flo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4160880"/>
          <a:ext cx="8424720" cy="2490840"/>
        </p:xfrm>
        <a:graphic>
          <a:graphicData uri="http://schemas.openxmlformats.org/drawingml/2006/table">
            <a:tbl>
              <a:tblPr/>
              <a:tblGrid>
                <a:gridCol w="3024000"/>
                <a:gridCol w="1297080"/>
                <a:gridCol w="1368360"/>
                <a:gridCol w="1332000"/>
                <a:gridCol w="140328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st flo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xt flo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st flo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xt flo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yterium</a:t>
                      </a:r>
                      <a:r>
                        <a:rPr b="0" lang="pl-PL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\</a:t>
                      </a:r>
                      <a:r>
                        <a:rPr b="1" lang="pl-PL" sz="3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</a:t>
                      </a:r>
                      <a:r>
                        <a:rPr b="0" lang="pl-PL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x 8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x 20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x 8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x 20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Śred. czas oczekiwania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00"/>
                          </a:solidFill>
                          <a:latin typeface="Arial"/>
                          <a:ea typeface="Times New Roman"/>
                        </a:rPr>
                        <a:t>2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2213"/>
                          </a:solidFill>
                          <a:latin typeface="Arial"/>
                          <a:ea typeface="Times New Roman"/>
                        </a:rPr>
                        <a:t>4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ks. czas oczekiw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00"/>
                          </a:solidFill>
                          <a:latin typeface="Arial"/>
                          <a:ea typeface="Times New Roman"/>
                        </a:rPr>
                        <a:t>350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4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2213"/>
                          </a:solidFill>
                          <a:latin typeface="Arial"/>
                          <a:ea typeface="Times New Roman"/>
                        </a:rPr>
                        <a:t>649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czba ruchów wi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50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00"/>
                          </a:solidFill>
                          <a:latin typeface="Arial"/>
                          <a:ea typeface="Times New Roman"/>
                        </a:rPr>
                        <a:t>1687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2213"/>
                          </a:solidFill>
                          <a:latin typeface="Arial"/>
                          <a:ea typeface="Times New Roman"/>
                        </a:rPr>
                        <a:t>2673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266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Trebuchet MS"/>
              </a:rPr>
              <a:t>Dane wejściowe</a:t>
            </a:r>
            <a:endParaRPr b="1" lang="en-US" sz="36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Ilość pięter = 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Średni czas przejazdu windy pomiędzy piętrami = 2 se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Średni czas postoju niepustej windy na piętrze = 5 se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Maksymalna liczba oczekujących na windę = 4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Średnia liczba zgłoszeń na min na parterze = 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Częstotliwość odwiedzania parteru = 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Średnia liczba zgłoszeń na min na ostatnim piętrze =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Częstotliwość odwiedzania ostatniego piętra = 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Czas symulacji = 12 godzi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Ilość wi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Max liczba pasażerów w windzi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977080" y="5823000"/>
          <a:ext cx="1979640" cy="911160"/>
        </p:xfrm>
        <a:graphic>
          <a:graphicData uri="http://schemas.openxmlformats.org/drawingml/2006/table">
            <a:tbl>
              <a:tblPr/>
              <a:tblGrid>
                <a:gridCol w="990360"/>
                <a:gridCol w="989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Badania średniego czasu oczekiwania</a:t>
            </a:r>
            <a:br>
              <a:rPr sz="3200"/>
            </a:b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Sterowanie algorytmem </a:t>
            </a:r>
            <a:r>
              <a:rPr b="1" i="1" lang="pl-PL" sz="3200" spc="-1" strike="noStrike">
                <a:solidFill>
                  <a:srgbClr val="ffebd5"/>
                </a:solidFill>
                <a:latin typeface="Trebuchet MS"/>
              </a:rPr>
              <a:t>last floor</a:t>
            </a:r>
            <a:endParaRPr b="1" lang="en-US" sz="32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20880" y="1881360"/>
            <a:ext cx="7804080" cy="4860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Badania maksymalnego czasu oczekiwania</a:t>
            </a:r>
            <a:br>
              <a:rPr sz="3200"/>
            </a:b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Sterowanie algorytmem </a:t>
            </a:r>
            <a:r>
              <a:rPr b="1" i="1" lang="pl-PL" sz="3200" spc="-1" strike="noStrike">
                <a:solidFill>
                  <a:srgbClr val="ffebd5"/>
                </a:solidFill>
                <a:latin typeface="Trebuchet MS"/>
              </a:rPr>
              <a:t>last floor</a:t>
            </a:r>
            <a:endParaRPr b="1" lang="en-US" sz="32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20880" y="1881360"/>
            <a:ext cx="7804080" cy="4860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Liczba ruchów windy pomiędzy piętrami</a:t>
            </a:r>
            <a:br>
              <a:rPr sz="3200"/>
            </a:b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Sterowanie algorytmem </a:t>
            </a:r>
            <a:r>
              <a:rPr b="1" i="1" lang="pl-PL" sz="3200" spc="-1" strike="noStrike">
                <a:solidFill>
                  <a:srgbClr val="ffebd5"/>
                </a:solidFill>
                <a:latin typeface="Trebuchet MS"/>
              </a:rPr>
              <a:t>last floor</a:t>
            </a:r>
            <a:endParaRPr b="1" lang="en-US" sz="32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20880" y="1881360"/>
            <a:ext cx="7804080" cy="4860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Wnioski symulacji instalacji wind opartej na algorytmie </a:t>
            </a:r>
            <a:r>
              <a:rPr b="1" i="1" lang="pl-PL" sz="3200" spc="-1" strike="noStrike">
                <a:solidFill>
                  <a:srgbClr val="ffebd5"/>
                </a:solidFill>
                <a:latin typeface="Trebuchet MS"/>
              </a:rPr>
              <a:t>last floor</a:t>
            </a:r>
            <a:endParaRPr b="1" lang="en-US" sz="3200" spc="-1" strike="noStrike">
              <a:solidFill>
                <a:srgbClr val="ffebd5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Średni czas oczekiwania na windę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Ze wzrostem liczby wind rośnie przewaga systemu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4 wind 8-osobowych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tosując powyższy system zyskujemy ok. 25% czasu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aksymalny czas oczekiwania na windę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Duże znaczenie ma pojemność windy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rzy instalacji wind 20-osobowych powyżej 2 wind występuje niewielki zysk reżimów czasowych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rzy instalacji 2 wind 20-osobowych zyskujemy 70 sekund a więc 20% z maks. Czasu oczekiwania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iczba ruchów pomiędzy sąsiednimi piętrami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Dla systemu 2-windowego pomniejszamy liczbę ruchów o 30%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Badania średniego czasu oczekiwania</a:t>
            </a:r>
            <a:br>
              <a:rPr sz="3200"/>
            </a:b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Sterowanie algorytmem </a:t>
            </a:r>
            <a:r>
              <a:rPr b="1" i="1" lang="pl-PL" sz="3200" spc="-1" strike="noStrike">
                <a:solidFill>
                  <a:srgbClr val="ffebd5"/>
                </a:solidFill>
                <a:latin typeface="Trebuchet MS"/>
              </a:rPr>
              <a:t>next floor</a:t>
            </a:r>
            <a:endParaRPr b="1" lang="en-US" sz="32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9080" y="1881360"/>
            <a:ext cx="7809120" cy="4860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Badania maksymalnego czasu oczekiwania</a:t>
            </a:r>
            <a:br>
              <a:rPr sz="3200"/>
            </a:b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Sterowanie algorytmem </a:t>
            </a:r>
            <a:r>
              <a:rPr b="1" i="1" lang="pl-PL" sz="3200" spc="-1" strike="noStrike">
                <a:solidFill>
                  <a:srgbClr val="ffebd5"/>
                </a:solidFill>
                <a:latin typeface="Trebuchet MS"/>
              </a:rPr>
              <a:t>next floor</a:t>
            </a:r>
            <a:endParaRPr b="1" lang="en-US" sz="32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9080" y="1881360"/>
            <a:ext cx="7809120" cy="4860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Liczba ruchów windy pomiędzy piętrami</a:t>
            </a:r>
            <a:br>
              <a:rPr sz="3200"/>
            </a:br>
            <a:r>
              <a:rPr b="1" lang="pl-PL" sz="3200" spc="-1" strike="noStrike">
                <a:solidFill>
                  <a:srgbClr val="ffebd5"/>
                </a:solidFill>
                <a:latin typeface="Trebuchet MS"/>
              </a:rPr>
              <a:t>Sterowanie algorytmem </a:t>
            </a:r>
            <a:r>
              <a:rPr b="1" i="1" lang="pl-PL" sz="3200" spc="-1" strike="noStrike">
                <a:solidFill>
                  <a:srgbClr val="ffebd5"/>
                </a:solidFill>
                <a:latin typeface="Trebuchet MS"/>
              </a:rPr>
              <a:t>next floor</a:t>
            </a:r>
            <a:endParaRPr b="1" lang="en-US" sz="3200" spc="-1" strike="noStrike">
              <a:solidFill>
                <a:srgbClr val="ffebd5"/>
              </a:solidFill>
              <a:latin typeface="Trebuchet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9080" y="1881360"/>
            <a:ext cx="7809120" cy="4860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07:14:46Z</dcterms:created>
  <dc:creator>rumburak</dc:creator>
  <dc:description/>
  <dc:language>en-US</dc:language>
  <cp:lastModifiedBy>PiTER</cp:lastModifiedBy>
  <dcterms:modified xsi:type="dcterms:W3CDTF">2007-01-17T22:33:36Z</dcterms:modified>
  <cp:revision>13</cp:revision>
  <dc:subject/>
  <dc:title>Slajd 1</dc:title>
</cp:coreProperties>
</file>