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199-162E-4077-A1CC-ADE83A7C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385-0C25-44FC-8345-CC924A84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354-5422-4362-8370-B49BD5D9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FEE-93FC-450F-A25E-81322232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551-A80D-41C3-B48F-62AE1523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FA3-33C4-48B4-AC8F-47027846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361-A884-4211-94CD-65015026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DBA-5532-48F3-B629-5D1FB16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868-8D23-408C-84FA-0E5E7791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37E-EACB-4C40-9D97-EDCDC353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3B4-FCA9-4C8D-97C9-6BEEC49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3ED-6FB1-4803-B4BB-25C1D98C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5B98-BE7E-47E9-9F40-3D7C73A34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5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0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8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8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4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7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69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64160" y="3840120"/>
            <a:ext cx="8660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8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0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51080" y="268200"/>
            <a:ext cx="8149680" cy="5752440"/>
            <a:chOff x="451080" y="268200"/>
            <a:chExt cx="8149680" cy="5752440"/>
          </a:xfrm>
        </p:grpSpPr>
        <p:sp>
          <p:nvSpPr>
            <p:cNvPr id="302" name=""/>
            <p:cNvSpPr/>
            <p:nvPr/>
          </p:nvSpPr>
          <p:spPr>
            <a:xfrm>
              <a:off x="451080" y="268200"/>
              <a:ext cx="814968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pl-P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  znając struktur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5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7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8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8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8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8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9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4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60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2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3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5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70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5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1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3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6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6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”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, poniewa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936360" y="2550960"/>
            <a:ext cx="7282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spełnieniu w/w warunku układ selektywny można przekształc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477120" y="436104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6504120" y="3251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724640" y="3433680"/>
            <a:ext cx="469080" cy="734040"/>
            <a:chOff x="4724640" y="3433680"/>
            <a:chExt cx="469080" cy="734040"/>
          </a:xfrm>
        </p:grpSpPr>
        <p:sp>
          <p:nvSpPr>
            <p:cNvPr id="641" name=""/>
            <p:cNvSpPr/>
            <p:nvPr/>
          </p:nvSpPr>
          <p:spPr>
            <a:xfrm>
              <a:off x="4724640" y="343368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</a:t>
              </a:r>
              <a:r>
                <a:rPr b="1" lang="en-US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26800" y="37688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162160" y="2817720"/>
                <a:ext cx="35053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398680" y="4267080"/>
                <a:ext cx="3129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71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3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8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703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8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ś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9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40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5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60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61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9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11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5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8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1" name=""/>
          <p:cNvSpPr/>
          <p:nvPr/>
        </p:nvSpPr>
        <p:spPr>
          <a:xfrm>
            <a:off x="7209360" y="186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69560" y="452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9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72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91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81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7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2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6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60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7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7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35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9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2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2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5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3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3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0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14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15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1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9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5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8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976680" y="2728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Colpitssa-Pierce’a na bramkach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rot="5400000">
            <a:off x="2757600" y="2735280"/>
            <a:ext cx="10569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767040" y="3105000"/>
            <a:ext cx="158760" cy="15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925800" y="3197160"/>
            <a:ext cx="14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990800" y="3197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55080" y="2968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0800000">
            <a:off x="4346280" y="334944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25840" y="3197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25840" y="3807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095720" y="316404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1788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0976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057480" y="4264200"/>
            <a:ext cx="11592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09760" y="4416480"/>
            <a:ext cx="12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90800" y="4416480"/>
            <a:ext cx="10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1990800" y="3196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5400000">
            <a:off x="3048480" y="37393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2400" y="3959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124160" y="3196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90800" y="3959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57320" y="393372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1899720" y="4645080"/>
            <a:ext cx="228600" cy="77760"/>
            <a:chOff x="1899720" y="4645080"/>
            <a:chExt cx="228600" cy="77760"/>
          </a:xfrm>
        </p:grpSpPr>
        <p:sp>
          <p:nvSpPr>
            <p:cNvPr id="1659" name=""/>
            <p:cNvSpPr/>
            <p:nvPr/>
          </p:nvSpPr>
          <p:spPr>
            <a:xfrm flipH="1">
              <a:off x="189972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189972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99080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6848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99080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4331880" y="4645080"/>
            <a:ext cx="228600" cy="77760"/>
            <a:chOff x="4331880" y="4645080"/>
            <a:chExt cx="228600" cy="77760"/>
          </a:xfrm>
        </p:grpSpPr>
        <p:sp>
          <p:nvSpPr>
            <p:cNvPr id="1665" name=""/>
            <p:cNvSpPr/>
            <p:nvPr/>
          </p:nvSpPr>
          <p:spPr>
            <a:xfrm flipH="1">
              <a:off x="433188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33188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442584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0064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30704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442584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389480" y="3156120"/>
            <a:ext cx="54000" cy="53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7488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97160" y="2496960"/>
            <a:ext cx="7164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3232080" y="25873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122640" y="371628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3246480" y="3501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34320" y="21304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255640" y="2282760"/>
            <a:ext cx="2682360" cy="2209680"/>
            <a:chOff x="5255640" y="2282760"/>
            <a:chExt cx="2682360" cy="2209680"/>
          </a:xfrm>
        </p:grpSpPr>
        <p:sp>
          <p:nvSpPr>
            <p:cNvPr id="1679" name=""/>
            <p:cNvSpPr/>
            <p:nvPr/>
          </p:nvSpPr>
          <p:spPr>
            <a:xfrm>
              <a:off x="6937560" y="321948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56640" y="417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2120" y="4478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7005960" y="4263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7005960" y="3349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26000" y="35784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5400000">
              <a:off x="5257800" y="281124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67600" y="3181320"/>
              <a:ext cx="158760" cy="158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5640" y="3044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8680" y="326232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62800" y="37162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5786640" y="3501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37320" y="257328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5776920" y="265716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74480" y="22827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1952640" y="3959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 M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387680" y="388296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00 kO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69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6231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55560" y="942840"/>
            <a:ext cx="4516560" cy="5356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805680" y="1441440"/>
            <a:ext cx="1334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80520" y="1527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17760" y="2028960"/>
            <a:ext cx="2770200" cy="2260440"/>
          </a:xfrm>
          <a:custGeom>
            <a:avLst/>
            <a:gdLst/>
            <a:ahLst/>
            <a:rect l="l" t="t" r="r" b="b"/>
            <a:pathLst>
              <a:path w="1745" h="1424">
                <a:moveTo>
                  <a:pt x="922" y="0"/>
                </a:moveTo>
                <a:cubicBezTo>
                  <a:pt x="999" y="34"/>
                  <a:pt x="1254" y="97"/>
                  <a:pt x="1379" y="203"/>
                </a:cubicBezTo>
                <a:cubicBezTo>
                  <a:pt x="1504" y="309"/>
                  <a:pt x="1616" y="474"/>
                  <a:pt x="1670" y="639"/>
                </a:cubicBezTo>
                <a:cubicBezTo>
                  <a:pt x="1724" y="804"/>
                  <a:pt x="1745" y="1071"/>
                  <a:pt x="1701" y="1192"/>
                </a:cubicBezTo>
                <a:cubicBezTo>
                  <a:pt x="1657" y="1313"/>
                  <a:pt x="1637" y="1333"/>
                  <a:pt x="1405" y="1364"/>
                </a:cubicBezTo>
                <a:cubicBezTo>
                  <a:pt x="1173" y="1395"/>
                  <a:pt x="540" y="1424"/>
                  <a:pt x="311" y="1379"/>
                </a:cubicBezTo>
                <a:cubicBezTo>
                  <a:pt x="82" y="1334"/>
                  <a:pt x="66" y="1214"/>
                  <a:pt x="33" y="1091"/>
                </a:cubicBezTo>
                <a:cubicBezTo>
                  <a:pt x="0" y="968"/>
                  <a:pt x="65" y="762"/>
                  <a:pt x="116" y="639"/>
                </a:cubicBezTo>
                <a:cubicBezTo>
                  <a:pt x="167" y="516"/>
                  <a:pt x="253" y="429"/>
                  <a:pt x="338" y="351"/>
                </a:cubicBezTo>
                <a:cubicBezTo>
                  <a:pt x="423" y="273"/>
                  <a:pt x="532" y="229"/>
                  <a:pt x="627" y="172"/>
                </a:cubicBezTo>
                <a:cubicBezTo>
                  <a:pt x="722" y="115"/>
                  <a:pt x="810" y="60"/>
                  <a:pt x="905" y="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262960" y="1765440"/>
            <a:ext cx="2113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linearyzowana bram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o rezystorów (elementy sprzęgające) 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Buttlera-Colpittsa a),       Buttlera-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705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7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709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2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0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2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0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2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8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2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9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8" name=""/>
          <p:cNvGrpSpPr/>
          <p:nvPr/>
        </p:nvGrpSpPr>
        <p:grpSpPr>
          <a:xfrm>
            <a:off x="1952640" y="2044800"/>
            <a:ext cx="4272480" cy="1689120"/>
            <a:chOff x="1952640" y="2044800"/>
            <a:chExt cx="4272480" cy="1689120"/>
          </a:xfrm>
        </p:grpSpPr>
        <p:sp>
          <p:nvSpPr>
            <p:cNvPr id="1829" name=""/>
            <p:cNvSpPr/>
            <p:nvPr/>
          </p:nvSpPr>
          <p:spPr>
            <a:xfrm>
              <a:off x="23367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367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19240" y="29718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653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3367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800000">
              <a:off x="30985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565360" y="2666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7484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019240" y="35053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74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3941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941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3696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227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3941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10800000">
              <a:off x="51559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62276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232240" y="26668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2276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322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17484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4508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3696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84680" y="2819520"/>
              <a:ext cx="115920" cy="2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537000" y="2971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556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0800000">
              <a:off x="1952640" y="3079800"/>
              <a:ext cx="122400" cy="3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019240" y="34290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2019240" y="29718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784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53368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9252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47840" y="2630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51000" y="37339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1748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07040" y="2633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0836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8468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84680" y="2133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23224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19240" y="2133720"/>
              <a:ext cx="16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01924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08080" y="29289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537160" y="2619360"/>
              <a:ext cx="7164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38960" y="34653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5559480" y="27428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13120" y="28335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95880" y="34732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16760" y="285840"/>
            <a:ext cx="77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w tzw. układzie aperiodycz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2080" y="113184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wytwarzają przebiegi niesinusoidalne - prostokątn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1920" y="3824280"/>
            <a:ext cx="7391880" cy="2440080"/>
            <a:chOff x="691920" y="3824280"/>
            <a:chExt cx="7391880" cy="2440080"/>
          </a:xfrm>
        </p:grpSpPr>
        <p:sp>
          <p:nvSpPr>
            <p:cNvPr id="1880" name=""/>
            <p:cNvSpPr/>
            <p:nvPr/>
          </p:nvSpPr>
          <p:spPr>
            <a:xfrm rot="5400000">
              <a:off x="2903400" y="442872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913200" y="479880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071960" y="4890960"/>
              <a:ext cx="14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00880" y="4662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rot="10800000">
              <a:off x="4479480" y="5043240"/>
              <a:ext cx="158760" cy="44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572000" y="4890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572000" y="5500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6368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592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3280" y="5957640"/>
              <a:ext cx="11592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55920" y="6109920"/>
              <a:ext cx="34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36600" y="610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2111400" y="48906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35280" y="48495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42960" y="4190760"/>
              <a:ext cx="7164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377880" y="4280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6844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3392280" y="51955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80120" y="382428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530360" y="48909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83360" y="49129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02440" y="58672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27560" y="6171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7151400" y="595764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7151400" y="504324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71800" y="527184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5400000">
              <a:off x="5403960" y="45050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13400" y="487512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1440" y="47383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94480" y="495612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80860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5932440" y="519552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83120" y="42670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5922720" y="43509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9765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92480" y="55638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6852960" y="4960440"/>
              <a:ext cx="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33880" y="49384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0640" y="4884480"/>
              <a:ext cx="0" cy="84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93760" y="48369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0800000">
              <a:off x="1451880" y="4984560"/>
              <a:ext cx="158760" cy="44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14440" y="57304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87760" y="5846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1920" y="586548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926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927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931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940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941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4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5-01-13T14:53:23Z</dcterms:modified>
  <cp:revision>83</cp:revision>
  <dc:subject/>
  <dc:title>Generatory LC</dc:title>
</cp:coreProperties>
</file>