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32AE-DFA6-4365-94EE-FB76B9C33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8BAE-30EB-401B-9542-2EA61403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09CB-CF7D-46B5-A08F-AF815F201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A670-9B20-4290-A789-45FC4CA4D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C6BF-07BF-458B-8B8B-F7387D2A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E082-941F-4E1A-9668-148B94E0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3D1C-EA79-4BB1-BDDF-E90F40A9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B9AF-0B4E-45DC-9F3F-70B589DF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8A58-3EB1-4616-84B1-D32BF1A9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AE42-BA80-4D2A-9CD1-15A79A7D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19B5-37F5-47C1-A7A2-32A40821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EF06-4F8D-40FD-B624-279292CD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68EA-8F68-4496-AB0E-FBD7272E4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zmacniacze prądu stałe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220680" y="4317840"/>
            <a:ext cx="8748720" cy="123696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89680" y="746280"/>
            <a:ext cx="7945560" cy="947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yft jest zjawiskiem szkodliwym, szczególnie pr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łych poziomach sygnałów i dużych wzmocnieni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561960" y="4643280"/>
                <a:ext cx="82947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 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 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+ 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= 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3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 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1855800" y="2825640"/>
            <a:ext cx="1886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2084400" y="2697120"/>
            <a:ext cx="228240" cy="259920"/>
            <a:chOff x="2084400" y="2697120"/>
            <a:chExt cx="228240" cy="259920"/>
          </a:xfrm>
        </p:grpSpPr>
        <p:sp>
          <p:nvSpPr>
            <p:cNvPr id="401" name=""/>
            <p:cNvSpPr/>
            <p:nvPr/>
          </p:nvSpPr>
          <p:spPr>
            <a:xfrm>
              <a:off x="2084400" y="2697120"/>
              <a:ext cx="228240" cy="259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42000" y="2826360"/>
              <a:ext cx="114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2198160" y="2761200"/>
              <a:ext cx="57960" cy="6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2198160" y="2826360"/>
              <a:ext cx="57960" cy="6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1855800" y="3807000"/>
            <a:ext cx="1886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841400" y="2752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841400" y="3733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827440" y="2697120"/>
            <a:ext cx="630000" cy="123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736800" y="2825640"/>
            <a:ext cx="1889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3965400" y="2697120"/>
            <a:ext cx="228240" cy="259920"/>
            <a:chOff x="3965400" y="2697120"/>
            <a:chExt cx="228240" cy="259920"/>
          </a:xfrm>
        </p:grpSpPr>
        <p:sp>
          <p:nvSpPr>
            <p:cNvPr id="411" name=""/>
            <p:cNvSpPr/>
            <p:nvPr/>
          </p:nvSpPr>
          <p:spPr>
            <a:xfrm>
              <a:off x="3965400" y="2697120"/>
              <a:ext cx="228240" cy="259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023360" y="2826360"/>
              <a:ext cx="1137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4078800" y="2761200"/>
              <a:ext cx="57960" cy="6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4078800" y="2826360"/>
              <a:ext cx="57960" cy="6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3736800" y="3807000"/>
            <a:ext cx="1889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708440" y="2697120"/>
            <a:ext cx="630360" cy="123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619600" y="2825640"/>
            <a:ext cx="1887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5848200" y="2697120"/>
            <a:ext cx="228240" cy="259920"/>
            <a:chOff x="5848200" y="2697120"/>
            <a:chExt cx="228240" cy="259920"/>
          </a:xfrm>
        </p:grpSpPr>
        <p:sp>
          <p:nvSpPr>
            <p:cNvPr id="419" name=""/>
            <p:cNvSpPr/>
            <p:nvPr/>
          </p:nvSpPr>
          <p:spPr>
            <a:xfrm>
              <a:off x="5848200" y="2697120"/>
              <a:ext cx="228240" cy="259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906160" y="2826360"/>
              <a:ext cx="1141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flipV="1">
              <a:off x="5961960" y="2761200"/>
              <a:ext cx="57960" cy="6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5961960" y="2826360"/>
              <a:ext cx="57960" cy="6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5619600" y="3807000"/>
            <a:ext cx="1887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91240" y="2697120"/>
            <a:ext cx="630360" cy="123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889160" y="3078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089160" y="3078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71960" y="3078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51880" y="3246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052240" y="3246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935040" y="3246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508880" y="3051000"/>
            <a:ext cx="1440" cy="5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7426080" y="3051000"/>
            <a:ext cx="8244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508880" y="3051000"/>
            <a:ext cx="81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488360" y="2752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488360" y="3733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55840" y="2975040"/>
            <a:ext cx="99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782840" y="2927520"/>
            <a:ext cx="108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919160" y="3032280"/>
            <a:ext cx="53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82880" y="2990880"/>
            <a:ext cx="53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653080" y="2989440"/>
            <a:ext cx="53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niejszanie dryf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720" y="1752480"/>
            <a:ext cx="8159760" cy="3751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Dryftów nie da się wyeliminować całkowic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Stosowanie ujemnych sprzężeń zwrotnych zmniejs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yft wzmocnienia i zmniejsza zmiany punktów pr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Kompensacja termiczna w obwodach zasilania tranzys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większa stałość punktów pr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Stosowanie układów kompensujących dryf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zmacniacze różnicow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wzmacniaczy prądu stał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132920" y="2751120"/>
            <a:ext cx="6930360" cy="137376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Wzmacniacze z przetwarzan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Wzmacniacze o sprzężeniach galwanicz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z przetwarzan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25440" y="2060640"/>
            <a:ext cx="8490960" cy="3200400"/>
            <a:chOff x="325440" y="2060640"/>
            <a:chExt cx="8490960" cy="3200400"/>
          </a:xfrm>
        </p:grpSpPr>
        <p:sp>
          <p:nvSpPr>
            <p:cNvPr id="447" name=""/>
            <p:cNvSpPr/>
            <p:nvPr/>
          </p:nvSpPr>
          <p:spPr>
            <a:xfrm>
              <a:off x="4745160" y="2212920"/>
              <a:ext cx="1219320" cy="129564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059360" y="2670120"/>
              <a:ext cx="76320" cy="304920"/>
              <a:chOff x="4059360" y="2670120"/>
              <a:chExt cx="76320" cy="304920"/>
            </a:xfrm>
          </p:grpSpPr>
          <p:sp>
            <p:nvSpPr>
              <p:cNvPr id="449" name=""/>
              <p:cNvSpPr/>
              <p:nvPr/>
            </p:nvSpPr>
            <p:spPr>
              <a:xfrm>
                <a:off x="4059360" y="267012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135680" y="267012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478080" y="526104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555040" y="2746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325440" y="4118040"/>
              <a:ext cx="609480" cy="609480"/>
              <a:chOff x="325440" y="4118040"/>
              <a:chExt cx="609480" cy="609480"/>
            </a:xfrm>
          </p:grpSpPr>
          <p:sp>
            <p:nvSpPr>
              <p:cNvPr id="454" name=""/>
              <p:cNvSpPr/>
              <p:nvPr/>
            </p:nvSpPr>
            <p:spPr>
              <a:xfrm>
                <a:off x="325440" y="411804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V="1">
                <a:off x="630360" y="426996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2382840" y="4118040"/>
              <a:ext cx="609840" cy="609480"/>
              <a:chOff x="2382840" y="4118040"/>
              <a:chExt cx="609840" cy="609480"/>
            </a:xfrm>
          </p:grpSpPr>
          <p:sp>
            <p:nvSpPr>
              <p:cNvPr id="457" name=""/>
              <p:cNvSpPr/>
              <p:nvPr/>
            </p:nvSpPr>
            <p:spPr>
              <a:xfrm>
                <a:off x="2382840" y="4118040"/>
                <a:ext cx="60984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459160" y="4346640"/>
                <a:ext cx="457200" cy="15228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96"/>
                    </a:moveTo>
                    <a:lnTo>
                      <a:pt x="48" y="96"/>
                    </a:lnTo>
                    <a:lnTo>
                      <a:pt x="48" y="0"/>
                    </a:lnTo>
                    <a:lnTo>
                      <a:pt x="96" y="0"/>
                    </a:lnTo>
                    <a:lnTo>
                      <a:pt x="96" y="96"/>
                    </a:lnTo>
                    <a:lnTo>
                      <a:pt x="144" y="96"/>
                    </a:lnTo>
                    <a:lnTo>
                      <a:pt x="144" y="0"/>
                    </a:lnTo>
                    <a:lnTo>
                      <a:pt x="192" y="0"/>
                    </a:lnTo>
                    <a:lnTo>
                      <a:pt x="192" y="96"/>
                    </a:lnTo>
                    <a:lnTo>
                      <a:pt x="240" y="96"/>
                    </a:lnTo>
                    <a:lnTo>
                      <a:pt x="240" y="0"/>
                    </a:lnTo>
                    <a:lnTo>
                      <a:pt x="288" y="0"/>
                    </a:lnTo>
                    <a:lnTo>
                      <a:pt x="288" y="9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1849680" y="2517840"/>
              <a:ext cx="175248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D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30360" y="2822760"/>
              <a:ext cx="1219320" cy="457200"/>
            </a:xfrm>
            <a:custGeom>
              <a:avLst/>
              <a:gdLst/>
              <a:ahLst/>
              <a:rect l="l" t="t" r="r" b="b"/>
              <a:pathLst>
                <a:path w="768" h="288">
                  <a:moveTo>
                    <a:pt x="0" y="288"/>
                  </a:moveTo>
                  <a:lnTo>
                    <a:pt x="0" y="0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2687760" y="3431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30360" y="47275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35480" y="51847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687760" y="4727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135680" y="28227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602160" y="2822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421680" y="2365560"/>
              <a:ext cx="175248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174160" y="282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64480" y="2822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630360" y="312732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89840" y="461664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204720" y="4159440"/>
              <a:ext cx="14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ner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li nośne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423320" y="3549600"/>
              <a:ext cx="22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zmacniacz 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121960" y="2060640"/>
              <a:ext cx="69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1219320" y="2895480"/>
            <a:ext cx="1143000" cy="152640"/>
            <a:chOff x="1219320" y="2895480"/>
            <a:chExt cx="1143000" cy="152640"/>
          </a:xfrm>
        </p:grpSpPr>
        <p:sp>
          <p:nvSpPr>
            <p:cNvPr id="477" name=""/>
            <p:cNvSpPr/>
            <p:nvPr/>
          </p:nvSpPr>
          <p:spPr>
            <a:xfrm>
              <a:off x="1523880" y="2895480"/>
              <a:ext cx="533520" cy="152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057400" y="29718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219320" y="2971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3200400" y="3352320"/>
            <a:ext cx="228600" cy="457560"/>
            <a:chOff x="3200400" y="3352320"/>
            <a:chExt cx="228600" cy="457560"/>
          </a:xfrm>
        </p:grpSpPr>
        <p:sp>
          <p:nvSpPr>
            <p:cNvPr id="481" name=""/>
            <p:cNvSpPr/>
            <p:nvPr/>
          </p:nvSpPr>
          <p:spPr>
            <a:xfrm>
              <a:off x="3200400" y="335268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200400" y="35812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3200400" y="33523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3962520" y="2895480"/>
            <a:ext cx="1218600" cy="1295280"/>
            <a:chOff x="3962520" y="2895480"/>
            <a:chExt cx="1218600" cy="1295280"/>
          </a:xfrm>
        </p:grpSpPr>
        <p:sp>
          <p:nvSpPr>
            <p:cNvPr id="485" name=""/>
            <p:cNvSpPr/>
            <p:nvPr/>
          </p:nvSpPr>
          <p:spPr>
            <a:xfrm>
              <a:off x="3962520" y="2895480"/>
              <a:ext cx="1218600" cy="129528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049280" y="3294000"/>
              <a:ext cx="17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049280" y="3792240"/>
              <a:ext cx="17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4136400" y="3692160"/>
              <a:ext cx="0" cy="19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2438280" y="3581280"/>
            <a:ext cx="76320" cy="304920"/>
            <a:chOff x="2438280" y="3581280"/>
            <a:chExt cx="76320" cy="304920"/>
          </a:xfrm>
        </p:grpSpPr>
        <p:sp>
          <p:nvSpPr>
            <p:cNvPr id="490" name=""/>
            <p:cNvSpPr/>
            <p:nvPr/>
          </p:nvSpPr>
          <p:spPr>
            <a:xfrm>
              <a:off x="2438280" y="3581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514600" y="3581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1143000" y="3733920"/>
            <a:ext cx="609480" cy="609480"/>
            <a:chOff x="1143000" y="3733920"/>
            <a:chExt cx="609480" cy="609480"/>
          </a:xfrm>
        </p:grpSpPr>
        <p:sp>
          <p:nvSpPr>
            <p:cNvPr id="493" name=""/>
            <p:cNvSpPr/>
            <p:nvPr/>
          </p:nvSpPr>
          <p:spPr>
            <a:xfrm>
              <a:off x="1143000" y="37339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1447920" y="38858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2133720" y="4572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5638680" y="2514600"/>
            <a:ext cx="610920" cy="917280"/>
            <a:chOff x="5638680" y="2514600"/>
            <a:chExt cx="610920" cy="917280"/>
          </a:xfrm>
        </p:grpSpPr>
        <p:sp>
          <p:nvSpPr>
            <p:cNvPr id="497" name=""/>
            <p:cNvSpPr/>
            <p:nvPr/>
          </p:nvSpPr>
          <p:spPr>
            <a:xfrm>
              <a:off x="5638680" y="2514600"/>
              <a:ext cx="610920" cy="61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5943960" y="2667240"/>
              <a:ext cx="0" cy="61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638680" y="2820600"/>
              <a:ext cx="610920" cy="61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4572000" y="246384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3254400" y="4317840"/>
            <a:ext cx="228600" cy="457560"/>
            <a:chOff x="3254400" y="4317840"/>
            <a:chExt cx="228600" cy="457560"/>
          </a:xfrm>
        </p:grpSpPr>
        <p:sp>
          <p:nvSpPr>
            <p:cNvPr id="502" name=""/>
            <p:cNvSpPr/>
            <p:nvPr/>
          </p:nvSpPr>
          <p:spPr>
            <a:xfrm flipV="1">
              <a:off x="3254400" y="431784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3254400" y="43178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254400" y="45468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jprostszy wzmacniacz prądu stał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303200" y="3738600"/>
            <a:ext cx="1800" cy="84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6560" y="4587840"/>
            <a:ext cx="4251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114560" y="3360600"/>
            <a:ext cx="144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1114560" y="336024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114560" y="354960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1303200" y="3642840"/>
            <a:ext cx="180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1209600" y="3738600"/>
            <a:ext cx="93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736560" y="3549600"/>
            <a:ext cx="37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1303200" y="2131560"/>
            <a:ext cx="180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01640" y="4559400"/>
            <a:ext cx="58680" cy="554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274760" y="456264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08120" y="3519360"/>
            <a:ext cx="58680" cy="558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838120" y="2057400"/>
            <a:ext cx="430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+Vc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274760" y="2103480"/>
            <a:ext cx="58680" cy="540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209600" y="2509920"/>
            <a:ext cx="189000" cy="37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814480" y="3738600"/>
            <a:ext cx="1800" cy="84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625840" y="3360600"/>
            <a:ext cx="144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625840" y="336024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625840" y="354960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2814480" y="3642840"/>
            <a:ext cx="180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2720880" y="3738600"/>
            <a:ext cx="93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2247840" y="3549600"/>
            <a:ext cx="37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2814480" y="2131560"/>
            <a:ext cx="180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86040" y="456264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289400" y="314496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786040" y="2103480"/>
            <a:ext cx="58680" cy="540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720880" y="2509920"/>
            <a:ext cx="189000" cy="37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303200" y="3171960"/>
            <a:ext cx="944640" cy="377640"/>
          </a:xfrm>
          <a:custGeom>
            <a:avLst/>
            <a:gdLst/>
            <a:ahLst/>
            <a:rect l="l" t="t" r="r" b="b"/>
            <a:pathLst>
              <a:path w="595" h="238">
                <a:moveTo>
                  <a:pt x="0" y="0"/>
                </a:moveTo>
                <a:lnTo>
                  <a:pt x="476" y="0"/>
                </a:lnTo>
                <a:lnTo>
                  <a:pt x="476" y="238"/>
                </a:lnTo>
                <a:lnTo>
                  <a:pt x="595" y="2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327560" y="3738600"/>
            <a:ext cx="1440" cy="84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38560" y="3360600"/>
            <a:ext cx="180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4138560" y="3360240"/>
            <a:ext cx="1890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138560" y="3549600"/>
            <a:ext cx="1890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4327560" y="3642840"/>
            <a:ext cx="144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4231800" y="3738600"/>
            <a:ext cx="95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760560" y="3549600"/>
            <a:ext cx="377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4334040" y="2131560"/>
            <a:ext cx="144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297320" y="456264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97320" y="2103480"/>
            <a:ext cx="58680" cy="540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32160" y="2509920"/>
            <a:ext cx="189000" cy="37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814480" y="3171960"/>
            <a:ext cx="946440" cy="377640"/>
          </a:xfrm>
          <a:custGeom>
            <a:avLst/>
            <a:gdLst/>
            <a:ahLst/>
            <a:rect l="l" t="t" r="r" b="b"/>
            <a:pathLst>
              <a:path w="596" h="238">
                <a:moveTo>
                  <a:pt x="0" y="0"/>
                </a:moveTo>
                <a:lnTo>
                  <a:pt x="477" y="0"/>
                </a:lnTo>
                <a:lnTo>
                  <a:pt x="477" y="238"/>
                </a:lnTo>
                <a:lnTo>
                  <a:pt x="596" y="2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959360" y="4562640"/>
            <a:ext cx="58680" cy="554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327560" y="3171960"/>
            <a:ext cx="66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959360" y="3146400"/>
            <a:ext cx="58680" cy="540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303200" y="2131920"/>
            <a:ext cx="4440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715000" y="2106720"/>
            <a:ext cx="58680" cy="554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268280" y="3141720"/>
            <a:ext cx="5904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779560" y="3141720"/>
            <a:ext cx="5904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396800" y="5951520"/>
            <a:ext cx="52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LATEGO praktycznie nie stosow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795320" y="4932360"/>
            <a:ext cx="503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roblemy z polaryzacją tranzys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LBRZYM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pływ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93360" y="31352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80640" y="3929040"/>
            <a:ext cx="443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la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= 0 wzmacniacz nie dział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3216240" y="4145040"/>
            <a:ext cx="2387520" cy="23000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suwniki poziomów napięć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związanie problemów z polaryzacj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09880" y="1716120"/>
            <a:ext cx="1067040" cy="129384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3276360" y="202104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00400" y="1563840"/>
            <a:ext cx="15228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276720" y="186840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276720" y="2554200"/>
            <a:ext cx="14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743200" y="3392640"/>
            <a:ext cx="373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124080" y="2249640"/>
            <a:ext cx="18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3124080" y="22492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124080" y="24019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3276720" y="2477880"/>
            <a:ext cx="144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3200400" y="255420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2819520" y="2401920"/>
            <a:ext cx="30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181480" y="2249640"/>
            <a:ext cx="18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5181480" y="22492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181480" y="24019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5334120" y="2477880"/>
            <a:ext cx="144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5257800" y="255420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876920" y="2401920"/>
            <a:ext cx="30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3276720" y="141120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276720" y="1411200"/>
            <a:ext cx="3201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257800" y="1563840"/>
            <a:ext cx="15228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334120" y="141120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34120" y="186840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34120" y="2554200"/>
            <a:ext cx="14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334120" y="202104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714760" y="33685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252960" y="33717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786120" y="20019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257640" y="20019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853160" y="23781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310360" y="19969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310360" y="33685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458040" y="33685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458040" y="13921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53360" y="19969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795760" y="23781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918600" y="1884240"/>
            <a:ext cx="27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6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451400" y="2189160"/>
            <a:ext cx="40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0.7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914640" y="2570040"/>
            <a:ext cx="78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zesuwni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93840" y="272268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ziom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038480" y="5013360"/>
            <a:ext cx="1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3581280" y="6230520"/>
            <a:ext cx="1676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886200" y="4708440"/>
            <a:ext cx="144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3886200" y="470844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886200" y="486108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4038480" y="4937040"/>
            <a:ext cx="18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3962160" y="501336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3580920" y="486108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4038480" y="425124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552840" y="62085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014720" y="621180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557520" y="48369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962520" y="5165640"/>
            <a:ext cx="15228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3924360" y="5713560"/>
            <a:ext cx="228600" cy="370800"/>
            <a:chOff x="3924360" y="5713560"/>
            <a:chExt cx="228600" cy="370800"/>
          </a:xfrm>
        </p:grpSpPr>
        <p:sp>
          <p:nvSpPr>
            <p:cNvPr id="613" name=""/>
            <p:cNvSpPr/>
            <p:nvPr/>
          </p:nvSpPr>
          <p:spPr>
            <a:xfrm>
              <a:off x="3924360" y="5856120"/>
              <a:ext cx="228600" cy="228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24360" y="5713560"/>
              <a:ext cx="228600" cy="228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924360" y="5856120"/>
              <a:ext cx="228600" cy="228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4002120" y="5784840"/>
              <a:ext cx="71280" cy="222840"/>
              <a:chOff x="4002120" y="5784840"/>
              <a:chExt cx="71280" cy="222840"/>
            </a:xfrm>
          </p:grpSpPr>
          <p:sp>
            <p:nvSpPr>
              <p:cNvPr id="617" name=""/>
              <p:cNvSpPr/>
              <p:nvPr/>
            </p:nvSpPr>
            <p:spPr>
              <a:xfrm flipV="1">
                <a:off x="4040280" y="5784840"/>
                <a:ext cx="1440" cy="213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 flipV="1">
                <a:off x="4002120" y="5941440"/>
                <a:ext cx="38160" cy="6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4040280" y="5941440"/>
                <a:ext cx="33120" cy="6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0" name=""/>
          <p:cNvSpPr/>
          <p:nvPr/>
        </p:nvSpPr>
        <p:spPr>
          <a:xfrm>
            <a:off x="4038480" y="5546880"/>
            <a:ext cx="1219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229360" y="55227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229360" y="62085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3428640" y="5410080"/>
            <a:ext cx="133920" cy="242640"/>
            <a:chOff x="3428640" y="5410080"/>
            <a:chExt cx="133920" cy="242640"/>
          </a:xfrm>
        </p:grpSpPr>
        <p:sp>
          <p:nvSpPr>
            <p:cNvPr id="624" name=""/>
            <p:cNvSpPr/>
            <p:nvPr/>
          </p:nvSpPr>
          <p:spPr>
            <a:xfrm>
              <a:off x="3428640" y="5410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505320" y="5530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3504960" y="5013360"/>
            <a:ext cx="152640" cy="1066680"/>
            <a:chOff x="3504960" y="5013360"/>
            <a:chExt cx="152640" cy="1066680"/>
          </a:xfrm>
        </p:grpSpPr>
        <p:sp>
          <p:nvSpPr>
            <p:cNvPr id="627" name=""/>
            <p:cNvSpPr/>
            <p:nvPr/>
          </p:nvSpPr>
          <p:spPr>
            <a:xfrm>
              <a:off x="3581280" y="5013360"/>
              <a:ext cx="1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3504960" y="5013360"/>
              <a:ext cx="7596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581280" y="5013360"/>
              <a:ext cx="7632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5181480" y="5622480"/>
            <a:ext cx="152640" cy="531720"/>
            <a:chOff x="5181480" y="5622480"/>
            <a:chExt cx="152640" cy="531720"/>
          </a:xfrm>
        </p:grpSpPr>
        <p:sp>
          <p:nvSpPr>
            <p:cNvPr id="631" name=""/>
            <p:cNvSpPr/>
            <p:nvPr/>
          </p:nvSpPr>
          <p:spPr>
            <a:xfrm flipV="1">
              <a:off x="5257800" y="5622480"/>
              <a:ext cx="1440" cy="53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5181480" y="5622840"/>
              <a:ext cx="7632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257800" y="5622840"/>
              <a:ext cx="7632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5333760" y="57913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410080" y="5911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90760" y="52578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266720" y="57913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14440" y="4191120"/>
            <a:ext cx="343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V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014720" y="422748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55400" y="182880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04560" y="4952880"/>
            <a:ext cx="27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uwnik pozi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3657240" y="2057400"/>
            <a:ext cx="152640" cy="1066680"/>
            <a:chOff x="3657240" y="2057400"/>
            <a:chExt cx="152640" cy="1066680"/>
          </a:xfrm>
        </p:grpSpPr>
        <p:sp>
          <p:nvSpPr>
            <p:cNvPr id="643" name=""/>
            <p:cNvSpPr/>
            <p:nvPr/>
          </p:nvSpPr>
          <p:spPr>
            <a:xfrm>
              <a:off x="3733560" y="2057400"/>
              <a:ext cx="1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3657240" y="2057400"/>
              <a:ext cx="7596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733560" y="2057400"/>
              <a:ext cx="7632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6095880" y="4648320"/>
                <a:ext cx="212580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≃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= 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- 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R</m:t>
                        </m:r>
                        <m:r>
                          <m:t xml:space="preserve">⋅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0,7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2348640" y="243828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270120" y="1565280"/>
            <a:ext cx="198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zawsz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6200" y="3408480"/>
            <a:ext cx="435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la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=0 wzmacniacz nie dział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316480" y="13809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14720" y="55227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492800" y="3068640"/>
            <a:ext cx="158400" cy="1049400"/>
          </a:xfrm>
          <a:prstGeom prst="downArrow">
            <a:avLst>
              <a:gd name="adj1" fmla="val 50000"/>
              <a:gd name="adj2" fmla="val 1656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Źródła prąd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2642760" y="1611360"/>
            <a:ext cx="160920" cy="162000"/>
            <a:chOff x="2642760" y="1611360"/>
            <a:chExt cx="160920" cy="162000"/>
          </a:xfrm>
        </p:grpSpPr>
        <p:sp>
          <p:nvSpPr>
            <p:cNvPr id="655" name=""/>
            <p:cNvSpPr/>
            <p:nvPr/>
          </p:nvSpPr>
          <p:spPr>
            <a:xfrm>
              <a:off x="2722680" y="1611360"/>
              <a:ext cx="1440" cy="16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643120" y="1611360"/>
              <a:ext cx="7956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2642760" y="169056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643120" y="1771560"/>
              <a:ext cx="3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2643120" y="173196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722680" y="1690560"/>
              <a:ext cx="81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2803680" y="1690560"/>
            <a:ext cx="1998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3003480" y="120960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2643120" y="1209600"/>
            <a:ext cx="1800" cy="401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643120" y="1771560"/>
            <a:ext cx="1800" cy="401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643120" y="2173320"/>
            <a:ext cx="8827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63880" y="137016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083760" y="1459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044880" y="117792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640400" y="1089000"/>
            <a:ext cx="1440" cy="1084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487760" y="2100240"/>
            <a:ext cx="16448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 flipV="1">
            <a:off x="6051240" y="2062080"/>
            <a:ext cx="810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6051240" y="2101680"/>
            <a:ext cx="81000" cy="4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4600080" y="1089000"/>
            <a:ext cx="39960" cy="81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640400" y="1092240"/>
            <a:ext cx="41040" cy="79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48320" y="1289160"/>
            <a:ext cx="402840" cy="160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7277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72771"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848120" y="1290600"/>
            <a:ext cx="1800" cy="801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4843440" y="1204920"/>
            <a:ext cx="1163520" cy="79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097320" y="19350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145920" y="2008080"/>
            <a:ext cx="2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510000" y="2152800"/>
            <a:ext cx="414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627280" y="118908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989440" y="1189080"/>
            <a:ext cx="396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651200" y="2011320"/>
            <a:ext cx="277920" cy="8100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4683240" y="1209600"/>
            <a:ext cx="1293840" cy="81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897880" y="1258920"/>
            <a:ext cx="648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    = con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915880" y="13190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437000" y="1068480"/>
            <a:ext cx="8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466520" y="1117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2642760" y="2774880"/>
            <a:ext cx="160920" cy="162000"/>
            <a:chOff x="2642760" y="2774880"/>
            <a:chExt cx="160920" cy="162000"/>
          </a:xfrm>
        </p:grpSpPr>
        <p:sp>
          <p:nvSpPr>
            <p:cNvPr id="690" name=""/>
            <p:cNvSpPr/>
            <p:nvPr/>
          </p:nvSpPr>
          <p:spPr>
            <a:xfrm>
              <a:off x="2722680" y="277488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643120" y="2774880"/>
              <a:ext cx="7956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2642760" y="285444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643120" y="293544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2643120" y="2893680"/>
              <a:ext cx="18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722680" y="285444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2803680" y="2854440"/>
            <a:ext cx="1998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2643120" y="2373120"/>
            <a:ext cx="180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643120" y="2935440"/>
            <a:ext cx="180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643120" y="3335400"/>
            <a:ext cx="6015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228840" y="3316320"/>
            <a:ext cx="414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627280" y="235260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003480" y="2859120"/>
            <a:ext cx="1800" cy="482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989440" y="332100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2924280" y="3011400"/>
            <a:ext cx="160200" cy="162000"/>
            <a:chOff x="2924280" y="3011400"/>
            <a:chExt cx="160200" cy="162000"/>
          </a:xfrm>
        </p:grpSpPr>
        <p:sp>
          <p:nvSpPr>
            <p:cNvPr id="705" name=""/>
            <p:cNvSpPr/>
            <p:nvPr/>
          </p:nvSpPr>
          <p:spPr>
            <a:xfrm>
              <a:off x="2924280" y="3011400"/>
              <a:ext cx="160200" cy="162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03480" y="3054240"/>
              <a:ext cx="18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2963880" y="3054240"/>
              <a:ext cx="396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003480" y="3054240"/>
              <a:ext cx="414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2746440" y="2514600"/>
            <a:ext cx="130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pływ temperatury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361960" y="10652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361960" y="22287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327200" y="21891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4568400" y="2774880"/>
            <a:ext cx="160920" cy="162000"/>
            <a:chOff x="4568400" y="2774880"/>
            <a:chExt cx="160920" cy="162000"/>
          </a:xfrm>
        </p:grpSpPr>
        <p:sp>
          <p:nvSpPr>
            <p:cNvPr id="714" name=""/>
            <p:cNvSpPr/>
            <p:nvPr/>
          </p:nvSpPr>
          <p:spPr>
            <a:xfrm>
              <a:off x="4648320" y="277488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568760" y="2774880"/>
              <a:ext cx="7956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4568400" y="285444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568760" y="293544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4568760" y="2893680"/>
              <a:ext cx="18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648320" y="285444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4729320" y="2854440"/>
            <a:ext cx="1998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4929120" y="237348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4568760" y="2373120"/>
            <a:ext cx="180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568760" y="2935440"/>
            <a:ext cx="180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568760" y="3335400"/>
            <a:ext cx="8812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889520" y="2533680"/>
            <a:ext cx="792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009400" y="2622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969080" y="234144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435640" y="331632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552920" y="2352600"/>
            <a:ext cx="396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913280" y="235260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4929120" y="285444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4848120" y="3054240"/>
            <a:ext cx="162000" cy="122400"/>
            <a:chOff x="4848120" y="3054240"/>
            <a:chExt cx="162000" cy="122400"/>
          </a:xfrm>
        </p:grpSpPr>
        <p:sp>
          <p:nvSpPr>
            <p:cNvPr id="733" name=""/>
            <p:cNvSpPr/>
            <p:nvPr/>
          </p:nvSpPr>
          <p:spPr>
            <a:xfrm>
              <a:off x="4848120" y="3054240"/>
              <a:ext cx="162000" cy="120600"/>
            </a:xfrm>
            <a:custGeom>
              <a:avLst/>
              <a:gdLst/>
              <a:ahLst/>
              <a:rect l="l" t="t" r="r" b="b"/>
              <a:pathLst>
                <a:path w="202" h="152">
                  <a:moveTo>
                    <a:pt x="0" y="0"/>
                  </a:moveTo>
                  <a:lnTo>
                    <a:pt x="202" y="0"/>
                  </a:lnTo>
                  <a:lnTo>
                    <a:pt x="101" y="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848120" y="3174840"/>
              <a:ext cx="162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2361960" y="36734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2561760" y="4218120"/>
            <a:ext cx="160920" cy="161640"/>
            <a:chOff x="2561760" y="4218120"/>
            <a:chExt cx="160920" cy="161640"/>
          </a:xfrm>
        </p:grpSpPr>
        <p:sp>
          <p:nvSpPr>
            <p:cNvPr id="737" name=""/>
            <p:cNvSpPr/>
            <p:nvPr/>
          </p:nvSpPr>
          <p:spPr>
            <a:xfrm>
              <a:off x="2643120" y="4218120"/>
              <a:ext cx="1800" cy="16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562120" y="421812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2561760" y="4299120"/>
              <a:ext cx="8100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562120" y="437832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2562120" y="433872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43120" y="4299120"/>
              <a:ext cx="79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2722680" y="4299120"/>
            <a:ext cx="2016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2924280" y="3817440"/>
            <a:ext cx="1440" cy="481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2562120" y="3817800"/>
            <a:ext cx="1800" cy="400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562120" y="4378320"/>
            <a:ext cx="1800" cy="401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562120" y="4780080"/>
            <a:ext cx="8827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882880" y="3978360"/>
            <a:ext cx="81000" cy="19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002760" y="4067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963880" y="378612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430440" y="4759200"/>
            <a:ext cx="3996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548080" y="379728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908440" y="379728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2924280" y="429912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803680" y="4498920"/>
            <a:ext cx="199800" cy="120600"/>
            <a:chOff x="2803680" y="4498920"/>
            <a:chExt cx="199800" cy="120600"/>
          </a:xfrm>
        </p:grpSpPr>
        <p:grpSp>
          <p:nvGrpSpPr>
            <p:cNvPr id="756" name=""/>
            <p:cNvGrpSpPr/>
            <p:nvPr/>
          </p:nvGrpSpPr>
          <p:grpSpPr>
            <a:xfrm>
              <a:off x="2843280" y="4498920"/>
              <a:ext cx="160200" cy="120600"/>
              <a:chOff x="2843280" y="4498920"/>
              <a:chExt cx="160200" cy="120600"/>
            </a:xfrm>
          </p:grpSpPr>
          <p:sp>
            <p:nvSpPr>
              <p:cNvPr id="757" name=""/>
              <p:cNvSpPr/>
              <p:nvPr/>
            </p:nvSpPr>
            <p:spPr>
              <a:xfrm>
                <a:off x="2843280" y="4498920"/>
                <a:ext cx="160200" cy="120600"/>
              </a:xfrm>
              <a:custGeom>
                <a:avLst/>
                <a:gdLst/>
                <a:ahLst/>
                <a:rect l="l" t="t" r="r" b="b"/>
                <a:pathLst>
                  <a:path w="202" h="152">
                    <a:moveTo>
                      <a:pt x="0" y="152"/>
                    </a:moveTo>
                    <a:lnTo>
                      <a:pt x="202" y="152"/>
                    </a:lnTo>
                    <a:lnTo>
                      <a:pt x="101" y="0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843280" y="4498920"/>
                <a:ext cx="1602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9" name=""/>
            <p:cNvSpPr/>
            <p:nvPr/>
          </p:nvSpPr>
          <p:spPr>
            <a:xfrm flipH="1">
              <a:off x="2803680" y="4498920"/>
              <a:ext cx="396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2522520" y="449892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361600" y="4548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833120" y="4876920"/>
            <a:ext cx="232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dzo dobry w układach dyskret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408200" y="36734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4687560" y="4259160"/>
            <a:ext cx="160560" cy="162000"/>
            <a:chOff x="4687560" y="4259160"/>
            <a:chExt cx="160560" cy="162000"/>
          </a:xfrm>
        </p:grpSpPr>
        <p:sp>
          <p:nvSpPr>
            <p:cNvPr id="765" name=""/>
            <p:cNvSpPr/>
            <p:nvPr/>
          </p:nvSpPr>
          <p:spPr>
            <a:xfrm>
              <a:off x="4768920" y="425916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687920" y="4259160"/>
              <a:ext cx="8100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4687560" y="433872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687920" y="441972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4687920" y="437796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768920" y="4338720"/>
              <a:ext cx="79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4848120" y="4338720"/>
            <a:ext cx="2016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5210280" y="3776760"/>
            <a:ext cx="1440" cy="482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687920" y="3776760"/>
            <a:ext cx="1440" cy="482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687920" y="4419720"/>
            <a:ext cx="144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687920" y="4819680"/>
            <a:ext cx="8827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648320" y="389736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687920" y="366552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556240" y="480060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673520" y="375768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194440" y="375768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527000" y="3986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5049360" y="4259160"/>
            <a:ext cx="162360" cy="162000"/>
            <a:chOff x="5049360" y="4259160"/>
            <a:chExt cx="162360" cy="162000"/>
          </a:xfrm>
        </p:grpSpPr>
        <p:sp>
          <p:nvSpPr>
            <p:cNvPr id="783" name=""/>
            <p:cNvSpPr/>
            <p:nvPr/>
          </p:nvSpPr>
          <p:spPr>
            <a:xfrm>
              <a:off x="5129280" y="425916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5128920" y="4259160"/>
              <a:ext cx="8100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129280" y="433872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5169960" y="4419720"/>
              <a:ext cx="39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5210280" y="437796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5049360" y="4338720"/>
              <a:ext cx="79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9" name=""/>
          <p:cNvSpPr/>
          <p:nvPr/>
        </p:nvSpPr>
        <p:spPr>
          <a:xfrm flipV="1">
            <a:off x="5210280" y="4419360"/>
            <a:ext cx="144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687920" y="4178160"/>
            <a:ext cx="241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929120" y="4178160"/>
            <a:ext cx="1800" cy="160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673520" y="4157640"/>
            <a:ext cx="396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913280" y="431784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 flipV="1">
            <a:off x="4648320" y="3817440"/>
            <a:ext cx="3960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4687920" y="3817440"/>
            <a:ext cx="4140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 flipV="1">
            <a:off x="5169960" y="3817440"/>
            <a:ext cx="3996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5210280" y="3817440"/>
            <a:ext cx="3960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293800" y="382572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768920" y="378612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807800" y="38480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341440" y="5311800"/>
            <a:ext cx="12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`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2622600" y="5897520"/>
            <a:ext cx="159840" cy="162000"/>
            <a:chOff x="2622600" y="5897520"/>
            <a:chExt cx="159840" cy="162000"/>
          </a:xfrm>
        </p:grpSpPr>
        <p:sp>
          <p:nvSpPr>
            <p:cNvPr id="803" name=""/>
            <p:cNvSpPr/>
            <p:nvPr/>
          </p:nvSpPr>
          <p:spPr>
            <a:xfrm>
              <a:off x="2701800" y="5897520"/>
              <a:ext cx="108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622600" y="5897520"/>
              <a:ext cx="7920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2622600" y="5977080"/>
              <a:ext cx="792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622600" y="6058080"/>
              <a:ext cx="39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2622600" y="6017760"/>
              <a:ext cx="1440" cy="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701800" y="5977080"/>
              <a:ext cx="80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9" name=""/>
          <p:cNvSpPr/>
          <p:nvPr/>
        </p:nvSpPr>
        <p:spPr>
          <a:xfrm>
            <a:off x="2782800" y="5977080"/>
            <a:ext cx="2001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3143160" y="54165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622600" y="541656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622600" y="6058080"/>
            <a:ext cx="144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622600" y="6459480"/>
            <a:ext cx="88272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581200" y="553572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743200" y="525780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489480" y="643896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606760" y="539604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129120" y="539604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461680" y="5624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2982600" y="5897520"/>
            <a:ext cx="162360" cy="162000"/>
            <a:chOff x="2982600" y="5897520"/>
            <a:chExt cx="162360" cy="162000"/>
          </a:xfrm>
        </p:grpSpPr>
        <p:sp>
          <p:nvSpPr>
            <p:cNvPr id="821" name=""/>
            <p:cNvSpPr/>
            <p:nvPr/>
          </p:nvSpPr>
          <p:spPr>
            <a:xfrm>
              <a:off x="3063960" y="5897520"/>
              <a:ext cx="180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3063600" y="5897520"/>
              <a:ext cx="7956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063960" y="597708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3103200" y="6058080"/>
              <a:ext cx="39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3143520" y="6017760"/>
              <a:ext cx="1440" cy="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2982600" y="597708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"/>
          <p:cNvSpPr/>
          <p:nvPr/>
        </p:nvSpPr>
        <p:spPr>
          <a:xfrm flipV="1">
            <a:off x="3143160" y="6057720"/>
            <a:ext cx="180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622600" y="5816520"/>
            <a:ext cx="23976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862360" y="5816520"/>
            <a:ext cx="1440" cy="160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606760" y="5797440"/>
            <a:ext cx="41040" cy="399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847960" y="595800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2583000" y="545616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2622600" y="545616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3103560" y="545616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3143160" y="5456160"/>
            <a:ext cx="414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24520" y="546408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&lt;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747520" y="548640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103560" y="6178680"/>
            <a:ext cx="81000" cy="19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344400" y="55278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202920" y="62150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268800" y="627696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5051520" y="5273280"/>
            <a:ext cx="1440" cy="48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530600" y="5273640"/>
            <a:ext cx="1800" cy="48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4529160" y="5916240"/>
            <a:ext cx="1440" cy="198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530960" y="516240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514760" y="5254560"/>
            <a:ext cx="414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037120" y="525456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5051520" y="5916600"/>
            <a:ext cx="1440" cy="208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4514760" y="5654520"/>
            <a:ext cx="538200" cy="263520"/>
            <a:chOff x="4514760" y="5654520"/>
            <a:chExt cx="538200" cy="263520"/>
          </a:xfrm>
        </p:grpSpPr>
        <p:grpSp>
          <p:nvGrpSpPr>
            <p:cNvPr id="850" name=""/>
            <p:cNvGrpSpPr/>
            <p:nvPr/>
          </p:nvGrpSpPr>
          <p:grpSpPr>
            <a:xfrm>
              <a:off x="4530240" y="5756400"/>
              <a:ext cx="160920" cy="161640"/>
              <a:chOff x="4530240" y="5756400"/>
              <a:chExt cx="160920" cy="161640"/>
            </a:xfrm>
          </p:grpSpPr>
          <p:sp>
            <p:nvSpPr>
              <p:cNvPr id="851" name=""/>
              <p:cNvSpPr/>
              <p:nvPr/>
            </p:nvSpPr>
            <p:spPr>
              <a:xfrm>
                <a:off x="4610160" y="5756400"/>
                <a:ext cx="144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530600" y="5756400"/>
                <a:ext cx="7956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4530240" y="5835600"/>
                <a:ext cx="7956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4530600" y="5916600"/>
                <a:ext cx="39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V="1">
                <a:off x="4530600" y="5874840"/>
                <a:ext cx="180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610160" y="5835600"/>
                <a:ext cx="81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7" name=""/>
            <p:cNvSpPr/>
            <p:nvPr/>
          </p:nvSpPr>
          <p:spPr>
            <a:xfrm>
              <a:off x="4691160" y="5835600"/>
              <a:ext cx="1998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4890600" y="5756400"/>
              <a:ext cx="162360" cy="161640"/>
              <a:chOff x="4890600" y="5756400"/>
              <a:chExt cx="162360" cy="161640"/>
            </a:xfrm>
          </p:grpSpPr>
          <p:sp>
            <p:nvSpPr>
              <p:cNvPr id="859" name=""/>
              <p:cNvSpPr/>
              <p:nvPr/>
            </p:nvSpPr>
            <p:spPr>
              <a:xfrm>
                <a:off x="4971960" y="5756400"/>
                <a:ext cx="180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4971600" y="5756400"/>
                <a:ext cx="7956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971960" y="5835600"/>
                <a:ext cx="7956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H="1">
                <a:off x="5011200" y="5916600"/>
                <a:ext cx="39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V="1">
                <a:off x="5051520" y="5874840"/>
                <a:ext cx="144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4890600" y="5835600"/>
                <a:ext cx="81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5" name=""/>
            <p:cNvSpPr/>
            <p:nvPr/>
          </p:nvSpPr>
          <p:spPr>
            <a:xfrm>
              <a:off x="4530600" y="5675400"/>
              <a:ext cx="2397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770360" y="5675400"/>
              <a:ext cx="1800" cy="160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514760" y="5654520"/>
              <a:ext cx="4140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756320" y="5815080"/>
              <a:ext cx="39600" cy="410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9" name=""/>
          <p:cNvSpPr/>
          <p:nvPr/>
        </p:nvSpPr>
        <p:spPr>
          <a:xfrm flipH="1" flipV="1">
            <a:off x="4491000" y="531504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4530600" y="5315040"/>
            <a:ext cx="3996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 flipV="1">
            <a:off x="5011200" y="5315040"/>
            <a:ext cx="3996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5051520" y="5315040"/>
            <a:ext cx="4104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76320" y="541008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397040" y="49863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127120" y="529128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4532040" y="6013440"/>
            <a:ext cx="538560" cy="262080"/>
            <a:chOff x="4532040" y="6013440"/>
            <a:chExt cx="538560" cy="262080"/>
          </a:xfrm>
        </p:grpSpPr>
        <p:grpSp>
          <p:nvGrpSpPr>
            <p:cNvPr id="877" name=""/>
            <p:cNvGrpSpPr/>
            <p:nvPr/>
          </p:nvGrpSpPr>
          <p:grpSpPr>
            <a:xfrm>
              <a:off x="4893840" y="6113520"/>
              <a:ext cx="162360" cy="162000"/>
              <a:chOff x="4893840" y="6113520"/>
              <a:chExt cx="162360" cy="162000"/>
            </a:xfrm>
          </p:grpSpPr>
          <p:sp>
            <p:nvSpPr>
              <p:cNvPr id="878" name=""/>
              <p:cNvSpPr/>
              <p:nvPr/>
            </p:nvSpPr>
            <p:spPr>
              <a:xfrm>
                <a:off x="4973760" y="6113520"/>
                <a:ext cx="144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H="1">
                <a:off x="4973400" y="6113520"/>
                <a:ext cx="8100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973760" y="6194520"/>
                <a:ext cx="8100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H="1">
                <a:off x="5014440" y="6273720"/>
                <a:ext cx="39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V="1">
                <a:off x="5054760" y="6234120"/>
                <a:ext cx="144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>
                <a:off x="4893840" y="6194520"/>
                <a:ext cx="79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 flipH="1">
              <a:off x="4694040" y="6194520"/>
              <a:ext cx="1998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5" name=""/>
            <p:cNvGrpSpPr/>
            <p:nvPr/>
          </p:nvGrpSpPr>
          <p:grpSpPr>
            <a:xfrm>
              <a:off x="4532040" y="6113520"/>
              <a:ext cx="162360" cy="162000"/>
              <a:chOff x="4532040" y="6113520"/>
              <a:chExt cx="162360" cy="162000"/>
            </a:xfrm>
          </p:grpSpPr>
          <p:sp>
            <p:nvSpPr>
              <p:cNvPr id="886" name=""/>
              <p:cNvSpPr/>
              <p:nvPr/>
            </p:nvSpPr>
            <p:spPr>
              <a:xfrm>
                <a:off x="4613400" y="6113520"/>
                <a:ext cx="144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532400" y="6113520"/>
                <a:ext cx="8100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flipH="1">
                <a:off x="4532040" y="6194520"/>
                <a:ext cx="8100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532400" y="6273720"/>
                <a:ext cx="41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V="1">
                <a:off x="4532400" y="6234120"/>
                <a:ext cx="144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613400" y="6194520"/>
                <a:ext cx="81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2" name=""/>
            <p:cNvSpPr/>
            <p:nvPr/>
          </p:nvSpPr>
          <p:spPr>
            <a:xfrm flipH="1">
              <a:off x="4812840" y="6033960"/>
              <a:ext cx="2415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13200" y="6033960"/>
              <a:ext cx="1800" cy="160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029200" y="6013440"/>
              <a:ext cx="4140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788000" y="6173640"/>
              <a:ext cx="4104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6" name=""/>
          <p:cNvSpPr/>
          <p:nvPr/>
        </p:nvSpPr>
        <p:spPr>
          <a:xfrm>
            <a:off x="4540320" y="6270480"/>
            <a:ext cx="1440" cy="250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540320" y="6521400"/>
            <a:ext cx="82224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051520" y="6270480"/>
            <a:ext cx="1440" cy="250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262120" y="2590920"/>
            <a:ext cx="212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ompensacja wpływu temperat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565960" y="426708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ro prądo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418000" y="5486400"/>
            <a:ext cx="210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ro prądowe ze sprzężeni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ądowo-równoległy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99760" y="1407960"/>
            <a:ext cx="119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sada dział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struktura wzmacniac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4" name=""/>
          <p:cNvGraphicFramePr/>
          <p:nvPr/>
        </p:nvGraphicFramePr>
        <p:xfrm>
          <a:off x="893880" y="1787400"/>
          <a:ext cx="7358040" cy="32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3880" y="1787400"/>
                    <a:ext cx="7358040" cy="32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6" name=""/>
          <p:cNvSpPr/>
          <p:nvPr/>
        </p:nvSpPr>
        <p:spPr>
          <a:xfrm>
            <a:off x="2544840" y="5580000"/>
            <a:ext cx="2587680" cy="825480"/>
          </a:xfrm>
          <a:prstGeom prst="borderCallout1">
            <a:avLst>
              <a:gd name="adj1" fmla="val 18750"/>
              <a:gd name="adj2" fmla="val -8333"/>
              <a:gd name="adj3" fmla="val -293282"/>
              <a:gd name="adj4" fmla="val -9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uwnik poziomów napię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004440" y="57452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a struktura wzmacniac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172200" y="2597040"/>
            <a:ext cx="2587680" cy="825480"/>
          </a:xfrm>
          <a:prstGeom prst="borderCallout1">
            <a:avLst>
              <a:gd name="adj1" fmla="val 18750"/>
              <a:gd name="adj2" fmla="val -8333"/>
              <a:gd name="adj3" fmla="val 129990"/>
              <a:gd name="adj4" fmla="val -6674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uwnik poziomów napię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004440" y="57452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2162160" y="2279520"/>
            <a:ext cx="4012200" cy="3426840"/>
            <a:chOff x="2162160" y="2279520"/>
            <a:chExt cx="4012200" cy="3426840"/>
          </a:xfrm>
        </p:grpSpPr>
        <p:sp>
          <p:nvSpPr>
            <p:cNvPr id="912" name=""/>
            <p:cNvSpPr/>
            <p:nvPr/>
          </p:nvSpPr>
          <p:spPr>
            <a:xfrm>
              <a:off x="3270240" y="2347920"/>
              <a:ext cx="1440" cy="1193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3" name=""/>
            <p:cNvGrpSpPr/>
            <p:nvPr/>
          </p:nvGrpSpPr>
          <p:grpSpPr>
            <a:xfrm>
              <a:off x="2716200" y="3711600"/>
              <a:ext cx="511200" cy="509400"/>
              <a:chOff x="2716200" y="3711600"/>
              <a:chExt cx="511200" cy="509400"/>
            </a:xfrm>
          </p:grpSpPr>
          <p:sp>
            <p:nvSpPr>
              <p:cNvPr id="914" name=""/>
              <p:cNvSpPr/>
              <p:nvPr/>
            </p:nvSpPr>
            <p:spPr>
              <a:xfrm>
                <a:off x="2716200" y="3711600"/>
                <a:ext cx="511200" cy="5094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V="1">
                <a:off x="2908440" y="3836520"/>
                <a:ext cx="1440" cy="25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V="1">
                <a:off x="2908440" y="3732120"/>
                <a:ext cx="164880" cy="169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908440" y="4029120"/>
                <a:ext cx="16956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716200" y="3965400"/>
                <a:ext cx="1922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V="1">
                <a:off x="3036960" y="4094280"/>
                <a:ext cx="1440" cy="6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H="1">
                <a:off x="2971440" y="4157640"/>
                <a:ext cx="651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1" name=""/>
            <p:cNvSpPr/>
            <p:nvPr/>
          </p:nvSpPr>
          <p:spPr>
            <a:xfrm flipV="1">
              <a:off x="3100320" y="3541680"/>
              <a:ext cx="169920" cy="169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014640" y="4137120"/>
              <a:ext cx="255600" cy="257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270240" y="4394160"/>
              <a:ext cx="1440" cy="681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186000" y="2517840"/>
              <a:ext cx="169920" cy="341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716560" y="253512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868840" y="267012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2332080" y="3967200"/>
              <a:ext cx="4269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8" name=""/>
            <p:cNvGrpSpPr/>
            <p:nvPr/>
          </p:nvGrpSpPr>
          <p:grpSpPr>
            <a:xfrm>
              <a:off x="4678200" y="3711600"/>
              <a:ext cx="511200" cy="509400"/>
              <a:chOff x="4678200" y="3711600"/>
              <a:chExt cx="511200" cy="509400"/>
            </a:xfrm>
          </p:grpSpPr>
          <p:sp>
            <p:nvSpPr>
              <p:cNvPr id="929" name=""/>
              <p:cNvSpPr/>
              <p:nvPr/>
            </p:nvSpPr>
            <p:spPr>
              <a:xfrm>
                <a:off x="4678200" y="3711600"/>
                <a:ext cx="511200" cy="5094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V="1">
                <a:off x="4870440" y="3836520"/>
                <a:ext cx="1440" cy="25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V="1">
                <a:off x="4870440" y="3732120"/>
                <a:ext cx="165240" cy="169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870440" y="4029120"/>
                <a:ext cx="16992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678200" y="3965400"/>
                <a:ext cx="1922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flipV="1">
                <a:off x="4997520" y="4094280"/>
                <a:ext cx="1440" cy="6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H="1">
                <a:off x="4933440" y="4157640"/>
                <a:ext cx="637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6" name=""/>
            <p:cNvSpPr/>
            <p:nvPr/>
          </p:nvSpPr>
          <p:spPr>
            <a:xfrm flipV="1">
              <a:off x="5060880" y="3541680"/>
              <a:ext cx="171360" cy="169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976640" y="4137120"/>
              <a:ext cx="255600" cy="257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08400" y="3370320"/>
              <a:ext cx="1800" cy="2131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208400" y="3967200"/>
              <a:ext cx="513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124160" y="4564080"/>
              <a:ext cx="169920" cy="341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232240" y="2347920"/>
              <a:ext cx="1800" cy="1193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146560" y="2517840"/>
              <a:ext cx="171720" cy="341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232240" y="4394160"/>
              <a:ext cx="1800" cy="681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270240" y="5075280"/>
              <a:ext cx="1440" cy="171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100320" y="5246640"/>
              <a:ext cx="3412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187960" y="5032440"/>
              <a:ext cx="87480" cy="8712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227400" y="5032440"/>
              <a:ext cx="87480" cy="8712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165560" y="3924360"/>
              <a:ext cx="87480" cy="8568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187960" y="3497400"/>
              <a:ext cx="87480" cy="8712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227400" y="2303640"/>
              <a:ext cx="87480" cy="8712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187960" y="2303640"/>
              <a:ext cx="87480" cy="8712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445720" y="253512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598000" y="267012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826440" y="45813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977640" y="4716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547360" y="4156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613960" y="4290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593600" y="4156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660200" y="4290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165560" y="5459400"/>
              <a:ext cx="87480" cy="8568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289240" y="3924360"/>
              <a:ext cx="87120" cy="8568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162160" y="2347920"/>
              <a:ext cx="35812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162160" y="5075280"/>
              <a:ext cx="3495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417760" y="5502240"/>
              <a:ext cx="32400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875920" y="2279520"/>
              <a:ext cx="206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+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788440" y="543564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939640" y="5568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109560" y="2414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9" name=""/>
            <p:cNvGrpSpPr/>
            <p:nvPr/>
          </p:nvGrpSpPr>
          <p:grpSpPr>
            <a:xfrm>
              <a:off x="3654360" y="2687760"/>
              <a:ext cx="511200" cy="509400"/>
              <a:chOff x="3654360" y="2687760"/>
              <a:chExt cx="511200" cy="509400"/>
            </a:xfrm>
          </p:grpSpPr>
          <p:sp>
            <p:nvSpPr>
              <p:cNvPr id="970" name=""/>
              <p:cNvSpPr/>
              <p:nvPr/>
            </p:nvSpPr>
            <p:spPr>
              <a:xfrm>
                <a:off x="3654360" y="2687760"/>
                <a:ext cx="511200" cy="5094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V="1">
                <a:off x="3846600" y="2814480"/>
                <a:ext cx="1440" cy="255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V="1">
                <a:off x="3846600" y="2709720"/>
                <a:ext cx="164880" cy="168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846600" y="3006720"/>
                <a:ext cx="169920" cy="169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3654360" y="2941560"/>
                <a:ext cx="1922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V="1">
                <a:off x="3973680" y="3069720"/>
                <a:ext cx="1440" cy="63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H="1">
                <a:off x="3909600" y="3133800"/>
                <a:ext cx="637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7" name=""/>
            <p:cNvSpPr/>
            <p:nvPr/>
          </p:nvSpPr>
          <p:spPr>
            <a:xfrm flipV="1">
              <a:off x="4038480" y="2517840"/>
              <a:ext cx="169920" cy="169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952800" y="3114720"/>
              <a:ext cx="255600" cy="255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>
              <a:off x="3270240" y="2944800"/>
              <a:ext cx="4269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0" name=""/>
            <p:cNvGrpSpPr/>
            <p:nvPr/>
          </p:nvGrpSpPr>
          <p:grpSpPr>
            <a:xfrm>
              <a:off x="4122720" y="3583080"/>
              <a:ext cx="257040" cy="171360"/>
              <a:chOff x="4122720" y="3583080"/>
              <a:chExt cx="257040" cy="171360"/>
            </a:xfrm>
          </p:grpSpPr>
          <p:sp>
            <p:nvSpPr>
              <p:cNvPr id="981" name=""/>
              <p:cNvSpPr/>
              <p:nvPr/>
            </p:nvSpPr>
            <p:spPr>
              <a:xfrm>
                <a:off x="4122720" y="3583080"/>
                <a:ext cx="171360" cy="171360"/>
              </a:xfrm>
              <a:custGeom>
                <a:avLst/>
                <a:gdLst/>
                <a:ahLst/>
                <a:rect l="l" t="t" r="r" b="b"/>
                <a:pathLst>
                  <a:path w="108" h="108">
                    <a:moveTo>
                      <a:pt x="0" y="108"/>
                    </a:moveTo>
                    <a:lnTo>
                      <a:pt x="108" y="108"/>
                    </a:lnTo>
                    <a:lnTo>
                      <a:pt x="54" y="0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122720" y="3583080"/>
                <a:ext cx="1713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294080" y="3583080"/>
                <a:ext cx="85680" cy="8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4" name=""/>
            <p:cNvSpPr/>
            <p:nvPr/>
          </p:nvSpPr>
          <p:spPr>
            <a:xfrm flipV="1">
              <a:off x="4208400" y="2347920"/>
              <a:ext cx="1800" cy="169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286880" y="338940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Z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220920" y="2901960"/>
              <a:ext cx="87480" cy="8568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172040" y="2332080"/>
              <a:ext cx="87120" cy="8568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1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tę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8200" y="2297160"/>
            <a:ext cx="8572680" cy="228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zmacniaczem prądu stałego nazywamy wzmacniacz sygnałów zawierających składowe sta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ygnałami wejściowymi w takich wzmacniacz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gą być napięcia lub prąd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tórych zmiany mogą następować w ciągu minut, godzin, i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a struktura wzmacniac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118600" y="2031840"/>
            <a:ext cx="4489560" cy="2819520"/>
            <a:chOff x="2118600" y="2031840"/>
            <a:chExt cx="4489560" cy="2819520"/>
          </a:xfrm>
        </p:grpSpPr>
        <p:grpSp>
          <p:nvGrpSpPr>
            <p:cNvPr id="990" name=""/>
            <p:cNvGrpSpPr/>
            <p:nvPr/>
          </p:nvGrpSpPr>
          <p:grpSpPr>
            <a:xfrm>
              <a:off x="2118600" y="2031840"/>
              <a:ext cx="4489560" cy="2819520"/>
              <a:chOff x="2118600" y="2031840"/>
              <a:chExt cx="4489560" cy="2819520"/>
            </a:xfrm>
          </p:grpSpPr>
          <p:grpSp>
            <p:nvGrpSpPr>
              <p:cNvPr id="991" name=""/>
              <p:cNvGrpSpPr/>
              <p:nvPr/>
            </p:nvGrpSpPr>
            <p:grpSpPr>
              <a:xfrm>
                <a:off x="3564000" y="2107800"/>
                <a:ext cx="152280" cy="1143000"/>
                <a:chOff x="3564000" y="2107800"/>
                <a:chExt cx="152280" cy="1143000"/>
              </a:xfrm>
            </p:grpSpPr>
            <p:sp>
              <p:nvSpPr>
                <p:cNvPr id="992" name=""/>
                <p:cNvSpPr/>
                <p:nvPr/>
              </p:nvSpPr>
              <p:spPr>
                <a:xfrm rot="16200000">
                  <a:off x="3373200" y="2603160"/>
                  <a:ext cx="533520" cy="152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V="1">
                  <a:off x="3639960" y="21078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V="1">
                  <a:off x="3639960" y="294624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5" name=""/>
              <p:cNvGrpSpPr/>
              <p:nvPr/>
            </p:nvGrpSpPr>
            <p:grpSpPr>
              <a:xfrm>
                <a:off x="3411360" y="3250800"/>
                <a:ext cx="228600" cy="457560"/>
                <a:chOff x="3411360" y="3250800"/>
                <a:chExt cx="228600" cy="45756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3411360" y="3251160"/>
                  <a:ext cx="0" cy="457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3411360" y="347976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 flipV="1">
                  <a:off x="3411360" y="325080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9" name=""/>
              <p:cNvSpPr/>
              <p:nvPr/>
            </p:nvSpPr>
            <p:spPr>
              <a:xfrm>
                <a:off x="3487680" y="485136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621400" y="35560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1" name=""/>
              <p:cNvGrpSpPr/>
              <p:nvPr/>
            </p:nvGrpSpPr>
            <p:grpSpPr>
              <a:xfrm>
                <a:off x="4782960" y="2870280"/>
                <a:ext cx="228600" cy="457560"/>
                <a:chOff x="4782960" y="2870280"/>
                <a:chExt cx="228600" cy="457560"/>
              </a:xfrm>
            </p:grpSpPr>
            <p:sp>
              <p:nvSpPr>
                <p:cNvPr id="1002" name=""/>
                <p:cNvSpPr/>
                <p:nvPr/>
              </p:nvSpPr>
              <p:spPr>
                <a:xfrm flipV="1">
                  <a:off x="4782960" y="2870280"/>
                  <a:ext cx="0" cy="457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flipV="1">
                  <a:off x="4782960" y="287028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4782960" y="309924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5" name=""/>
              <p:cNvSpPr/>
              <p:nvPr/>
            </p:nvSpPr>
            <p:spPr>
              <a:xfrm>
                <a:off x="3639960" y="2108160"/>
                <a:ext cx="213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011560" y="210816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3639960" y="309888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8" name=""/>
              <p:cNvGrpSpPr/>
              <p:nvPr/>
            </p:nvGrpSpPr>
            <p:grpSpPr>
              <a:xfrm>
                <a:off x="3564000" y="3708000"/>
                <a:ext cx="152280" cy="1143000"/>
                <a:chOff x="3564000" y="3708000"/>
                <a:chExt cx="152280" cy="1143000"/>
              </a:xfrm>
            </p:grpSpPr>
            <p:sp>
              <p:nvSpPr>
                <p:cNvPr id="1009" name=""/>
                <p:cNvSpPr/>
                <p:nvPr/>
              </p:nvSpPr>
              <p:spPr>
                <a:xfrm rot="16200000">
                  <a:off x="3373200" y="4203360"/>
                  <a:ext cx="533520" cy="152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flipV="1">
                  <a:off x="3639960" y="37080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flipV="1">
                  <a:off x="3639960" y="454644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2" name=""/>
              <p:cNvGrpSpPr/>
              <p:nvPr/>
            </p:nvGrpSpPr>
            <p:grpSpPr>
              <a:xfrm>
                <a:off x="4935600" y="3708000"/>
                <a:ext cx="152280" cy="1143000"/>
                <a:chOff x="4935600" y="3708000"/>
                <a:chExt cx="152280" cy="1143000"/>
              </a:xfrm>
            </p:grpSpPr>
            <p:sp>
              <p:nvSpPr>
                <p:cNvPr id="1013" name=""/>
                <p:cNvSpPr/>
                <p:nvPr/>
              </p:nvSpPr>
              <p:spPr>
                <a:xfrm rot="16200000">
                  <a:off x="4744800" y="4203360"/>
                  <a:ext cx="533520" cy="152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 flipV="1">
                  <a:off x="5011560" y="37080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 flipV="1">
                  <a:off x="5011560" y="454644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6" name=""/>
              <p:cNvSpPr/>
              <p:nvPr/>
            </p:nvSpPr>
            <p:spPr>
              <a:xfrm>
                <a:off x="4859280" y="485136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V="1">
                <a:off x="5011560" y="33271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flipH="1">
                <a:off x="2877840" y="347976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011560" y="363204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725560" y="340344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773680" y="203184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973760" y="361152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605040" y="30812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118600" y="3840120"/>
                <a:ext cx="674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W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913720" y="3416400"/>
                <a:ext cx="694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W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6" name=""/>
            <p:cNvSpPr/>
            <p:nvPr/>
          </p:nvSpPr>
          <p:spPr>
            <a:xfrm>
              <a:off x="4973760" y="20764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7" name=""/>
          <p:cNvSpPr/>
          <p:nvPr/>
        </p:nvSpPr>
        <p:spPr>
          <a:xfrm>
            <a:off x="6074280" y="41036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188040" y="1938240"/>
            <a:ext cx="60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gadnienie zerowych napięć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720800" y="998640"/>
            <a:ext cx="637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Stosowanie dwóch źródeł zasilających (np. ry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Wykorzystanie wzmacniacza różnic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2873520" y="2198160"/>
            <a:ext cx="129960" cy="917640"/>
            <a:chOff x="2873520" y="2198160"/>
            <a:chExt cx="129960" cy="917640"/>
          </a:xfrm>
        </p:grpSpPr>
        <p:sp>
          <p:nvSpPr>
            <p:cNvPr id="1032" name=""/>
            <p:cNvSpPr/>
            <p:nvPr/>
          </p:nvSpPr>
          <p:spPr>
            <a:xfrm rot="16200000">
              <a:off x="2724480" y="2592360"/>
              <a:ext cx="428040" cy="129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V="1">
              <a:off x="2938320" y="2198160"/>
              <a:ext cx="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2938320" y="287136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2743200" y="3115800"/>
            <a:ext cx="195120" cy="367200"/>
            <a:chOff x="2743200" y="3115800"/>
            <a:chExt cx="195120" cy="367200"/>
          </a:xfrm>
        </p:grpSpPr>
        <p:sp>
          <p:nvSpPr>
            <p:cNvPr id="1036" name=""/>
            <p:cNvSpPr/>
            <p:nvPr/>
          </p:nvSpPr>
          <p:spPr>
            <a:xfrm>
              <a:off x="2743200" y="3116160"/>
              <a:ext cx="0" cy="36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43200" y="3299400"/>
              <a:ext cx="1951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2743200" y="3115800"/>
              <a:ext cx="1951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9" name=""/>
          <p:cNvSpPr/>
          <p:nvPr/>
        </p:nvSpPr>
        <p:spPr>
          <a:xfrm>
            <a:off x="2038320" y="4610160"/>
            <a:ext cx="260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632480" y="3360600"/>
            <a:ext cx="12996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3914640" y="2809440"/>
            <a:ext cx="195480" cy="367200"/>
            <a:chOff x="3914640" y="2809440"/>
            <a:chExt cx="195480" cy="367200"/>
          </a:xfrm>
        </p:grpSpPr>
        <p:sp>
          <p:nvSpPr>
            <p:cNvPr id="1042" name=""/>
            <p:cNvSpPr/>
            <p:nvPr/>
          </p:nvSpPr>
          <p:spPr>
            <a:xfrm flipV="1">
              <a:off x="3914640" y="2809440"/>
              <a:ext cx="0" cy="36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V="1">
              <a:off x="3914640" y="2809800"/>
              <a:ext cx="19548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914640" y="2993400"/>
              <a:ext cx="19548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2938320" y="2198520"/>
            <a:ext cx="182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110120" y="219852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938320" y="2994120"/>
            <a:ext cx="9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2873520" y="3483360"/>
            <a:ext cx="129960" cy="915480"/>
            <a:chOff x="2873520" y="3483360"/>
            <a:chExt cx="129960" cy="915480"/>
          </a:xfrm>
        </p:grpSpPr>
        <p:sp>
          <p:nvSpPr>
            <p:cNvPr id="1049" name=""/>
            <p:cNvSpPr/>
            <p:nvPr/>
          </p:nvSpPr>
          <p:spPr>
            <a:xfrm rot="16200000">
              <a:off x="2724840" y="3876480"/>
              <a:ext cx="427320" cy="129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V="1">
              <a:off x="2938320" y="3483360"/>
              <a:ext cx="0" cy="2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V="1">
              <a:off x="2938320" y="415512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2" name=""/>
          <p:cNvGrpSpPr/>
          <p:nvPr/>
        </p:nvGrpSpPr>
        <p:grpSpPr>
          <a:xfrm>
            <a:off x="4044960" y="3483360"/>
            <a:ext cx="130320" cy="915480"/>
            <a:chOff x="4044960" y="3483360"/>
            <a:chExt cx="130320" cy="915480"/>
          </a:xfrm>
        </p:grpSpPr>
        <p:sp>
          <p:nvSpPr>
            <p:cNvPr id="1053" name=""/>
            <p:cNvSpPr/>
            <p:nvPr/>
          </p:nvSpPr>
          <p:spPr>
            <a:xfrm rot="16200000">
              <a:off x="3896280" y="3876120"/>
              <a:ext cx="427320" cy="130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V="1">
              <a:off x="4110120" y="3483360"/>
              <a:ext cx="0" cy="2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>
              <a:off x="4110120" y="415512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6" name=""/>
          <p:cNvSpPr/>
          <p:nvPr/>
        </p:nvSpPr>
        <p:spPr>
          <a:xfrm flipV="1">
            <a:off x="4110120" y="317664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H="1">
            <a:off x="2286000" y="329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110120" y="3421080"/>
            <a:ext cx="52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155680" y="3238560"/>
            <a:ext cx="13032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762440" y="2138400"/>
            <a:ext cx="13032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078440" y="3405240"/>
            <a:ext cx="6480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908440" y="2979720"/>
            <a:ext cx="648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464480" y="358776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831200" y="36180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078440" y="2173320"/>
            <a:ext cx="648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949480" y="5221440"/>
            <a:ext cx="177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726080" y="5159520"/>
            <a:ext cx="13176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071960" y="5181480"/>
            <a:ext cx="6516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110120" y="4327560"/>
            <a:ext cx="0" cy="90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933640" y="4313160"/>
            <a:ext cx="0" cy="90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193840" y="4370400"/>
            <a:ext cx="40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179800" y="437040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5991120" y="4633920"/>
            <a:ext cx="520920" cy="488880"/>
            <a:chOff x="5991120" y="4633920"/>
            <a:chExt cx="520920" cy="488880"/>
          </a:xfrm>
        </p:grpSpPr>
        <p:sp>
          <p:nvSpPr>
            <p:cNvPr id="1074" name=""/>
            <p:cNvSpPr/>
            <p:nvPr/>
          </p:nvSpPr>
          <p:spPr>
            <a:xfrm>
              <a:off x="5991120" y="4633920"/>
              <a:ext cx="520920" cy="488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6251760" y="475560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5970600" y="2478240"/>
            <a:ext cx="522360" cy="488880"/>
            <a:chOff x="5970600" y="2478240"/>
            <a:chExt cx="522360" cy="488880"/>
          </a:xfrm>
        </p:grpSpPr>
        <p:sp>
          <p:nvSpPr>
            <p:cNvPr id="1077" name=""/>
            <p:cNvSpPr/>
            <p:nvPr/>
          </p:nvSpPr>
          <p:spPr>
            <a:xfrm>
              <a:off x="5970600" y="2478240"/>
              <a:ext cx="522360" cy="488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6231960" y="259992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9" name=""/>
          <p:cNvSpPr/>
          <p:nvPr/>
        </p:nvSpPr>
        <p:spPr>
          <a:xfrm>
            <a:off x="6235560" y="2970360"/>
            <a:ext cx="0" cy="168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863960" y="5232240"/>
            <a:ext cx="13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V="1">
            <a:off x="6249960" y="5119200"/>
            <a:ext cx="0" cy="11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908600" y="2219400"/>
            <a:ext cx="131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221520" y="223344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200640" y="4334040"/>
            <a:ext cx="6516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630120" y="24433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667920" y="47293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2209680" y="3449520"/>
            <a:ext cx="0" cy="8496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4676760" y="3501720"/>
            <a:ext cx="0" cy="7794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9" name=""/>
          <p:cNvGrpSpPr/>
          <p:nvPr/>
        </p:nvGrpSpPr>
        <p:grpSpPr>
          <a:xfrm>
            <a:off x="6256440" y="4250160"/>
            <a:ext cx="271440" cy="244440"/>
            <a:chOff x="6256440" y="4250160"/>
            <a:chExt cx="271440" cy="244440"/>
          </a:xfrm>
        </p:grpSpPr>
        <p:sp>
          <p:nvSpPr>
            <p:cNvPr id="1090" name=""/>
            <p:cNvSpPr/>
            <p:nvPr/>
          </p:nvSpPr>
          <p:spPr>
            <a:xfrm flipV="1">
              <a:off x="6512760" y="425016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256440" y="436140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2577960" y="5692680"/>
            <a:ext cx="451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żna uzyskać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 przy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845400" y="1393920"/>
            <a:ext cx="1092240" cy="2063520"/>
          </a:xfrm>
          <a:custGeom>
            <a:avLst/>
            <a:gdLst/>
            <a:ahLst/>
            <a:rect l="l" t="t" r="r" b="b"/>
            <a:pathLst>
              <a:path w="688" h="1300">
                <a:moveTo>
                  <a:pt x="600" y="0"/>
                </a:moveTo>
                <a:cubicBezTo>
                  <a:pt x="644" y="175"/>
                  <a:pt x="688" y="350"/>
                  <a:pt x="666" y="511"/>
                </a:cubicBezTo>
                <a:cubicBezTo>
                  <a:pt x="644" y="672"/>
                  <a:pt x="577" y="835"/>
                  <a:pt x="466" y="966"/>
                </a:cubicBezTo>
                <a:cubicBezTo>
                  <a:pt x="355" y="1097"/>
                  <a:pt x="177" y="1198"/>
                  <a:pt x="0" y="130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apięcia niezrównoważ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V="1">
            <a:off x="3016080" y="1182600"/>
            <a:ext cx="0" cy="400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00120" y="3298680"/>
            <a:ext cx="520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035040" y="311796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213360" y="101916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811080" y="3298680"/>
            <a:ext cx="2205000" cy="1570320"/>
          </a:xfrm>
          <a:custGeom>
            <a:avLst/>
            <a:gdLst/>
            <a:ahLst/>
            <a:rect l="l" t="t" r="r" b="b"/>
            <a:pathLst>
              <a:path w="1389" h="989">
                <a:moveTo>
                  <a:pt x="0" y="989"/>
                </a:moveTo>
                <a:cubicBezTo>
                  <a:pt x="318" y="949"/>
                  <a:pt x="636" y="909"/>
                  <a:pt x="867" y="744"/>
                </a:cubicBezTo>
                <a:cubicBezTo>
                  <a:pt x="1098" y="579"/>
                  <a:pt x="1302" y="122"/>
                  <a:pt x="138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rot="10800000">
            <a:off x="3018960" y="1714320"/>
            <a:ext cx="2205000" cy="1569960"/>
          </a:xfrm>
          <a:custGeom>
            <a:avLst/>
            <a:gdLst/>
            <a:ahLst/>
            <a:rect l="l" t="t" r="r" b="b"/>
            <a:pathLst>
              <a:path w="1389" h="989">
                <a:moveTo>
                  <a:pt x="0" y="989"/>
                </a:moveTo>
                <a:cubicBezTo>
                  <a:pt x="318" y="949"/>
                  <a:pt x="636" y="909"/>
                  <a:pt x="867" y="744"/>
                </a:cubicBezTo>
                <a:cubicBezTo>
                  <a:pt x="1098" y="579"/>
                  <a:pt x="1302" y="122"/>
                  <a:pt x="138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1" name=""/>
          <p:cNvGrpSpPr/>
          <p:nvPr/>
        </p:nvGrpSpPr>
        <p:grpSpPr>
          <a:xfrm>
            <a:off x="1333440" y="1725120"/>
            <a:ext cx="4412880" cy="3154680"/>
            <a:chOff x="1333440" y="1725120"/>
            <a:chExt cx="4412880" cy="3154680"/>
          </a:xfrm>
        </p:grpSpPr>
        <p:sp>
          <p:nvSpPr>
            <p:cNvPr id="1102" name=""/>
            <p:cNvSpPr/>
            <p:nvPr/>
          </p:nvSpPr>
          <p:spPr>
            <a:xfrm>
              <a:off x="1333440" y="3309840"/>
              <a:ext cx="2205000" cy="1569960"/>
            </a:xfrm>
            <a:custGeom>
              <a:avLst/>
              <a:gdLst/>
              <a:ahLst/>
              <a:rect l="l" t="t" r="r" b="b"/>
              <a:pathLst>
                <a:path w="1389" h="989">
                  <a:moveTo>
                    <a:pt x="0" y="989"/>
                  </a:moveTo>
                  <a:cubicBezTo>
                    <a:pt x="318" y="949"/>
                    <a:pt x="636" y="909"/>
                    <a:pt x="867" y="744"/>
                  </a:cubicBezTo>
                  <a:cubicBezTo>
                    <a:pt x="1098" y="579"/>
                    <a:pt x="1302" y="122"/>
                    <a:pt x="138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rot="10800000">
              <a:off x="3541320" y="1725120"/>
              <a:ext cx="2205000" cy="1569960"/>
            </a:xfrm>
            <a:custGeom>
              <a:avLst/>
              <a:gdLst/>
              <a:ahLst/>
              <a:rect l="l" t="t" r="r" b="b"/>
              <a:pathLst>
                <a:path w="1389" h="989">
                  <a:moveTo>
                    <a:pt x="0" y="989"/>
                  </a:moveTo>
                  <a:cubicBezTo>
                    <a:pt x="318" y="949"/>
                    <a:pt x="636" y="909"/>
                    <a:pt x="867" y="744"/>
                  </a:cubicBezTo>
                  <a:cubicBezTo>
                    <a:pt x="1098" y="579"/>
                    <a:pt x="1302" y="122"/>
                    <a:pt x="138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3146400" y="2835360"/>
            <a:ext cx="52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016080" y="3316320"/>
            <a:ext cx="546120" cy="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568520" y="5511960"/>
            <a:ext cx="56732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ejściowe napięcie niezrównowa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yjściowe napięcie niezrównowa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222360" y="4011480"/>
            <a:ext cx="57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3016080" y="3315960"/>
            <a:ext cx="0" cy="863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5014800" y="3697200"/>
                <a:ext cx="15811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0" name=""/>
          <p:cNvSpPr/>
          <p:nvPr/>
        </p:nvSpPr>
        <p:spPr>
          <a:xfrm>
            <a:off x="3898800" y="2768760"/>
            <a:ext cx="211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V="1">
            <a:off x="3898800" y="2346120"/>
            <a:ext cx="731880" cy="42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621320" y="236376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946760" y="225252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5033880" y="4761000"/>
                <a:ext cx="26082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yzacja wejść wzmacniac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76920" y="2270160"/>
            <a:ext cx="8084160" cy="19227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Do wejścia każdego wzmacniacza prądu stałego dołączone s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elektrody sterujące tranzys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Należy je tak połączyć aby umożliwić przepły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prądów polaryzacji (wejściowe prądy polaryzacj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7" name=""/>
          <p:cNvGrpSpPr/>
          <p:nvPr/>
        </p:nvGrpSpPr>
        <p:grpSpPr>
          <a:xfrm>
            <a:off x="2587320" y="4565520"/>
            <a:ext cx="3164040" cy="1719360"/>
            <a:chOff x="2587320" y="4565520"/>
            <a:chExt cx="3164040" cy="1719360"/>
          </a:xfrm>
        </p:grpSpPr>
        <p:sp>
          <p:nvSpPr>
            <p:cNvPr id="1118" name=""/>
            <p:cNvSpPr/>
            <p:nvPr/>
          </p:nvSpPr>
          <p:spPr>
            <a:xfrm>
              <a:off x="3908520" y="4565520"/>
              <a:ext cx="1842840" cy="1719360"/>
            </a:xfrm>
            <a:custGeom>
              <a:avLst/>
              <a:gdLst/>
              <a:ahLst/>
              <a:rect l="l" t="t" r="r" b="b"/>
              <a:pathLst>
                <a:path w="607" h="693">
                  <a:moveTo>
                    <a:pt x="0" y="0"/>
                  </a:moveTo>
                  <a:lnTo>
                    <a:pt x="0" y="693"/>
                  </a:lnTo>
                  <a:lnTo>
                    <a:pt x="607" y="3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>
              <a:off x="3462480" y="5135400"/>
              <a:ext cx="73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3486240" y="5716440"/>
              <a:ext cx="73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4251240" y="5034960"/>
              <a:ext cx="117720" cy="222840"/>
              <a:chOff x="4251240" y="5034960"/>
              <a:chExt cx="117720" cy="222840"/>
            </a:xfrm>
          </p:grpSpPr>
          <p:sp>
            <p:nvSpPr>
              <p:cNvPr id="1122" name=""/>
              <p:cNvSpPr/>
              <p:nvPr/>
            </p:nvSpPr>
            <p:spPr>
              <a:xfrm>
                <a:off x="4251240" y="5035320"/>
                <a:ext cx="0" cy="222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251240" y="5146560"/>
                <a:ext cx="117720" cy="11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V="1">
                <a:off x="4251240" y="5034960"/>
                <a:ext cx="117720" cy="11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5" name=""/>
            <p:cNvGrpSpPr/>
            <p:nvPr/>
          </p:nvGrpSpPr>
          <p:grpSpPr>
            <a:xfrm>
              <a:off x="4254480" y="5621400"/>
              <a:ext cx="117360" cy="222120"/>
              <a:chOff x="4254480" y="5621400"/>
              <a:chExt cx="117360" cy="222120"/>
            </a:xfrm>
          </p:grpSpPr>
          <p:sp>
            <p:nvSpPr>
              <p:cNvPr id="1126" name=""/>
              <p:cNvSpPr/>
              <p:nvPr/>
            </p:nvSpPr>
            <p:spPr>
              <a:xfrm>
                <a:off x="4254480" y="5621400"/>
                <a:ext cx="0" cy="22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254480" y="5732280"/>
                <a:ext cx="117360" cy="11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flipV="1">
                <a:off x="4254480" y="5621400"/>
                <a:ext cx="117360" cy="11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9" name=""/>
            <p:cNvSpPr/>
            <p:nvPr/>
          </p:nvSpPr>
          <p:spPr>
            <a:xfrm>
              <a:off x="3191040" y="5135400"/>
              <a:ext cx="5698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587320" y="4930560"/>
              <a:ext cx="50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P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230640" y="5719680"/>
              <a:ext cx="5698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626920" y="5514840"/>
              <a:ext cx="50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P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945720" y="1085760"/>
            <a:ext cx="4521240" cy="1866960"/>
            <a:chOff x="945720" y="1085760"/>
            <a:chExt cx="4521240" cy="1866960"/>
          </a:xfrm>
        </p:grpSpPr>
        <p:sp>
          <p:nvSpPr>
            <p:cNvPr id="1135" name=""/>
            <p:cNvSpPr/>
            <p:nvPr/>
          </p:nvSpPr>
          <p:spPr>
            <a:xfrm>
              <a:off x="2641680" y="1351080"/>
              <a:ext cx="990720" cy="1143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098880" y="2494080"/>
              <a:ext cx="14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022560" y="2722680"/>
              <a:ext cx="152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1270080" y="1503360"/>
              <a:ext cx="1371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9" name=""/>
            <p:cNvGrpSpPr/>
            <p:nvPr/>
          </p:nvGrpSpPr>
          <p:grpSpPr>
            <a:xfrm>
              <a:off x="1193760" y="2798640"/>
              <a:ext cx="152640" cy="154080"/>
              <a:chOff x="1193760" y="2798640"/>
              <a:chExt cx="152640" cy="154080"/>
            </a:xfrm>
          </p:grpSpPr>
          <p:sp>
            <p:nvSpPr>
              <p:cNvPr id="1140" name=""/>
              <p:cNvSpPr/>
              <p:nvPr/>
            </p:nvSpPr>
            <p:spPr>
              <a:xfrm>
                <a:off x="127008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1193760" y="2951280"/>
                <a:ext cx="152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1727280" y="2798640"/>
              <a:ext cx="152280" cy="154080"/>
              <a:chOff x="1727280" y="2798640"/>
              <a:chExt cx="152280" cy="154080"/>
            </a:xfrm>
          </p:grpSpPr>
          <p:sp>
            <p:nvSpPr>
              <p:cNvPr id="1143" name=""/>
              <p:cNvSpPr/>
              <p:nvPr/>
            </p:nvSpPr>
            <p:spPr>
              <a:xfrm>
                <a:off x="180360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1727280" y="2951280"/>
                <a:ext cx="152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5" name=""/>
            <p:cNvSpPr/>
            <p:nvPr/>
          </p:nvSpPr>
          <p:spPr>
            <a:xfrm flipH="1">
              <a:off x="1803600" y="2341440"/>
              <a:ext cx="838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244520" y="147636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244520" y="276228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778040" y="276228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778040" y="231444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632400" y="1503360"/>
              <a:ext cx="1371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1" name=""/>
            <p:cNvGrpSpPr/>
            <p:nvPr/>
          </p:nvGrpSpPr>
          <p:grpSpPr>
            <a:xfrm>
              <a:off x="4927320" y="2798640"/>
              <a:ext cx="152280" cy="154080"/>
              <a:chOff x="4927320" y="2798640"/>
              <a:chExt cx="152280" cy="154080"/>
            </a:xfrm>
          </p:grpSpPr>
          <p:sp>
            <p:nvSpPr>
              <p:cNvPr id="1152" name=""/>
              <p:cNvSpPr/>
              <p:nvPr/>
            </p:nvSpPr>
            <p:spPr>
              <a:xfrm>
                <a:off x="500400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4927320" y="2951280"/>
                <a:ext cx="152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4" name=""/>
            <p:cNvGrpSpPr/>
            <p:nvPr/>
          </p:nvGrpSpPr>
          <p:grpSpPr>
            <a:xfrm>
              <a:off x="4394160" y="2798640"/>
              <a:ext cx="152640" cy="154080"/>
              <a:chOff x="4394160" y="2798640"/>
              <a:chExt cx="152640" cy="154080"/>
            </a:xfrm>
          </p:grpSpPr>
          <p:sp>
            <p:nvSpPr>
              <p:cNvPr id="1155" name=""/>
              <p:cNvSpPr/>
              <p:nvPr/>
            </p:nvSpPr>
            <p:spPr>
              <a:xfrm>
                <a:off x="447048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H="1">
                <a:off x="4394160" y="2951280"/>
                <a:ext cx="152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>
              <a:off x="3632400" y="2341440"/>
              <a:ext cx="838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977000" y="1476360"/>
              <a:ext cx="5220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986360" y="276228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443480" y="2762280"/>
              <a:ext cx="5220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443480" y="2314440"/>
              <a:ext cx="5220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679840" y="143352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1        wy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679840" y="223344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2        wy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945720" y="21765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041440" y="2081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946320" y="2481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137200" y="216360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Y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060920" y="2297160"/>
              <a:ext cx="31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060800" y="258300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Y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994400" y="2620800"/>
              <a:ext cx="31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898280" y="25002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V="1">
              <a:off x="1406520" y="165708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1816200" y="2428920"/>
              <a:ext cx="0" cy="2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V="1">
              <a:off x="4464000" y="242856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4997520" y="1628640"/>
              <a:ext cx="0" cy="98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V="1">
              <a:off x="4464000" y="1590840"/>
              <a:ext cx="0" cy="599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99760" y="1104840"/>
              <a:ext cx="56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707480" y="10857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0" lang="pl-PL" sz="1800" spc="-1" strike="noStrike" baseline="-25000">
                  <a:solidFill>
                    <a:srgbClr val="3333cc"/>
                  </a:solidFill>
                  <a:latin typeface="Times New Roman"/>
                </a:rPr>
                <a:t>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V="1">
              <a:off x="1825560" y="1542600"/>
              <a:ext cx="0" cy="685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5916600" y="1262160"/>
                <a:ext cx="283680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1" name=""/>
          <p:cNvSpPr/>
          <p:nvPr/>
        </p:nvSpPr>
        <p:spPr>
          <a:xfrm flipH="1">
            <a:off x="1521000" y="4713120"/>
            <a:ext cx="398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1521000" y="4713120"/>
            <a:ext cx="1440" cy="90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919160" y="4259160"/>
            <a:ext cx="3240" cy="99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919160" y="4259160"/>
            <a:ext cx="179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5" name=""/>
          <p:cNvGrpSpPr/>
          <p:nvPr/>
        </p:nvGrpSpPr>
        <p:grpSpPr>
          <a:xfrm>
            <a:off x="1420920" y="5619600"/>
            <a:ext cx="199440" cy="182160"/>
            <a:chOff x="1420920" y="5619600"/>
            <a:chExt cx="199440" cy="182160"/>
          </a:xfrm>
        </p:grpSpPr>
        <p:sp>
          <p:nvSpPr>
            <p:cNvPr id="1186" name=""/>
            <p:cNvSpPr/>
            <p:nvPr/>
          </p:nvSpPr>
          <p:spPr>
            <a:xfrm>
              <a:off x="1520280" y="5619600"/>
              <a:ext cx="216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420920" y="5799960"/>
              <a:ext cx="199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8" name=""/>
          <p:cNvSpPr/>
          <p:nvPr/>
        </p:nvSpPr>
        <p:spPr>
          <a:xfrm>
            <a:off x="1919160" y="5256360"/>
            <a:ext cx="1798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886040" y="4227480"/>
            <a:ext cx="698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487520" y="5575320"/>
            <a:ext cx="6840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718080" y="4259160"/>
            <a:ext cx="1100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718080" y="5256360"/>
            <a:ext cx="1100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3" name=""/>
          <p:cNvGrpSpPr/>
          <p:nvPr/>
        </p:nvGrpSpPr>
        <p:grpSpPr>
          <a:xfrm>
            <a:off x="3019320" y="4078440"/>
            <a:ext cx="1298160" cy="1632960"/>
            <a:chOff x="3019320" y="4078440"/>
            <a:chExt cx="1298160" cy="1632960"/>
          </a:xfrm>
        </p:grpSpPr>
        <p:sp>
          <p:nvSpPr>
            <p:cNvPr id="1194" name=""/>
            <p:cNvSpPr/>
            <p:nvPr/>
          </p:nvSpPr>
          <p:spPr>
            <a:xfrm>
              <a:off x="3019320" y="4078440"/>
              <a:ext cx="1298160" cy="135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618360" y="5437800"/>
              <a:ext cx="2160" cy="2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518640" y="5709960"/>
              <a:ext cx="199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066480" y="417636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1        wy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066480" y="512784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2        wy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1370160" y="4938840"/>
            <a:ext cx="299520" cy="272520"/>
            <a:chOff x="1370160" y="4938840"/>
            <a:chExt cx="299520" cy="272520"/>
          </a:xfrm>
        </p:grpSpPr>
        <p:sp>
          <p:nvSpPr>
            <p:cNvPr id="1200" name=""/>
            <p:cNvSpPr/>
            <p:nvPr/>
          </p:nvSpPr>
          <p:spPr>
            <a:xfrm>
              <a:off x="1370160" y="4938840"/>
              <a:ext cx="299520" cy="272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443960" y="4953960"/>
              <a:ext cx="8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2" name=""/>
          <p:cNvGrpSpPr/>
          <p:nvPr/>
        </p:nvGrpSpPr>
        <p:grpSpPr>
          <a:xfrm>
            <a:off x="2270160" y="5121360"/>
            <a:ext cx="299520" cy="271080"/>
            <a:chOff x="2270160" y="5121360"/>
            <a:chExt cx="299520" cy="271080"/>
          </a:xfrm>
        </p:grpSpPr>
        <p:sp>
          <p:nvSpPr>
            <p:cNvPr id="1203" name=""/>
            <p:cNvSpPr/>
            <p:nvPr/>
          </p:nvSpPr>
          <p:spPr>
            <a:xfrm>
              <a:off x="2270160" y="5121360"/>
              <a:ext cx="299520" cy="271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342520" y="5136120"/>
              <a:ext cx="8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5" name=""/>
          <p:cNvSpPr/>
          <p:nvPr/>
        </p:nvSpPr>
        <p:spPr>
          <a:xfrm>
            <a:off x="1886040" y="5224320"/>
            <a:ext cx="698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886040" y="4680000"/>
            <a:ext cx="6984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7" name=""/>
          <p:cNvGrpSpPr/>
          <p:nvPr/>
        </p:nvGrpSpPr>
        <p:grpSpPr>
          <a:xfrm>
            <a:off x="2270160" y="4124160"/>
            <a:ext cx="299520" cy="271440"/>
            <a:chOff x="2270160" y="4124160"/>
            <a:chExt cx="299520" cy="271440"/>
          </a:xfrm>
        </p:grpSpPr>
        <p:sp>
          <p:nvSpPr>
            <p:cNvPr id="1208" name=""/>
            <p:cNvSpPr/>
            <p:nvPr/>
          </p:nvSpPr>
          <p:spPr>
            <a:xfrm>
              <a:off x="2270160" y="4124160"/>
              <a:ext cx="299520" cy="271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342520" y="4139280"/>
              <a:ext cx="8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0" name=""/>
          <p:cNvSpPr/>
          <p:nvPr/>
        </p:nvSpPr>
        <p:spPr>
          <a:xfrm>
            <a:off x="2119320" y="5438880"/>
            <a:ext cx="60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2119320" y="5346720"/>
            <a:ext cx="100080" cy="9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119320" y="5438880"/>
            <a:ext cx="100080" cy="9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2144520" y="3965400"/>
            <a:ext cx="599400" cy="180720"/>
            <a:chOff x="2144520" y="3965400"/>
            <a:chExt cx="599400" cy="180720"/>
          </a:xfrm>
        </p:grpSpPr>
        <p:sp>
          <p:nvSpPr>
            <p:cNvPr id="1214" name=""/>
            <p:cNvSpPr/>
            <p:nvPr/>
          </p:nvSpPr>
          <p:spPr>
            <a:xfrm flipH="1">
              <a:off x="2144520" y="4056120"/>
              <a:ext cx="5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H="1" flipV="1">
              <a:off x="2644560" y="3965400"/>
              <a:ext cx="9936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2644560" y="4056120"/>
              <a:ext cx="99360" cy="90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7" name=""/>
          <p:cNvSpPr/>
          <p:nvPr/>
        </p:nvSpPr>
        <p:spPr>
          <a:xfrm flipV="1">
            <a:off x="4782960" y="4438800"/>
            <a:ext cx="0" cy="714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344120" y="3348000"/>
            <a:ext cx="56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726640" y="3324240"/>
            <a:ext cx="59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2805120" y="4320720"/>
            <a:ext cx="0" cy="8161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1986120" y="330192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2049480" y="5508720"/>
                <a:ext cx="7430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500040" y="4842000"/>
                <a:ext cx="74916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4" name=""/>
              <p:cNvSpPr txBox="1"/>
              <p:nvPr/>
            </p:nvSpPr>
            <p:spPr>
              <a:xfrm>
                <a:off x="6130800" y="3522600"/>
                <a:ext cx="1735200" cy="25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r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s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MR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s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 na tranzystorach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5072040" y="1685520"/>
            <a:ext cx="144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222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3222720" y="2703240"/>
            <a:ext cx="2458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2728800" y="2949480"/>
            <a:ext cx="49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3468600" y="1685520"/>
            <a:ext cx="180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34656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468600" y="1685880"/>
            <a:ext cx="3700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319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H="1" flipV="1">
            <a:off x="5072040" y="2703240"/>
            <a:ext cx="2476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319720" y="2949480"/>
            <a:ext cx="49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95000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468600" y="3936960"/>
            <a:ext cx="160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072040" y="3227400"/>
            <a:ext cx="144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208400" y="3936960"/>
            <a:ext cx="1800" cy="73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086360" y="4657680"/>
            <a:ext cx="245880" cy="4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208400" y="5141880"/>
            <a:ext cx="180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208400" y="5423040"/>
            <a:ext cx="299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698920" y="3535200"/>
            <a:ext cx="144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575080" y="3913200"/>
            <a:ext cx="247320" cy="14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811840" y="2949480"/>
            <a:ext cx="1440" cy="12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866960" y="4183200"/>
            <a:ext cx="3944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927080" y="2949480"/>
            <a:ext cx="80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657960" y="2816280"/>
            <a:ext cx="235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644360" y="2816280"/>
            <a:ext cx="29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586040" y="4456080"/>
            <a:ext cx="3117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025440" y="20923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91276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441760" y="20797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37984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881360" y="2909880"/>
            <a:ext cx="6984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040360" y="16542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178160" y="3905280"/>
            <a:ext cx="69840" cy="698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131000" y="35305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H="1">
            <a:off x="1881360" y="3535200"/>
            <a:ext cx="80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1843200" y="350352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835280" y="415116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137360" y="165420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165800" y="5376960"/>
            <a:ext cx="7020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468600" y="2549520"/>
            <a:ext cx="49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578480" y="2549520"/>
            <a:ext cx="493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4548240" y="251784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930480" y="2517840"/>
            <a:ext cx="716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8" name=""/>
              <p:cNvSpPr txBox="1"/>
              <p:nvPr/>
            </p:nvSpPr>
            <p:spPr>
              <a:xfrm>
                <a:off x="785880" y="287964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9" name=""/>
              <p:cNvSpPr txBox="1"/>
              <p:nvPr/>
            </p:nvSpPr>
            <p:spPr>
              <a:xfrm>
                <a:off x="820800" y="3567240"/>
                <a:ext cx="7063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0" name=""/>
          <p:cNvSpPr/>
          <p:nvPr/>
        </p:nvSpPr>
        <p:spPr>
          <a:xfrm flipV="1">
            <a:off x="1870200" y="368604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1863720" y="304488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884760" y="196992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4074840" y="2557440"/>
            <a:ext cx="3524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6902280" y="4130640"/>
            <a:ext cx="609480" cy="609480"/>
            <a:chOff x="6902280" y="4130640"/>
            <a:chExt cx="609480" cy="609480"/>
          </a:xfrm>
        </p:grpSpPr>
        <p:sp>
          <p:nvSpPr>
            <p:cNvPr id="1275" name=""/>
            <p:cNvSpPr/>
            <p:nvPr/>
          </p:nvSpPr>
          <p:spPr>
            <a:xfrm>
              <a:off x="6902280" y="413064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V="1">
              <a:off x="7207200" y="428256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6888240" y="2014560"/>
            <a:ext cx="609480" cy="609480"/>
            <a:chOff x="6888240" y="2014560"/>
            <a:chExt cx="609480" cy="609480"/>
          </a:xfrm>
        </p:grpSpPr>
        <p:sp>
          <p:nvSpPr>
            <p:cNvPr id="1278" name=""/>
            <p:cNvSpPr/>
            <p:nvPr/>
          </p:nvSpPr>
          <p:spPr>
            <a:xfrm>
              <a:off x="6888240" y="201456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V="1">
              <a:off x="7193160" y="2166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0" name=""/>
          <p:cNvSpPr/>
          <p:nvPr/>
        </p:nvSpPr>
        <p:spPr>
          <a:xfrm>
            <a:off x="7197840" y="262728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180200" y="170964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7655760" y="19699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699680" y="48211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V="1">
            <a:off x="3475080" y="319212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219480" y="2952720"/>
            <a:ext cx="25704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H="1">
            <a:off x="5067000" y="2952720"/>
            <a:ext cx="23796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435480" y="251784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5025960" y="2546280"/>
            <a:ext cx="716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210440" y="4743360"/>
            <a:ext cx="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0" name=""/>
          <p:cNvGrpSpPr/>
          <p:nvPr/>
        </p:nvGrpSpPr>
        <p:grpSpPr>
          <a:xfrm>
            <a:off x="7223040" y="3459240"/>
            <a:ext cx="379440" cy="247680"/>
            <a:chOff x="7223040" y="3459240"/>
            <a:chExt cx="379440" cy="247680"/>
          </a:xfrm>
        </p:grpSpPr>
        <p:sp>
          <p:nvSpPr>
            <p:cNvPr id="1291" name=""/>
            <p:cNvSpPr/>
            <p:nvPr/>
          </p:nvSpPr>
          <p:spPr>
            <a:xfrm flipV="1">
              <a:off x="7223040" y="3581640"/>
              <a:ext cx="36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V="1">
              <a:off x="7600680" y="3459240"/>
              <a:ext cx="1800" cy="247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3" name=""/>
          <p:cNvSpPr/>
          <p:nvPr/>
        </p:nvSpPr>
        <p:spPr>
          <a:xfrm>
            <a:off x="7159680" y="35370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09320" y="1541880"/>
            <a:ext cx="2422800" cy="368640"/>
          </a:xfrm>
          <a:prstGeom prst="wedgeRectCallout">
            <a:avLst>
              <a:gd name="adj1" fmla="val 78032"/>
              <a:gd name="adj2" fmla="val 22356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yjście asymetryczn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930640" y="1051560"/>
            <a:ext cx="2422800" cy="368640"/>
          </a:xfrm>
          <a:prstGeom prst="wedgeRectCallout">
            <a:avLst>
              <a:gd name="adj1" fmla="val -84597"/>
              <a:gd name="adj2" fmla="val 36131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yjście asymetryczn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390840" y="749880"/>
            <a:ext cx="2206080" cy="368640"/>
          </a:xfrm>
          <a:prstGeom prst="wedgeRectCallout">
            <a:avLst>
              <a:gd name="adj1" fmla="val -16259"/>
              <a:gd name="adj2" fmla="val 29848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yjście symetrycz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008080" y="2709720"/>
            <a:ext cx="5504040" cy="3162600"/>
          </a:xfrm>
          <a:custGeom>
            <a:avLst/>
            <a:gdLst/>
            <a:ahLst/>
            <a:rect l="l" t="t" r="r" b="b"/>
            <a:pathLst>
              <a:path w="3467" h="1992">
                <a:moveTo>
                  <a:pt x="13" y="459"/>
                </a:moveTo>
                <a:cubicBezTo>
                  <a:pt x="19" y="394"/>
                  <a:pt x="0" y="140"/>
                  <a:pt x="52" y="70"/>
                </a:cubicBezTo>
                <a:cubicBezTo>
                  <a:pt x="104" y="0"/>
                  <a:pt x="233" y="35"/>
                  <a:pt x="325" y="39"/>
                </a:cubicBezTo>
                <a:cubicBezTo>
                  <a:pt x="417" y="43"/>
                  <a:pt x="519" y="44"/>
                  <a:pt x="605" y="93"/>
                </a:cubicBezTo>
                <a:cubicBezTo>
                  <a:pt x="691" y="142"/>
                  <a:pt x="794" y="256"/>
                  <a:pt x="839" y="335"/>
                </a:cubicBezTo>
                <a:cubicBezTo>
                  <a:pt x="884" y="414"/>
                  <a:pt x="866" y="494"/>
                  <a:pt x="878" y="569"/>
                </a:cubicBezTo>
                <a:cubicBezTo>
                  <a:pt x="890" y="644"/>
                  <a:pt x="865" y="740"/>
                  <a:pt x="909" y="787"/>
                </a:cubicBezTo>
                <a:cubicBezTo>
                  <a:pt x="953" y="834"/>
                  <a:pt x="1085" y="811"/>
                  <a:pt x="1143" y="849"/>
                </a:cubicBezTo>
                <a:cubicBezTo>
                  <a:pt x="1201" y="887"/>
                  <a:pt x="1242" y="917"/>
                  <a:pt x="1260" y="1013"/>
                </a:cubicBezTo>
                <a:cubicBezTo>
                  <a:pt x="1278" y="1109"/>
                  <a:pt x="1243" y="1298"/>
                  <a:pt x="1252" y="1426"/>
                </a:cubicBezTo>
                <a:cubicBezTo>
                  <a:pt x="1261" y="1554"/>
                  <a:pt x="1227" y="1692"/>
                  <a:pt x="1314" y="1784"/>
                </a:cubicBezTo>
                <a:cubicBezTo>
                  <a:pt x="1401" y="1876"/>
                  <a:pt x="1471" y="1966"/>
                  <a:pt x="1774" y="1979"/>
                </a:cubicBezTo>
                <a:cubicBezTo>
                  <a:pt x="2077" y="1992"/>
                  <a:pt x="2855" y="1946"/>
                  <a:pt x="3130" y="1862"/>
                </a:cubicBezTo>
                <a:cubicBezTo>
                  <a:pt x="3405" y="1778"/>
                  <a:pt x="3385" y="1611"/>
                  <a:pt x="3426" y="1473"/>
                </a:cubicBezTo>
                <a:cubicBezTo>
                  <a:pt x="3467" y="1335"/>
                  <a:pt x="3373" y="1180"/>
                  <a:pt x="3379" y="1036"/>
                </a:cubicBezTo>
                <a:cubicBezTo>
                  <a:pt x="3385" y="892"/>
                  <a:pt x="3447" y="697"/>
                  <a:pt x="3465" y="608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904760" y="2322360"/>
            <a:ext cx="4719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B1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943280" y="2743200"/>
            <a:ext cx="5170320" cy="2637000"/>
          </a:xfrm>
          <a:custGeom>
            <a:avLst/>
            <a:gdLst/>
            <a:ahLst/>
            <a:rect l="l" t="t" r="r" b="b"/>
            <a:pathLst>
              <a:path w="3257" h="1661">
                <a:moveTo>
                  <a:pt x="54" y="579"/>
                </a:moveTo>
                <a:cubicBezTo>
                  <a:pt x="27" y="731"/>
                  <a:pt x="0" y="883"/>
                  <a:pt x="62" y="961"/>
                </a:cubicBezTo>
                <a:cubicBezTo>
                  <a:pt x="124" y="1039"/>
                  <a:pt x="177" y="1034"/>
                  <a:pt x="428" y="1046"/>
                </a:cubicBezTo>
                <a:cubicBezTo>
                  <a:pt x="679" y="1058"/>
                  <a:pt x="1222" y="1039"/>
                  <a:pt x="1566" y="1031"/>
                </a:cubicBezTo>
                <a:cubicBezTo>
                  <a:pt x="1910" y="1023"/>
                  <a:pt x="2315" y="1083"/>
                  <a:pt x="2493" y="1000"/>
                </a:cubicBezTo>
                <a:cubicBezTo>
                  <a:pt x="2671" y="917"/>
                  <a:pt x="2621" y="684"/>
                  <a:pt x="2633" y="532"/>
                </a:cubicBezTo>
                <a:cubicBezTo>
                  <a:pt x="2645" y="380"/>
                  <a:pt x="2603" y="170"/>
                  <a:pt x="2563" y="88"/>
                </a:cubicBezTo>
                <a:cubicBezTo>
                  <a:pt x="2523" y="6"/>
                  <a:pt x="2476" y="0"/>
                  <a:pt x="2392" y="41"/>
                </a:cubicBezTo>
                <a:cubicBezTo>
                  <a:pt x="2308" y="82"/>
                  <a:pt x="2119" y="215"/>
                  <a:pt x="2057" y="337"/>
                </a:cubicBezTo>
                <a:cubicBezTo>
                  <a:pt x="1995" y="459"/>
                  <a:pt x="2083" y="688"/>
                  <a:pt x="2018" y="774"/>
                </a:cubicBezTo>
                <a:cubicBezTo>
                  <a:pt x="1953" y="860"/>
                  <a:pt x="1746" y="765"/>
                  <a:pt x="1667" y="852"/>
                </a:cubicBezTo>
                <a:cubicBezTo>
                  <a:pt x="1588" y="939"/>
                  <a:pt x="1516" y="1170"/>
                  <a:pt x="1542" y="1296"/>
                </a:cubicBezTo>
                <a:cubicBezTo>
                  <a:pt x="1568" y="1422"/>
                  <a:pt x="1649" y="1553"/>
                  <a:pt x="1823" y="1607"/>
                </a:cubicBezTo>
                <a:cubicBezTo>
                  <a:pt x="1997" y="1661"/>
                  <a:pt x="2366" y="1649"/>
                  <a:pt x="2587" y="1623"/>
                </a:cubicBezTo>
                <a:cubicBezTo>
                  <a:pt x="2808" y="1597"/>
                  <a:pt x="3042" y="1597"/>
                  <a:pt x="3148" y="1452"/>
                </a:cubicBezTo>
                <a:cubicBezTo>
                  <a:pt x="3254" y="1307"/>
                  <a:pt x="3208" y="901"/>
                  <a:pt x="3226" y="750"/>
                </a:cubicBezTo>
                <a:cubicBezTo>
                  <a:pt x="3244" y="599"/>
                  <a:pt x="3252" y="584"/>
                  <a:pt x="3257" y="548"/>
                </a:cubicBezTo>
              </a:path>
            </a:pathLst>
          </a:custGeom>
          <a:noFill/>
          <a:ln w="9360">
            <a:solidFill>
              <a:srgbClr val="00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233440" y="4413240"/>
            <a:ext cx="4125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009900"/>
                </a:solidFill>
                <a:latin typeface="Times New Roman"/>
              </a:rPr>
              <a:t>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 na tranzystorach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flipV="1">
            <a:off x="5072040" y="1685520"/>
            <a:ext cx="144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222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V="1">
            <a:off x="3222720" y="2703240"/>
            <a:ext cx="2458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 flipH="1">
            <a:off x="2728800" y="2949480"/>
            <a:ext cx="49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3468600" y="1685520"/>
            <a:ext cx="180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34656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468600" y="1685880"/>
            <a:ext cx="3700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319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H="1" flipV="1">
            <a:off x="5072040" y="2703240"/>
            <a:ext cx="2476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319720" y="2949480"/>
            <a:ext cx="49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95000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468600" y="3936960"/>
            <a:ext cx="160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5072040" y="3227400"/>
            <a:ext cx="144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245120" y="5423040"/>
            <a:ext cx="299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698920" y="3535200"/>
            <a:ext cx="144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2575080" y="3913200"/>
            <a:ext cx="247320" cy="14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5811840" y="2949480"/>
            <a:ext cx="1440" cy="12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1866960" y="4183200"/>
            <a:ext cx="3944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927080" y="2949480"/>
            <a:ext cx="80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657960" y="2816280"/>
            <a:ext cx="235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644360" y="2816280"/>
            <a:ext cx="29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02904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91276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49468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37984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881360" y="2909880"/>
            <a:ext cx="6984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040360" y="16542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78160" y="3905280"/>
            <a:ext cx="69840" cy="698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131000" y="35305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>
            <a:off x="1881360" y="3535200"/>
            <a:ext cx="80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843200" y="350352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1835280" y="415116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137360" y="165420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165800" y="5376960"/>
            <a:ext cx="7020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468600" y="2549520"/>
            <a:ext cx="49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578480" y="2549520"/>
            <a:ext cx="493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548240" y="251784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930480" y="2517840"/>
            <a:ext cx="716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785880" y="287964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820800" y="3567240"/>
                <a:ext cx="7063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2" name=""/>
          <p:cNvSpPr/>
          <p:nvPr/>
        </p:nvSpPr>
        <p:spPr>
          <a:xfrm flipV="1">
            <a:off x="1870200" y="368604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1863720" y="304488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884760" y="196992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H="1">
            <a:off x="4074840" y="2557440"/>
            <a:ext cx="3524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6902280" y="4130640"/>
            <a:ext cx="609480" cy="609480"/>
            <a:chOff x="6902280" y="4130640"/>
            <a:chExt cx="609480" cy="609480"/>
          </a:xfrm>
        </p:grpSpPr>
        <p:sp>
          <p:nvSpPr>
            <p:cNvPr id="1347" name=""/>
            <p:cNvSpPr/>
            <p:nvPr/>
          </p:nvSpPr>
          <p:spPr>
            <a:xfrm>
              <a:off x="6902280" y="413064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V="1">
              <a:off x="7207200" y="428256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9" name=""/>
          <p:cNvGrpSpPr/>
          <p:nvPr/>
        </p:nvGrpSpPr>
        <p:grpSpPr>
          <a:xfrm>
            <a:off x="6888240" y="2014560"/>
            <a:ext cx="609480" cy="609480"/>
            <a:chOff x="6888240" y="2014560"/>
            <a:chExt cx="609480" cy="609480"/>
          </a:xfrm>
        </p:grpSpPr>
        <p:sp>
          <p:nvSpPr>
            <p:cNvPr id="1350" name=""/>
            <p:cNvSpPr/>
            <p:nvPr/>
          </p:nvSpPr>
          <p:spPr>
            <a:xfrm>
              <a:off x="6888240" y="201456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V="1">
              <a:off x="7193160" y="2166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7197840" y="262728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7180200" y="170964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655760" y="19699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7699680" y="48211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V="1">
            <a:off x="3475080" y="319212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219480" y="2952720"/>
            <a:ext cx="25704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5067000" y="2952720"/>
            <a:ext cx="23796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435480" y="251784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5025960" y="2546280"/>
            <a:ext cx="716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7210440" y="4743360"/>
            <a:ext cx="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2" name=""/>
          <p:cNvGrpSpPr/>
          <p:nvPr/>
        </p:nvGrpSpPr>
        <p:grpSpPr>
          <a:xfrm>
            <a:off x="7223040" y="3459240"/>
            <a:ext cx="379440" cy="247680"/>
            <a:chOff x="7223040" y="3459240"/>
            <a:chExt cx="379440" cy="247680"/>
          </a:xfrm>
        </p:grpSpPr>
        <p:sp>
          <p:nvSpPr>
            <p:cNvPr id="1363" name=""/>
            <p:cNvSpPr/>
            <p:nvPr/>
          </p:nvSpPr>
          <p:spPr>
            <a:xfrm flipV="1">
              <a:off x="7223040" y="3581640"/>
              <a:ext cx="36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V="1">
              <a:off x="7600680" y="3459240"/>
              <a:ext cx="1800" cy="247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5" name=""/>
          <p:cNvSpPr/>
          <p:nvPr/>
        </p:nvSpPr>
        <p:spPr>
          <a:xfrm>
            <a:off x="7159680" y="35370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6" name=""/>
          <p:cNvGrpSpPr/>
          <p:nvPr/>
        </p:nvGrpSpPr>
        <p:grpSpPr>
          <a:xfrm>
            <a:off x="3962520" y="4400640"/>
            <a:ext cx="493560" cy="740880"/>
            <a:chOff x="3962520" y="4400640"/>
            <a:chExt cx="493560" cy="740880"/>
          </a:xfrm>
        </p:grpSpPr>
        <p:sp>
          <p:nvSpPr>
            <p:cNvPr id="1367" name=""/>
            <p:cNvSpPr/>
            <p:nvPr/>
          </p:nvSpPr>
          <p:spPr>
            <a:xfrm flipV="1">
              <a:off x="3962520" y="4647600"/>
              <a:ext cx="493560" cy="493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209120" y="4524480"/>
              <a:ext cx="0" cy="49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V="1">
              <a:off x="3962520" y="4400640"/>
              <a:ext cx="493560" cy="493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0" name=""/>
          <p:cNvSpPr/>
          <p:nvPr/>
        </p:nvSpPr>
        <p:spPr>
          <a:xfrm>
            <a:off x="4216320" y="395136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233960" y="51674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560480" y="4527720"/>
            <a:ext cx="42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452400" y="46339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 z obciążeniem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 flipV="1">
            <a:off x="5072040" y="1685520"/>
            <a:ext cx="144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222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 flipV="1">
            <a:off x="3222720" y="2703240"/>
            <a:ext cx="2458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H="1">
            <a:off x="2728800" y="2949480"/>
            <a:ext cx="49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flipV="1">
            <a:off x="3468600" y="1685520"/>
            <a:ext cx="180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34656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468600" y="1685880"/>
            <a:ext cx="3700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319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 flipH="1" flipV="1">
            <a:off x="5072040" y="2703240"/>
            <a:ext cx="2476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5319720" y="2949480"/>
            <a:ext cx="49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95000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468600" y="3936960"/>
            <a:ext cx="160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072040" y="3227400"/>
            <a:ext cx="144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208400" y="3936960"/>
            <a:ext cx="1800" cy="73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086360" y="4657680"/>
            <a:ext cx="245880" cy="4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208400" y="5141880"/>
            <a:ext cx="180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208400" y="5423040"/>
            <a:ext cx="299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698920" y="3535200"/>
            <a:ext cx="144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2575080" y="3913200"/>
            <a:ext cx="247320" cy="14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5811840" y="2949480"/>
            <a:ext cx="1440" cy="12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866960" y="4183200"/>
            <a:ext cx="3944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927080" y="2949480"/>
            <a:ext cx="80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657960" y="2816280"/>
            <a:ext cx="235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644360" y="2816280"/>
            <a:ext cx="29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02904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91276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549468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537984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881360" y="2909880"/>
            <a:ext cx="6984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040360" y="16542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178160" y="3905280"/>
            <a:ext cx="69840" cy="698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131000" y="35305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1881360" y="3535200"/>
            <a:ext cx="80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843200" y="350352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835280" y="415116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137360" y="165420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165800" y="5376960"/>
            <a:ext cx="7020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468600" y="2549520"/>
            <a:ext cx="49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454640" y="2549520"/>
            <a:ext cx="617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4" name=""/>
              <p:cNvSpPr txBox="1"/>
              <p:nvPr/>
            </p:nvSpPr>
            <p:spPr>
              <a:xfrm>
                <a:off x="785880" y="287964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5" name=""/>
              <p:cNvSpPr txBox="1"/>
              <p:nvPr/>
            </p:nvSpPr>
            <p:spPr>
              <a:xfrm>
                <a:off x="820800" y="3567240"/>
                <a:ext cx="7063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6" name=""/>
          <p:cNvSpPr/>
          <p:nvPr/>
        </p:nvSpPr>
        <p:spPr>
          <a:xfrm flipV="1">
            <a:off x="1870200" y="368604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1863720" y="304488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994560" y="285120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H="1">
            <a:off x="4020840" y="2822400"/>
            <a:ext cx="3524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0" name=""/>
          <p:cNvGrpSpPr/>
          <p:nvPr/>
        </p:nvGrpSpPr>
        <p:grpSpPr>
          <a:xfrm>
            <a:off x="6902280" y="4130640"/>
            <a:ext cx="609480" cy="609480"/>
            <a:chOff x="6902280" y="4130640"/>
            <a:chExt cx="609480" cy="609480"/>
          </a:xfrm>
        </p:grpSpPr>
        <p:sp>
          <p:nvSpPr>
            <p:cNvPr id="1421" name=""/>
            <p:cNvSpPr/>
            <p:nvPr/>
          </p:nvSpPr>
          <p:spPr>
            <a:xfrm>
              <a:off x="6902280" y="413064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V="1">
              <a:off x="7207200" y="428256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3" name=""/>
          <p:cNvGrpSpPr/>
          <p:nvPr/>
        </p:nvGrpSpPr>
        <p:grpSpPr>
          <a:xfrm>
            <a:off x="6888240" y="2014560"/>
            <a:ext cx="609480" cy="609480"/>
            <a:chOff x="6888240" y="2014560"/>
            <a:chExt cx="609480" cy="609480"/>
          </a:xfrm>
        </p:grpSpPr>
        <p:sp>
          <p:nvSpPr>
            <p:cNvPr id="1424" name=""/>
            <p:cNvSpPr/>
            <p:nvPr/>
          </p:nvSpPr>
          <p:spPr>
            <a:xfrm>
              <a:off x="6888240" y="201456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V="1">
              <a:off x="7193160" y="2166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6" name=""/>
          <p:cNvSpPr/>
          <p:nvPr/>
        </p:nvSpPr>
        <p:spPr>
          <a:xfrm>
            <a:off x="7197840" y="262728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180200" y="170964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7655760" y="19699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699680" y="48211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 flipV="1">
            <a:off x="3475080" y="319212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219480" y="2952720"/>
            <a:ext cx="25704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H="1">
            <a:off x="5067000" y="2952720"/>
            <a:ext cx="23796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435480" y="251784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025960" y="2546280"/>
            <a:ext cx="716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7210440" y="4743360"/>
            <a:ext cx="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6" name=""/>
          <p:cNvGrpSpPr/>
          <p:nvPr/>
        </p:nvGrpSpPr>
        <p:grpSpPr>
          <a:xfrm>
            <a:off x="7223040" y="3459240"/>
            <a:ext cx="379440" cy="247680"/>
            <a:chOff x="7223040" y="3459240"/>
            <a:chExt cx="379440" cy="247680"/>
          </a:xfrm>
        </p:grpSpPr>
        <p:sp>
          <p:nvSpPr>
            <p:cNvPr id="1437" name=""/>
            <p:cNvSpPr/>
            <p:nvPr/>
          </p:nvSpPr>
          <p:spPr>
            <a:xfrm flipV="1">
              <a:off x="7223040" y="3581640"/>
              <a:ext cx="36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V="1">
              <a:off x="7600680" y="3459240"/>
              <a:ext cx="1800" cy="247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9" name=""/>
          <p:cNvSpPr/>
          <p:nvPr/>
        </p:nvSpPr>
        <p:spPr>
          <a:xfrm>
            <a:off x="7159680" y="35370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rot="16200000">
            <a:off x="4114800" y="23317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046760" y="19890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475080" y="3368520"/>
            <a:ext cx="0" cy="441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5073480" y="3398760"/>
            <a:ext cx="0" cy="441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937240" y="3541680"/>
            <a:ext cx="42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277240" y="3537000"/>
            <a:ext cx="42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4568400" y="4564080"/>
            <a:ext cx="88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proszczony małosygnałowy model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V="1">
            <a:off x="5227560" y="2060640"/>
            <a:ext cx="3240" cy="24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3613320" y="2060640"/>
            <a:ext cx="1440" cy="24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1909800" y="3381480"/>
            <a:ext cx="10778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2987640" y="3381480"/>
            <a:ext cx="1800" cy="11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987640" y="4503600"/>
            <a:ext cx="2867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V="1">
            <a:off x="5854680" y="3381120"/>
            <a:ext cx="3240" cy="11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854680" y="3381480"/>
            <a:ext cx="9874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5" name=""/>
          <p:cNvGrpSpPr/>
          <p:nvPr/>
        </p:nvGrpSpPr>
        <p:grpSpPr>
          <a:xfrm>
            <a:off x="5046840" y="3586320"/>
            <a:ext cx="361440" cy="612000"/>
            <a:chOff x="5046840" y="3586320"/>
            <a:chExt cx="361440" cy="612000"/>
          </a:xfrm>
        </p:grpSpPr>
        <p:sp>
          <p:nvSpPr>
            <p:cNvPr id="1456" name=""/>
            <p:cNvSpPr/>
            <p:nvPr/>
          </p:nvSpPr>
          <p:spPr>
            <a:xfrm>
              <a:off x="5046840" y="3586320"/>
              <a:ext cx="361440" cy="40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046840" y="3787920"/>
              <a:ext cx="361440" cy="41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046840" y="3586320"/>
              <a:ext cx="361440" cy="407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9" name=""/>
          <p:cNvGrpSpPr/>
          <p:nvPr/>
        </p:nvGrpSpPr>
        <p:grpSpPr>
          <a:xfrm>
            <a:off x="3430440" y="3586320"/>
            <a:ext cx="363240" cy="612000"/>
            <a:chOff x="3430440" y="3586320"/>
            <a:chExt cx="363240" cy="612000"/>
          </a:xfrm>
        </p:grpSpPr>
        <p:sp>
          <p:nvSpPr>
            <p:cNvPr id="1460" name=""/>
            <p:cNvSpPr/>
            <p:nvPr/>
          </p:nvSpPr>
          <p:spPr>
            <a:xfrm>
              <a:off x="3430440" y="3586320"/>
              <a:ext cx="363240" cy="40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430440" y="3787920"/>
              <a:ext cx="363240" cy="41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430440" y="3586320"/>
              <a:ext cx="363240" cy="407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3" name=""/>
          <p:cNvSpPr/>
          <p:nvPr/>
        </p:nvSpPr>
        <p:spPr>
          <a:xfrm>
            <a:off x="3522600" y="2260440"/>
            <a:ext cx="181080" cy="41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137200" y="2260440"/>
            <a:ext cx="181080" cy="41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525840" y="2060640"/>
            <a:ext cx="17784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5137200" y="2060640"/>
            <a:ext cx="17928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268360" y="3279600"/>
            <a:ext cx="360720" cy="206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2894040" y="3686040"/>
            <a:ext cx="183960" cy="4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765760" y="3686040"/>
            <a:ext cx="179280" cy="4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419720" y="4503600"/>
            <a:ext cx="1440" cy="10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332240" y="5522760"/>
            <a:ext cx="179280" cy="18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329000" y="4910040"/>
            <a:ext cx="182520" cy="409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3570120" y="4454640"/>
            <a:ext cx="87480" cy="99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181480" y="4454640"/>
            <a:ext cx="92160" cy="99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375080" y="4454640"/>
            <a:ext cx="92160" cy="99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5181480" y="2924280"/>
            <a:ext cx="92160" cy="101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3570120" y="2924280"/>
            <a:ext cx="87480" cy="101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865160" y="3332160"/>
            <a:ext cx="88920" cy="100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6797520" y="3332160"/>
            <a:ext cx="87480" cy="100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822320" y="4707000"/>
            <a:ext cx="1796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751800" y="4707000"/>
            <a:ext cx="1774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2" name=""/>
          <p:cNvGrpSpPr/>
          <p:nvPr/>
        </p:nvGrpSpPr>
        <p:grpSpPr>
          <a:xfrm>
            <a:off x="2627280" y="3687840"/>
            <a:ext cx="178560" cy="510840"/>
            <a:chOff x="2627280" y="3687840"/>
            <a:chExt cx="178560" cy="510840"/>
          </a:xfrm>
        </p:grpSpPr>
        <p:sp>
          <p:nvSpPr>
            <p:cNvPr id="1483" name=""/>
            <p:cNvSpPr/>
            <p:nvPr/>
          </p:nvSpPr>
          <p:spPr>
            <a:xfrm>
              <a:off x="2716560" y="3687840"/>
              <a:ext cx="1440" cy="51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H="1">
              <a:off x="2627280" y="3687840"/>
              <a:ext cx="8928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716560" y="3687840"/>
              <a:ext cx="8928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6" name=""/>
          <p:cNvSpPr/>
          <p:nvPr/>
        </p:nvSpPr>
        <p:spPr>
          <a:xfrm>
            <a:off x="6122880" y="3687840"/>
            <a:ext cx="1800" cy="511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flipH="1">
            <a:off x="6035760" y="3687840"/>
            <a:ext cx="87120" cy="10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122880" y="3687840"/>
            <a:ext cx="92160" cy="10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9" name=""/>
          <p:cNvGrpSpPr/>
          <p:nvPr/>
        </p:nvGrpSpPr>
        <p:grpSpPr>
          <a:xfrm>
            <a:off x="3255480" y="2262240"/>
            <a:ext cx="177480" cy="509040"/>
            <a:chOff x="3255480" y="2262240"/>
            <a:chExt cx="177480" cy="509040"/>
          </a:xfrm>
        </p:grpSpPr>
        <p:sp>
          <p:nvSpPr>
            <p:cNvPr id="1490" name=""/>
            <p:cNvSpPr/>
            <p:nvPr/>
          </p:nvSpPr>
          <p:spPr>
            <a:xfrm flipV="1">
              <a:off x="3345480" y="2262240"/>
              <a:ext cx="1440" cy="509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H="1" flipV="1">
              <a:off x="3255480" y="2671200"/>
              <a:ext cx="8964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V="1">
              <a:off x="3345480" y="2671200"/>
              <a:ext cx="8748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3" name=""/>
          <p:cNvGrpSpPr/>
          <p:nvPr/>
        </p:nvGrpSpPr>
        <p:grpSpPr>
          <a:xfrm>
            <a:off x="5405400" y="2262240"/>
            <a:ext cx="180720" cy="509040"/>
            <a:chOff x="5405400" y="2262240"/>
            <a:chExt cx="180720" cy="509040"/>
          </a:xfrm>
        </p:grpSpPr>
        <p:sp>
          <p:nvSpPr>
            <p:cNvPr id="1494" name=""/>
            <p:cNvSpPr/>
            <p:nvPr/>
          </p:nvSpPr>
          <p:spPr>
            <a:xfrm flipV="1">
              <a:off x="5497560" y="2262240"/>
              <a:ext cx="2160" cy="509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H="1" flipV="1">
              <a:off x="5405400" y="2671200"/>
              <a:ext cx="9216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V="1">
              <a:off x="5497560" y="2671200"/>
              <a:ext cx="8856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7" name=""/>
          <p:cNvSpPr/>
          <p:nvPr/>
        </p:nvSpPr>
        <p:spPr>
          <a:xfrm>
            <a:off x="3791880" y="22604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3971160" y="24271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777560" y="22604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955400" y="24271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6230160" y="3787920"/>
            <a:ext cx="3175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b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385000" y="3787920"/>
            <a:ext cx="3175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951240" y="3992400"/>
            <a:ext cx="3891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1455480" y="3973680"/>
            <a:ext cx="3891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286520" y="2470320"/>
            <a:ext cx="2185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5699880" y="2260440"/>
            <a:ext cx="4028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Y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2918520" y="2360520"/>
            <a:ext cx="4028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Y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3833640" y="4097160"/>
            <a:ext cx="6955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368960" y="3373560"/>
            <a:ext cx="695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H="1">
            <a:off x="3848040" y="2809800"/>
            <a:ext cx="11145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rot="16200000">
            <a:off x="4264560" y="2775240"/>
            <a:ext cx="181080" cy="411120"/>
          </a:xfrm>
          <a:prstGeom prst="rect">
            <a:avLst/>
          </a:prstGeom>
          <a:solidFill>
            <a:srgbClr val="ffffff"/>
          </a:solidFill>
          <a:ln w="270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610080" y="29811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H="1">
            <a:off x="4552560" y="2971800"/>
            <a:ext cx="67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1905120" y="3610080"/>
            <a:ext cx="0" cy="10000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V="1">
            <a:off x="6838920" y="3552480"/>
            <a:ext cx="0" cy="1009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4154760" y="2019240"/>
            <a:ext cx="41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2105280" y="2795760"/>
            <a:ext cx="53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b’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5784120" y="2914560"/>
            <a:ext cx="502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b’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2222640" y="4114800"/>
            <a:ext cx="608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’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985000" y="4238640"/>
            <a:ext cx="608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’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610080" y="369576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5248440" y="374328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1689480" y="5800680"/>
            <a:ext cx="644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k pojemności w modelach tranzystorów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kres małych i średnich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4717800" y="5052960"/>
            <a:ext cx="109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lub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2038320" y="3381480"/>
            <a:ext cx="142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1249560" y="3257640"/>
            <a:ext cx="462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wzmacniacza różnicowe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obciążeniem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8" name=""/>
              <p:cNvSpPr txBox="1"/>
              <p:nvPr/>
            </p:nvSpPr>
            <p:spPr>
              <a:xfrm>
                <a:off x="1736640" y="1387440"/>
                <a:ext cx="5867640" cy="42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s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MRR</m:t>
                        </m:r>
                        <m:r>
                          <m:t xml:space="preserve">≃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≃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≃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29" name=""/>
          <p:cNvSpPr/>
          <p:nvPr/>
        </p:nvSpPr>
        <p:spPr>
          <a:xfrm>
            <a:off x="1275480" y="5773680"/>
            <a:ext cx="626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8000"/>
                </a:solidFill>
                <a:latin typeface="Times New Roman"/>
              </a:rPr>
              <a:t>Dla układu ze źródłem prądowym: R</a:t>
            </a:r>
            <a:r>
              <a:rPr b="0" lang="pl-PL" sz="2800" spc="-1" strike="noStrike" baseline="-25000">
                <a:solidFill>
                  <a:srgbClr val="008000"/>
                </a:solidFill>
                <a:latin typeface="Times New Roman"/>
              </a:rPr>
              <a:t>E </a:t>
            </a:r>
            <a:r>
              <a:rPr b="0" lang="pl-PL" sz="2800" spc="-1" strike="noStrike">
                <a:solidFill>
                  <a:srgbClr val="008000"/>
                </a:solidFill>
                <a:latin typeface="Symbol"/>
                <a:ea typeface="Symbol"/>
              </a:rPr>
              <a:t></a:t>
            </a:r>
            <a:r>
              <a:rPr b="0" lang="pl-PL" sz="2800" spc="-1" strike="noStrike">
                <a:solidFill>
                  <a:srgbClr val="008000"/>
                </a:solidFill>
                <a:latin typeface="Times New Roman"/>
              </a:rPr>
              <a:t> r</a:t>
            </a:r>
            <a:r>
              <a:rPr b="0" lang="pl-PL" sz="2800" spc="-1" strike="noStrike" baseline="-25000">
                <a:solidFill>
                  <a:srgbClr val="008000"/>
                </a:solidFill>
                <a:latin typeface="Times New Roman"/>
              </a:rPr>
              <a:t>ź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40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ównanie charakterystyk częstotliwościowych wzmacniaczy prądu zmiennego i stał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8360" y="2548080"/>
            <a:ext cx="1440" cy="19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5720" y="4378320"/>
            <a:ext cx="3353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360" y="3235320"/>
            <a:ext cx="2590560" cy="1143000"/>
          </a:xfrm>
          <a:custGeom>
            <a:avLst/>
            <a:gdLst/>
            <a:ahLst/>
            <a:rect l="l" t="t" r="r" b="b"/>
            <a:pathLst>
              <a:path w="1632" h="720">
                <a:moveTo>
                  <a:pt x="0" y="0"/>
                </a:moveTo>
                <a:lnTo>
                  <a:pt x="1123" y="0"/>
                </a:lnTo>
                <a:lnTo>
                  <a:pt x="1327" y="119"/>
                </a:lnTo>
                <a:lnTo>
                  <a:pt x="1479" y="299"/>
                </a:lnTo>
                <a:lnTo>
                  <a:pt x="1582" y="480"/>
                </a:lnTo>
                <a:lnTo>
                  <a:pt x="1632" y="72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662040" y="2548080"/>
            <a:ext cx="7632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8360" y="2548080"/>
            <a:ext cx="759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3786120" y="430200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786120" y="437832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5560" y="2268360"/>
            <a:ext cx="14904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440" y="2411280"/>
            <a:ext cx="3348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8880" y="2432160"/>
            <a:ext cx="331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Ku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3440" y="3097080"/>
            <a:ext cx="1713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5720" y="3219480"/>
            <a:ext cx="16200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95760" y="3387600"/>
            <a:ext cx="1440" cy="990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18200" y="2519280"/>
            <a:ext cx="1440" cy="198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65560" y="4349880"/>
            <a:ext cx="3353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89840" y="3435480"/>
            <a:ext cx="2211120" cy="876240"/>
          </a:xfrm>
          <a:custGeom>
            <a:avLst/>
            <a:gdLst/>
            <a:ahLst/>
            <a:rect l="l" t="t" r="r" b="b"/>
            <a:pathLst>
              <a:path w="1393" h="552">
                <a:moveTo>
                  <a:pt x="0" y="0"/>
                </a:moveTo>
                <a:lnTo>
                  <a:pt x="653" y="4"/>
                </a:lnTo>
                <a:lnTo>
                  <a:pt x="785" y="24"/>
                </a:lnTo>
                <a:lnTo>
                  <a:pt x="861" y="48"/>
                </a:lnTo>
                <a:lnTo>
                  <a:pt x="937" y="88"/>
                </a:lnTo>
                <a:lnTo>
                  <a:pt x="981" y="136"/>
                </a:lnTo>
                <a:lnTo>
                  <a:pt x="1049" y="220"/>
                </a:lnTo>
                <a:lnTo>
                  <a:pt x="1101" y="328"/>
                </a:lnTo>
                <a:lnTo>
                  <a:pt x="1181" y="448"/>
                </a:lnTo>
                <a:lnTo>
                  <a:pt x="1273" y="524"/>
                </a:lnTo>
                <a:lnTo>
                  <a:pt x="1393" y="55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141880" y="25192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18200" y="2519280"/>
            <a:ext cx="7596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8265960" y="427356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8265960" y="4349880"/>
            <a:ext cx="1526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13280" y="2382840"/>
            <a:ext cx="3351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18880" y="2386080"/>
            <a:ext cx="331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Ku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85080" y="4346640"/>
            <a:ext cx="198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745400" y="3664080"/>
            <a:ext cx="1440" cy="685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42280" y="4118040"/>
            <a:ext cx="198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19640" y="3440160"/>
            <a:ext cx="1149480" cy="912600"/>
          </a:xfrm>
          <a:custGeom>
            <a:avLst/>
            <a:gdLst/>
            <a:ahLst/>
            <a:rect l="l" t="t" r="r" b="b"/>
            <a:pathLst>
              <a:path w="724" h="575">
                <a:moveTo>
                  <a:pt x="724" y="0"/>
                </a:moveTo>
                <a:lnTo>
                  <a:pt x="508" y="1"/>
                </a:lnTo>
                <a:lnTo>
                  <a:pt x="396" y="49"/>
                </a:lnTo>
                <a:lnTo>
                  <a:pt x="337" y="91"/>
                </a:lnTo>
                <a:lnTo>
                  <a:pt x="260" y="165"/>
                </a:lnTo>
                <a:lnTo>
                  <a:pt x="216" y="235"/>
                </a:lnTo>
                <a:lnTo>
                  <a:pt x="156" y="395"/>
                </a:lnTo>
                <a:lnTo>
                  <a:pt x="100" y="513"/>
                </a:lnTo>
                <a:lnTo>
                  <a:pt x="60" y="549"/>
                </a:lnTo>
                <a:lnTo>
                  <a:pt x="0" y="57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218200" y="3664080"/>
            <a:ext cx="25336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04000" y="3511440"/>
            <a:ext cx="1440" cy="838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217840" y="3511440"/>
            <a:ext cx="6858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27680" y="4346640"/>
            <a:ext cx="19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094600" y="440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25840" y="440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70440" y="447840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48280" y="440676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12880" y="453060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9120" y="4459320"/>
            <a:ext cx="781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0" lang="pl-PL" sz="2800" spc="-1" strike="noStrike" baseline="-25000">
                <a:solidFill>
                  <a:srgbClr val="ff3300"/>
                </a:solidFill>
                <a:latin typeface="Times New Roman"/>
              </a:rPr>
              <a:t>d</a:t>
            </a:r>
            <a:r>
              <a:rPr b="0" lang="pl-PL" sz="2800" spc="-1" strike="noStrike">
                <a:solidFill>
                  <a:srgbClr val="ff3300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6560" y="1427040"/>
            <a:ext cx="75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zmacniacz prądu stałeg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zmacniacz prądy zmienn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03080" y="554040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59200" y="557532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akromodel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4632480" y="3432240"/>
            <a:ext cx="1330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2" name=""/>
          <p:cNvGrpSpPr/>
          <p:nvPr/>
        </p:nvGrpSpPr>
        <p:grpSpPr>
          <a:xfrm>
            <a:off x="4938840" y="3219480"/>
            <a:ext cx="411120" cy="487800"/>
            <a:chOff x="4938840" y="3219480"/>
            <a:chExt cx="411120" cy="487800"/>
          </a:xfrm>
        </p:grpSpPr>
        <p:sp>
          <p:nvSpPr>
            <p:cNvPr id="1533" name=""/>
            <p:cNvSpPr/>
            <p:nvPr/>
          </p:nvSpPr>
          <p:spPr>
            <a:xfrm>
              <a:off x="4938840" y="3227400"/>
              <a:ext cx="411120" cy="4111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111640" y="321948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5" name=""/>
          <p:cNvSpPr/>
          <p:nvPr/>
        </p:nvSpPr>
        <p:spPr>
          <a:xfrm>
            <a:off x="4632480" y="3330720"/>
            <a:ext cx="1440" cy="2044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6" name=""/>
          <p:cNvGrpSpPr/>
          <p:nvPr/>
        </p:nvGrpSpPr>
        <p:grpSpPr>
          <a:xfrm>
            <a:off x="4888080" y="3687840"/>
            <a:ext cx="512640" cy="204840"/>
            <a:chOff x="4888080" y="3687840"/>
            <a:chExt cx="512640" cy="204840"/>
          </a:xfrm>
        </p:grpSpPr>
        <p:sp>
          <p:nvSpPr>
            <p:cNvPr id="1537" name=""/>
            <p:cNvSpPr/>
            <p:nvPr/>
          </p:nvSpPr>
          <p:spPr>
            <a:xfrm>
              <a:off x="4888080" y="3790800"/>
              <a:ext cx="512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flipH="1" flipV="1">
              <a:off x="5297040" y="3687840"/>
              <a:ext cx="103320" cy="10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>
              <a:off x="5297040" y="3790800"/>
              <a:ext cx="10332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0" name=""/>
          <p:cNvSpPr/>
          <p:nvPr/>
        </p:nvSpPr>
        <p:spPr>
          <a:xfrm>
            <a:off x="5911920" y="3381480"/>
            <a:ext cx="102960" cy="101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flipV="1">
            <a:off x="5962680" y="2612520"/>
            <a:ext cx="1440" cy="16383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5962680" y="4251240"/>
            <a:ext cx="12301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5962680" y="2612880"/>
            <a:ext cx="12301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4" name=""/>
          <p:cNvGrpSpPr/>
          <p:nvPr/>
        </p:nvGrpSpPr>
        <p:grpSpPr>
          <a:xfrm>
            <a:off x="5757840" y="2809800"/>
            <a:ext cx="411120" cy="419040"/>
            <a:chOff x="5757840" y="2809800"/>
            <a:chExt cx="411120" cy="419040"/>
          </a:xfrm>
        </p:grpSpPr>
        <p:sp>
          <p:nvSpPr>
            <p:cNvPr id="1545" name=""/>
            <p:cNvSpPr/>
            <p:nvPr/>
          </p:nvSpPr>
          <p:spPr>
            <a:xfrm>
              <a:off x="5757840" y="2817720"/>
              <a:ext cx="411120" cy="4111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835600" y="280980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5757840" y="3629160"/>
            <a:ext cx="411120" cy="419040"/>
            <a:chOff x="5757840" y="3629160"/>
            <a:chExt cx="411120" cy="419040"/>
          </a:xfrm>
        </p:grpSpPr>
        <p:sp>
          <p:nvSpPr>
            <p:cNvPr id="1548" name=""/>
            <p:cNvSpPr/>
            <p:nvPr/>
          </p:nvSpPr>
          <p:spPr>
            <a:xfrm>
              <a:off x="5757840" y="3637080"/>
              <a:ext cx="411120" cy="4111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835600" y="362916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0" name=""/>
          <p:cNvSpPr/>
          <p:nvPr/>
        </p:nvSpPr>
        <p:spPr>
          <a:xfrm>
            <a:off x="7142040" y="4200480"/>
            <a:ext cx="101880" cy="103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7142040" y="2562120"/>
            <a:ext cx="101880" cy="1018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2" name=""/>
          <p:cNvGrpSpPr/>
          <p:nvPr/>
        </p:nvGrpSpPr>
        <p:grpSpPr>
          <a:xfrm>
            <a:off x="6168960" y="2716200"/>
            <a:ext cx="204840" cy="511200"/>
            <a:chOff x="6168960" y="2716200"/>
            <a:chExt cx="204840" cy="511200"/>
          </a:xfrm>
        </p:grpSpPr>
        <p:sp>
          <p:nvSpPr>
            <p:cNvPr id="1553" name=""/>
            <p:cNvSpPr/>
            <p:nvPr/>
          </p:nvSpPr>
          <p:spPr>
            <a:xfrm flipV="1">
              <a:off x="6270480" y="2716200"/>
              <a:ext cx="1800" cy="511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H="1">
              <a:off x="6168960" y="2716200"/>
              <a:ext cx="10152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270480" y="2716200"/>
              <a:ext cx="10332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6" name=""/>
          <p:cNvGrpSpPr/>
          <p:nvPr/>
        </p:nvGrpSpPr>
        <p:grpSpPr>
          <a:xfrm>
            <a:off x="6168960" y="3535200"/>
            <a:ext cx="204840" cy="511200"/>
            <a:chOff x="6168960" y="3535200"/>
            <a:chExt cx="204840" cy="511200"/>
          </a:xfrm>
        </p:grpSpPr>
        <p:sp>
          <p:nvSpPr>
            <p:cNvPr id="1557" name=""/>
            <p:cNvSpPr/>
            <p:nvPr/>
          </p:nvSpPr>
          <p:spPr>
            <a:xfrm flipV="1">
              <a:off x="6270480" y="3535200"/>
              <a:ext cx="1800" cy="511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H="1">
              <a:off x="6168960" y="3535200"/>
              <a:ext cx="10152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270480" y="3535200"/>
              <a:ext cx="10332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0" name=""/>
          <p:cNvSpPr/>
          <p:nvPr/>
        </p:nvSpPr>
        <p:spPr>
          <a:xfrm>
            <a:off x="7259040" y="224964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Y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187760" y="438156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Y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2" name=""/>
          <p:cNvGrpSpPr/>
          <p:nvPr/>
        </p:nvGrpSpPr>
        <p:grpSpPr>
          <a:xfrm>
            <a:off x="1353960" y="2562120"/>
            <a:ext cx="2613240" cy="1741680"/>
            <a:chOff x="1353960" y="2562120"/>
            <a:chExt cx="2613240" cy="1741680"/>
          </a:xfrm>
        </p:grpSpPr>
        <p:sp>
          <p:nvSpPr>
            <p:cNvPr id="1563" name=""/>
            <p:cNvSpPr/>
            <p:nvPr/>
          </p:nvSpPr>
          <p:spPr>
            <a:xfrm flipH="1">
              <a:off x="2633400" y="3432240"/>
              <a:ext cx="13316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3965400" y="3330720"/>
              <a:ext cx="1800" cy="204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583000" y="3381480"/>
              <a:ext cx="102960" cy="1015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V="1">
              <a:off x="2633760" y="2612520"/>
              <a:ext cx="1440" cy="163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H="1">
              <a:off x="1404720" y="4251240"/>
              <a:ext cx="12286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1404720" y="2612880"/>
              <a:ext cx="12286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353960" y="4200480"/>
              <a:ext cx="101880" cy="1033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1353960" y="2562120"/>
              <a:ext cx="101880" cy="101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1" name=""/>
          <p:cNvSpPr/>
          <p:nvPr/>
        </p:nvSpPr>
        <p:spPr>
          <a:xfrm>
            <a:off x="3094200" y="3328920"/>
            <a:ext cx="514080" cy="2062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762200" y="2509920"/>
            <a:ext cx="514440" cy="2062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762200" y="4148280"/>
            <a:ext cx="514440" cy="2062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907920" y="253224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907920" y="417024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359600" y="4051440"/>
            <a:ext cx="115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7" name=""/>
              <p:cNvSpPr txBox="1"/>
              <p:nvPr/>
            </p:nvSpPr>
            <p:spPr>
              <a:xfrm>
                <a:off x="6415200" y="2732040"/>
                <a:ext cx="11620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8" name=""/>
              <p:cNvSpPr txBox="1"/>
              <p:nvPr/>
            </p:nvSpPr>
            <p:spPr>
              <a:xfrm>
                <a:off x="6461280" y="3502080"/>
                <a:ext cx="11617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9" name=""/>
          <p:cNvSpPr/>
          <p:nvPr/>
        </p:nvSpPr>
        <p:spPr>
          <a:xfrm flipV="1">
            <a:off x="5962680" y="2892240"/>
            <a:ext cx="0" cy="24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flipV="1">
            <a:off x="5938920" y="37148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1" name=""/>
              <p:cNvSpPr txBox="1"/>
              <p:nvPr/>
            </p:nvSpPr>
            <p:spPr>
              <a:xfrm>
                <a:off x="2709720" y="2711520"/>
                <a:ext cx="1629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  <m:r>
                          <m:t xml:space="preserve">1,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2" name=""/>
              <p:cNvSpPr txBox="1"/>
              <p:nvPr/>
            </p:nvSpPr>
            <p:spPr>
              <a:xfrm>
                <a:off x="1766880" y="1909800"/>
                <a:ext cx="5983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3" name=""/>
              <p:cNvSpPr txBox="1"/>
              <p:nvPr/>
            </p:nvSpPr>
            <p:spPr>
              <a:xfrm>
                <a:off x="1676520" y="3632040"/>
                <a:ext cx="6253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stałoprądowe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5" name=""/>
          <p:cNvGrpSpPr/>
          <p:nvPr/>
        </p:nvGrpSpPr>
        <p:grpSpPr>
          <a:xfrm>
            <a:off x="2610000" y="1655640"/>
            <a:ext cx="5531040" cy="3249000"/>
            <a:chOff x="2610000" y="1655640"/>
            <a:chExt cx="5531040" cy="3249000"/>
          </a:xfrm>
        </p:grpSpPr>
        <p:sp>
          <p:nvSpPr>
            <p:cNvPr id="1586" name=""/>
            <p:cNvSpPr/>
            <p:nvPr/>
          </p:nvSpPr>
          <p:spPr>
            <a:xfrm>
              <a:off x="4757040" y="1655640"/>
              <a:ext cx="1800" cy="298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757040" y="2422800"/>
              <a:ext cx="1587600" cy="110952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0" y="624"/>
                  </a:moveTo>
                  <a:lnTo>
                    <a:pt x="50" y="351"/>
                  </a:lnTo>
                  <a:lnTo>
                    <a:pt x="151" y="117"/>
                  </a:lnTo>
                  <a:lnTo>
                    <a:pt x="252" y="39"/>
                  </a:lnTo>
                  <a:lnTo>
                    <a:pt x="404" y="0"/>
                  </a:lnTo>
                  <a:lnTo>
                    <a:pt x="959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165840" y="3445560"/>
              <a:ext cx="1589040" cy="110952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959" y="0"/>
                  </a:moveTo>
                  <a:lnTo>
                    <a:pt x="909" y="273"/>
                  </a:lnTo>
                  <a:lnTo>
                    <a:pt x="808" y="507"/>
                  </a:lnTo>
                  <a:lnTo>
                    <a:pt x="707" y="585"/>
                  </a:lnTo>
                  <a:lnTo>
                    <a:pt x="555" y="624"/>
                  </a:lnTo>
                  <a:lnTo>
                    <a:pt x="0" y="624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757040" y="3447000"/>
              <a:ext cx="1587600" cy="110988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0" y="0"/>
                  </a:moveTo>
                  <a:lnTo>
                    <a:pt x="50" y="273"/>
                  </a:lnTo>
                  <a:lnTo>
                    <a:pt x="151" y="507"/>
                  </a:lnTo>
                  <a:lnTo>
                    <a:pt x="252" y="585"/>
                  </a:lnTo>
                  <a:lnTo>
                    <a:pt x="404" y="624"/>
                  </a:lnTo>
                  <a:lnTo>
                    <a:pt x="959" y="624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164400" y="2422800"/>
              <a:ext cx="1588680" cy="110952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959" y="624"/>
                  </a:moveTo>
                  <a:lnTo>
                    <a:pt x="909" y="351"/>
                  </a:lnTo>
                  <a:lnTo>
                    <a:pt x="808" y="117"/>
                  </a:lnTo>
                  <a:lnTo>
                    <a:pt x="707" y="39"/>
                  </a:lnTo>
                  <a:lnTo>
                    <a:pt x="555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H="1">
              <a:off x="4676760" y="1655640"/>
              <a:ext cx="79560" cy="16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757040" y="1655640"/>
              <a:ext cx="79560" cy="16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610000" y="4557240"/>
              <a:ext cx="4772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H="1" flipV="1">
              <a:off x="7222680" y="4471200"/>
              <a:ext cx="15948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H="1">
              <a:off x="7222680" y="4557240"/>
              <a:ext cx="159480" cy="8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280400" y="4387680"/>
              <a:ext cx="95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280400" y="2594160"/>
              <a:ext cx="952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073120" y="414684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073120" y="269820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802320" y="24411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108840" y="24411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677120" y="3447000"/>
              <a:ext cx="159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148440" y="2575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841200" y="2575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028200" y="466092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108840" y="4471200"/>
              <a:ext cx="144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405240" y="4471200"/>
              <a:ext cx="144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245760" y="4660920"/>
              <a:ext cx="37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849360" y="4048560"/>
              <a:ext cx="12916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[m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0" name=""/>
          <p:cNvSpPr/>
          <p:nvPr/>
        </p:nvSpPr>
        <p:spPr>
          <a:xfrm>
            <a:off x="4403520" y="1353960"/>
            <a:ext cx="93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1" name=""/>
              <p:cNvSpPr txBox="1"/>
              <p:nvPr/>
            </p:nvSpPr>
            <p:spPr>
              <a:xfrm>
                <a:off x="262080" y="2335320"/>
                <a:ext cx="1995480" cy="21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+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 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r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ϕ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+e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r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ϕ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stałoprądowe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3" name=""/>
          <p:cNvGrpSpPr/>
          <p:nvPr/>
        </p:nvGrpSpPr>
        <p:grpSpPr>
          <a:xfrm>
            <a:off x="3299760" y="1230480"/>
            <a:ext cx="4803120" cy="3920760"/>
            <a:chOff x="3299760" y="1230480"/>
            <a:chExt cx="4803120" cy="3920760"/>
          </a:xfrm>
        </p:grpSpPr>
        <p:sp>
          <p:nvSpPr>
            <p:cNvPr id="1614" name=""/>
            <p:cNvSpPr/>
            <p:nvPr/>
          </p:nvSpPr>
          <p:spPr>
            <a:xfrm>
              <a:off x="6811200" y="2579040"/>
              <a:ext cx="12916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[m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794920" y="1535760"/>
              <a:ext cx="1800" cy="361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828240" y="3343680"/>
              <a:ext cx="412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696640" y="313092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696640" y="281160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696640" y="249264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696640" y="217368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696640" y="185472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696640" y="483228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696640" y="451332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696640" y="419436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696640" y="387540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5696640" y="355644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7" name=""/>
            <p:cNvGrpSpPr/>
            <p:nvPr/>
          </p:nvGrpSpPr>
          <p:grpSpPr>
            <a:xfrm>
              <a:off x="4418280" y="3236760"/>
              <a:ext cx="2754360" cy="212040"/>
              <a:chOff x="4418280" y="3236760"/>
              <a:chExt cx="2754360" cy="212040"/>
            </a:xfrm>
          </p:grpSpPr>
          <p:sp>
            <p:nvSpPr>
              <p:cNvPr id="1628" name=""/>
              <p:cNvSpPr/>
              <p:nvPr/>
            </p:nvSpPr>
            <p:spPr>
              <a:xfrm flipV="1">
                <a:off x="559764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 flipV="1">
                <a:off x="530280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 flipV="1">
                <a:off x="500796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flipV="1">
                <a:off x="471312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flipV="1">
                <a:off x="441828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 flipV="1">
                <a:off x="717084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 flipV="1">
                <a:off x="687600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flipV="1">
                <a:off x="658116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 flipV="1">
                <a:off x="628596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 flipV="1">
                <a:off x="599112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8" name=""/>
            <p:cNvSpPr/>
            <p:nvPr/>
          </p:nvSpPr>
          <p:spPr>
            <a:xfrm>
              <a:off x="7170480" y="347220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827880" y="3472200"/>
              <a:ext cx="37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695200" y="3427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826440" y="1961280"/>
              <a:ext cx="1964160" cy="138240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959" y="624"/>
                  </a:moveTo>
                  <a:lnTo>
                    <a:pt x="909" y="351"/>
                  </a:lnTo>
                  <a:lnTo>
                    <a:pt x="808" y="117"/>
                  </a:lnTo>
                  <a:lnTo>
                    <a:pt x="707" y="39"/>
                  </a:lnTo>
                  <a:lnTo>
                    <a:pt x="555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828240" y="2811600"/>
              <a:ext cx="1959840" cy="529200"/>
            </a:xfrm>
            <a:custGeom>
              <a:avLst/>
              <a:gdLst/>
              <a:ahLst/>
              <a:rect l="l" t="t" r="r" b="b"/>
              <a:pathLst>
                <a:path w="957" h="239">
                  <a:moveTo>
                    <a:pt x="957" y="239"/>
                  </a:moveTo>
                  <a:lnTo>
                    <a:pt x="908" y="134"/>
                  </a:lnTo>
                  <a:lnTo>
                    <a:pt x="807" y="44"/>
                  </a:lnTo>
                  <a:lnTo>
                    <a:pt x="706" y="14"/>
                  </a:lnTo>
                  <a:lnTo>
                    <a:pt x="554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790960" y="3343680"/>
              <a:ext cx="1964160" cy="138168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0" y="0"/>
                  </a:moveTo>
                  <a:lnTo>
                    <a:pt x="50" y="273"/>
                  </a:lnTo>
                  <a:lnTo>
                    <a:pt x="151" y="507"/>
                  </a:lnTo>
                  <a:lnTo>
                    <a:pt x="252" y="585"/>
                  </a:lnTo>
                  <a:lnTo>
                    <a:pt x="404" y="624"/>
                  </a:lnTo>
                  <a:lnTo>
                    <a:pt x="959" y="624"/>
                  </a:lnTo>
                </a:path>
              </a:pathLst>
            </a:custGeom>
            <a:noFill/>
            <a:ln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790960" y="3343680"/>
              <a:ext cx="1959840" cy="529200"/>
            </a:xfrm>
            <a:custGeom>
              <a:avLst/>
              <a:gdLst/>
              <a:ahLst/>
              <a:rect l="l" t="t" r="r" b="b"/>
              <a:pathLst>
                <a:path w="957" h="239">
                  <a:moveTo>
                    <a:pt x="0" y="0"/>
                  </a:moveTo>
                  <a:lnTo>
                    <a:pt x="49" y="105"/>
                  </a:lnTo>
                  <a:lnTo>
                    <a:pt x="150" y="195"/>
                  </a:lnTo>
                  <a:lnTo>
                    <a:pt x="251" y="225"/>
                  </a:lnTo>
                  <a:lnTo>
                    <a:pt x="403" y="239"/>
                  </a:lnTo>
                  <a:lnTo>
                    <a:pt x="957" y="239"/>
                  </a:lnTo>
                </a:path>
              </a:pathLst>
            </a:custGeom>
            <a:noFill/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299760" y="1230480"/>
              <a:ext cx="1426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&gt;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320720" y="4619880"/>
              <a:ext cx="506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    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538520" y="4241160"/>
              <a:ext cx="15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398760" y="2176200"/>
              <a:ext cx="8348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H="1">
              <a:off x="5696280" y="1535760"/>
              <a:ext cx="9828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794920" y="1535760"/>
              <a:ext cx="9792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761240" y="3237120"/>
              <a:ext cx="19620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H="1">
              <a:off x="7760880" y="3343680"/>
              <a:ext cx="19620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187680" y="1385640"/>
              <a:ext cx="1014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[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498640" y="16642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500080" y="474840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56" name=""/>
              <p:cNvSpPr txBox="1"/>
              <p:nvPr/>
            </p:nvSpPr>
            <p:spPr>
              <a:xfrm>
                <a:off x="353880" y="4051440"/>
                <a:ext cx="347364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r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7" name=""/>
              <p:cNvSpPr txBox="1"/>
              <p:nvPr/>
            </p:nvSpPr>
            <p:spPr>
              <a:xfrm>
                <a:off x="520560" y="5900760"/>
                <a:ext cx="23180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"/>
          <p:cNvSpPr/>
          <p:nvPr/>
        </p:nvSpPr>
        <p:spPr>
          <a:xfrm>
            <a:off x="243000" y="452520"/>
            <a:ext cx="8597880" cy="56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. Przy napięciach wejściowych różnicowych  większych od około 100mV  wzmacniacz różnicowy na tranzystorach bipolarnych zaczyna ograniczać poziom sygnał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. Dla napięć wejściowych różnicowych powyżej 200mV wzmacniacz różnicowy przestaje wzmacnia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3. W celu zwiększenia impedancji wejściowych wzmacniacza różnicowego stosuje    się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y Darlingto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ranzystory polowe (układy tzw. BiFe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4. Tranzystory tzw. Super-Beta o wzmocnieniu prądowym n*1000 A/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9" name=""/>
          <p:cNvGrpSpPr/>
          <p:nvPr/>
        </p:nvGrpSpPr>
        <p:grpSpPr>
          <a:xfrm>
            <a:off x="3932280" y="3949560"/>
            <a:ext cx="624960" cy="833400"/>
            <a:chOff x="3932280" y="3949560"/>
            <a:chExt cx="624960" cy="833400"/>
          </a:xfrm>
        </p:grpSpPr>
        <p:grpSp>
          <p:nvGrpSpPr>
            <p:cNvPr id="1660" name=""/>
            <p:cNvGrpSpPr/>
            <p:nvPr/>
          </p:nvGrpSpPr>
          <p:grpSpPr>
            <a:xfrm>
              <a:off x="4396680" y="4286880"/>
              <a:ext cx="160560" cy="322200"/>
              <a:chOff x="4396680" y="4286880"/>
              <a:chExt cx="160560" cy="322200"/>
            </a:xfrm>
          </p:grpSpPr>
          <p:sp>
            <p:nvSpPr>
              <p:cNvPr id="1661" name=""/>
              <p:cNvSpPr/>
              <p:nvPr/>
            </p:nvSpPr>
            <p:spPr>
              <a:xfrm>
                <a:off x="4396680" y="4287240"/>
                <a:ext cx="0" cy="32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4396680" y="444816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flipV="1">
                <a:off x="4396680" y="428688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4" name=""/>
            <p:cNvGrpSpPr/>
            <p:nvPr/>
          </p:nvGrpSpPr>
          <p:grpSpPr>
            <a:xfrm>
              <a:off x="4110840" y="4150440"/>
              <a:ext cx="160560" cy="322200"/>
              <a:chOff x="4110840" y="4150440"/>
              <a:chExt cx="160560" cy="322200"/>
            </a:xfrm>
          </p:grpSpPr>
          <p:sp>
            <p:nvSpPr>
              <p:cNvPr id="1665" name=""/>
              <p:cNvSpPr/>
              <p:nvPr/>
            </p:nvSpPr>
            <p:spPr>
              <a:xfrm>
                <a:off x="4110840" y="4150800"/>
                <a:ext cx="0" cy="32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4110840" y="431172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flipV="1">
                <a:off x="4110840" y="415044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8" name=""/>
            <p:cNvSpPr/>
            <p:nvPr/>
          </p:nvSpPr>
          <p:spPr>
            <a:xfrm>
              <a:off x="4267080" y="4459320"/>
              <a:ext cx="12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267080" y="4148640"/>
              <a:ext cx="2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V="1">
              <a:off x="4539600" y="3949560"/>
              <a:ext cx="0" cy="33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>
              <a:off x="3932280" y="4311000"/>
              <a:ext cx="16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539600" y="4596120"/>
              <a:ext cx="0" cy="18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3" name=""/>
          <p:cNvSpPr/>
          <p:nvPr/>
        </p:nvSpPr>
        <p:spPr>
          <a:xfrm>
            <a:off x="7445520" y="331632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4" name=""/>
          <p:cNvGrpSpPr/>
          <p:nvPr/>
        </p:nvGrpSpPr>
        <p:grpSpPr>
          <a:xfrm>
            <a:off x="5892840" y="4779720"/>
            <a:ext cx="624960" cy="707760"/>
            <a:chOff x="5892840" y="4779720"/>
            <a:chExt cx="624960" cy="707760"/>
          </a:xfrm>
        </p:grpSpPr>
        <p:grpSp>
          <p:nvGrpSpPr>
            <p:cNvPr id="1675" name=""/>
            <p:cNvGrpSpPr/>
            <p:nvPr/>
          </p:nvGrpSpPr>
          <p:grpSpPr>
            <a:xfrm>
              <a:off x="6370560" y="5054400"/>
              <a:ext cx="131040" cy="262080"/>
              <a:chOff x="6370560" y="5054400"/>
              <a:chExt cx="131040" cy="262080"/>
            </a:xfrm>
          </p:grpSpPr>
          <p:sp>
            <p:nvSpPr>
              <p:cNvPr id="1676" name=""/>
              <p:cNvSpPr/>
              <p:nvPr/>
            </p:nvSpPr>
            <p:spPr>
              <a:xfrm>
                <a:off x="6370560" y="5054400"/>
                <a:ext cx="0" cy="262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6370560" y="5185440"/>
                <a:ext cx="13104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V="1">
                <a:off x="6370560" y="5054400"/>
                <a:ext cx="13104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9" name=""/>
            <p:cNvSpPr/>
            <p:nvPr/>
          </p:nvSpPr>
          <p:spPr>
            <a:xfrm>
              <a:off x="6074640" y="5002200"/>
              <a:ext cx="0" cy="25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892840" y="5134320"/>
              <a:ext cx="18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074640" y="5083200"/>
              <a:ext cx="14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081120" y="5180760"/>
              <a:ext cx="28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V="1">
              <a:off x="6215760" y="4880880"/>
              <a:ext cx="0" cy="20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V="1">
              <a:off x="6499800" y="4779720"/>
              <a:ext cx="0" cy="28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6226920" y="489096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499800" y="5316480"/>
              <a:ext cx="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475320" y="4867560"/>
              <a:ext cx="42480" cy="42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71640" y="2287440"/>
            <a:ext cx="9064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raktycznie wszystkie stopnie wejściowe wzmacniaczy operacyj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Stopnie wejściowe wzmacniaczy mo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Wzmacniacze o liniowo regulowanym wzmocnieni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układu o strukturz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162000" y="1582560"/>
            <a:ext cx="8840880" cy="41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Jako wzmacniacz sygnałów różnicowych, z jednoczesnym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łumieniem sygnałów wspól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Jako tzw. wzmacniacz-ogranicznik (eliminacja zakłóceń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Klucz prądow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4. Regulator poziomu sygnał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5. Układ mnożący - modulator amplitudy, detektor fazy, it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6. Kaskoda (o regulowanym wzmocnieniu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yft napięciowy i dryft prąd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1120" y="3929040"/>
            <a:ext cx="7675560" cy="2311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ryft napięci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st to zmiana poziomu napięcia wyjściowego wywołana zmianami temperatury i/lub wzmocnienia przy 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on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ryft prąd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st to zmiana wartości prądu wyjściowego wywołana zmianami temperatury i/lub wzmocnienia przy 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on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87560" y="1012680"/>
            <a:ext cx="7092720" cy="2575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 idealnym wzmacniaczu prądu stał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1" lang="pl-PL" sz="20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1" lang="pl-PL" sz="2000" spc="-1" strike="noStrike">
                <a:solidFill>
                  <a:srgbClr val="ff3300"/>
                </a:solidFill>
                <a:latin typeface="Times New Roman"/>
              </a:rPr>
              <a:t>=f(U</a:t>
            </a:r>
            <a:r>
              <a:rPr b="1" lang="pl-PL" sz="20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1" lang="pl-PL" sz="2000" spc="-1" strike="noStrike">
                <a:solidFill>
                  <a:srgbClr val="ff3300"/>
                </a:solidFill>
                <a:latin typeface="Times New Roman"/>
              </a:rPr>
              <a:t>)=const. jeśli U</a:t>
            </a:r>
            <a:r>
              <a:rPr b="1" lang="pl-PL" sz="20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1" lang="pl-PL" sz="2000" spc="-1" strike="noStrike">
                <a:solidFill>
                  <a:srgbClr val="ff3300"/>
                </a:solidFill>
                <a:latin typeface="Times New Roman"/>
              </a:rPr>
              <a:t>=con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rzeczywistym wzmacniaczu prądu stałego napięcie (prą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 wyjściu zmienia się, mimo że sygnał wejściowy jest stał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Zjawisko to nazywamy dryftem wzmacniacz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czyny powstawania dryf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61120" y="2384280"/>
            <a:ext cx="5886720" cy="282420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Zmiany tempera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Zmiany napięć zasilając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Starzenie się element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Wpływ promieniowania jonizując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czny dryft napięciowy i prąd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28600" y="4038480"/>
                <a:ext cx="16239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7162920" y="3962520"/>
                <a:ext cx="15080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04920" y="5334120"/>
                <a:ext cx="167472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Δ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7238880" y="5105520"/>
                <a:ext cx="150660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4" name=""/>
          <p:cNvGrpSpPr/>
          <p:nvPr/>
        </p:nvGrpSpPr>
        <p:grpSpPr>
          <a:xfrm>
            <a:off x="1984320" y="1066680"/>
            <a:ext cx="5300280" cy="3771360"/>
            <a:chOff x="1984320" y="1066680"/>
            <a:chExt cx="5300280" cy="3771360"/>
          </a:xfrm>
        </p:grpSpPr>
        <p:sp>
          <p:nvSpPr>
            <p:cNvPr id="95" name=""/>
            <p:cNvSpPr/>
            <p:nvPr/>
          </p:nvSpPr>
          <p:spPr>
            <a:xfrm>
              <a:off x="6418080" y="4378320"/>
              <a:ext cx="86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 [K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84320" y="4268880"/>
              <a:ext cx="480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2195280" y="1239840"/>
              <a:ext cx="0" cy="32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9720" y="1066680"/>
              <a:ext cx="1243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31760" y="2085840"/>
              <a:ext cx="2963880" cy="1055880"/>
            </a:xfrm>
            <a:custGeom>
              <a:avLst/>
              <a:gdLst/>
              <a:ahLst/>
              <a:rect l="l" t="t" r="r" b="b"/>
              <a:pathLst>
                <a:path w="2016" h="720">
                  <a:moveTo>
                    <a:pt x="0" y="720"/>
                  </a:moveTo>
                  <a:cubicBezTo>
                    <a:pt x="264" y="580"/>
                    <a:pt x="528" y="440"/>
                    <a:pt x="768" y="336"/>
                  </a:cubicBezTo>
                  <a:cubicBezTo>
                    <a:pt x="1008" y="232"/>
                    <a:pt x="1232" y="152"/>
                    <a:pt x="1440" y="96"/>
                  </a:cubicBezTo>
                  <a:cubicBezTo>
                    <a:pt x="1648" y="40"/>
                    <a:pt x="1920" y="16"/>
                    <a:pt x="201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49120" y="1371600"/>
              <a:ext cx="156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=cons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31880" y="281952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5108400" y="22096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31880" y="28195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08400" y="28195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136600" y="2819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212560" y="220968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289600" y="5289480"/>
            <a:ext cx="476172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Dryft termiczny powstaje wskutek zm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unktów pracy elementów (tranzystory, di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yft wzmocni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668600" y="1631520"/>
            <a:ext cx="1440" cy="3963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93920" y="5322960"/>
            <a:ext cx="45115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530360" y="1631880"/>
            <a:ext cx="138240" cy="273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68600" y="1631880"/>
            <a:ext cx="136440" cy="273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5632560" y="5186160"/>
            <a:ext cx="272880" cy="136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632560" y="5322960"/>
            <a:ext cx="272880" cy="136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50960" y="2981160"/>
            <a:ext cx="3708360" cy="430200"/>
          </a:xfrm>
          <a:custGeom>
            <a:avLst/>
            <a:gdLst/>
            <a:ahLst/>
            <a:rect l="l" t="t" r="r" b="b"/>
            <a:pathLst>
              <a:path w="2336" h="271">
                <a:moveTo>
                  <a:pt x="3" y="169"/>
                </a:moveTo>
                <a:lnTo>
                  <a:pt x="0" y="160"/>
                </a:lnTo>
                <a:lnTo>
                  <a:pt x="9" y="160"/>
                </a:lnTo>
                <a:lnTo>
                  <a:pt x="20" y="160"/>
                </a:lnTo>
                <a:lnTo>
                  <a:pt x="30" y="158"/>
                </a:lnTo>
                <a:lnTo>
                  <a:pt x="30" y="157"/>
                </a:lnTo>
                <a:lnTo>
                  <a:pt x="30" y="153"/>
                </a:lnTo>
                <a:lnTo>
                  <a:pt x="39" y="153"/>
                </a:lnTo>
                <a:lnTo>
                  <a:pt x="39" y="151"/>
                </a:lnTo>
                <a:lnTo>
                  <a:pt x="50" y="151"/>
                </a:lnTo>
                <a:lnTo>
                  <a:pt x="50" y="146"/>
                </a:lnTo>
                <a:lnTo>
                  <a:pt x="61" y="146"/>
                </a:lnTo>
                <a:lnTo>
                  <a:pt x="61" y="144"/>
                </a:lnTo>
                <a:lnTo>
                  <a:pt x="61" y="142"/>
                </a:lnTo>
                <a:lnTo>
                  <a:pt x="70" y="137"/>
                </a:lnTo>
                <a:lnTo>
                  <a:pt x="81" y="135"/>
                </a:lnTo>
                <a:lnTo>
                  <a:pt x="91" y="135"/>
                </a:lnTo>
                <a:lnTo>
                  <a:pt x="102" y="130"/>
                </a:lnTo>
                <a:lnTo>
                  <a:pt x="111" y="126"/>
                </a:lnTo>
                <a:lnTo>
                  <a:pt x="122" y="126"/>
                </a:lnTo>
                <a:lnTo>
                  <a:pt x="133" y="122"/>
                </a:lnTo>
                <a:lnTo>
                  <a:pt x="142" y="122"/>
                </a:lnTo>
                <a:lnTo>
                  <a:pt x="142" y="119"/>
                </a:lnTo>
                <a:lnTo>
                  <a:pt x="142" y="117"/>
                </a:lnTo>
                <a:lnTo>
                  <a:pt x="152" y="117"/>
                </a:lnTo>
                <a:lnTo>
                  <a:pt x="152" y="113"/>
                </a:lnTo>
                <a:lnTo>
                  <a:pt x="163" y="112"/>
                </a:lnTo>
                <a:lnTo>
                  <a:pt x="163" y="110"/>
                </a:lnTo>
                <a:lnTo>
                  <a:pt x="163" y="106"/>
                </a:lnTo>
                <a:lnTo>
                  <a:pt x="172" y="106"/>
                </a:lnTo>
                <a:lnTo>
                  <a:pt x="172" y="105"/>
                </a:lnTo>
                <a:lnTo>
                  <a:pt x="172" y="99"/>
                </a:lnTo>
                <a:lnTo>
                  <a:pt x="183" y="97"/>
                </a:lnTo>
                <a:lnTo>
                  <a:pt x="183" y="96"/>
                </a:lnTo>
                <a:lnTo>
                  <a:pt x="183" y="94"/>
                </a:lnTo>
                <a:lnTo>
                  <a:pt x="183" y="90"/>
                </a:lnTo>
                <a:lnTo>
                  <a:pt x="183" y="88"/>
                </a:lnTo>
                <a:lnTo>
                  <a:pt x="183" y="87"/>
                </a:lnTo>
                <a:lnTo>
                  <a:pt x="183" y="83"/>
                </a:lnTo>
                <a:lnTo>
                  <a:pt x="183" y="81"/>
                </a:lnTo>
                <a:lnTo>
                  <a:pt x="183" y="79"/>
                </a:lnTo>
                <a:lnTo>
                  <a:pt x="183" y="76"/>
                </a:lnTo>
                <a:lnTo>
                  <a:pt x="183" y="74"/>
                </a:lnTo>
                <a:lnTo>
                  <a:pt x="183" y="72"/>
                </a:lnTo>
                <a:lnTo>
                  <a:pt x="194" y="72"/>
                </a:lnTo>
                <a:lnTo>
                  <a:pt x="194" y="70"/>
                </a:lnTo>
                <a:lnTo>
                  <a:pt x="204" y="70"/>
                </a:lnTo>
                <a:lnTo>
                  <a:pt x="204" y="67"/>
                </a:lnTo>
                <a:lnTo>
                  <a:pt x="213" y="67"/>
                </a:lnTo>
                <a:lnTo>
                  <a:pt x="213" y="65"/>
                </a:lnTo>
                <a:lnTo>
                  <a:pt x="213" y="63"/>
                </a:lnTo>
                <a:lnTo>
                  <a:pt x="224" y="63"/>
                </a:lnTo>
                <a:lnTo>
                  <a:pt x="224" y="60"/>
                </a:lnTo>
                <a:lnTo>
                  <a:pt x="235" y="60"/>
                </a:lnTo>
                <a:lnTo>
                  <a:pt x="244" y="58"/>
                </a:lnTo>
                <a:lnTo>
                  <a:pt x="255" y="56"/>
                </a:lnTo>
                <a:lnTo>
                  <a:pt x="265" y="51"/>
                </a:lnTo>
                <a:lnTo>
                  <a:pt x="274" y="51"/>
                </a:lnTo>
                <a:lnTo>
                  <a:pt x="296" y="49"/>
                </a:lnTo>
                <a:lnTo>
                  <a:pt x="307" y="47"/>
                </a:lnTo>
                <a:lnTo>
                  <a:pt x="326" y="44"/>
                </a:lnTo>
                <a:lnTo>
                  <a:pt x="346" y="42"/>
                </a:lnTo>
                <a:lnTo>
                  <a:pt x="357" y="40"/>
                </a:lnTo>
                <a:lnTo>
                  <a:pt x="377" y="36"/>
                </a:lnTo>
                <a:lnTo>
                  <a:pt x="387" y="35"/>
                </a:lnTo>
                <a:lnTo>
                  <a:pt x="409" y="33"/>
                </a:lnTo>
                <a:lnTo>
                  <a:pt x="418" y="33"/>
                </a:lnTo>
                <a:lnTo>
                  <a:pt x="429" y="29"/>
                </a:lnTo>
                <a:lnTo>
                  <a:pt x="439" y="29"/>
                </a:lnTo>
                <a:lnTo>
                  <a:pt x="448" y="26"/>
                </a:lnTo>
                <a:lnTo>
                  <a:pt x="470" y="24"/>
                </a:lnTo>
                <a:lnTo>
                  <a:pt x="479" y="24"/>
                </a:lnTo>
                <a:lnTo>
                  <a:pt x="490" y="20"/>
                </a:lnTo>
                <a:lnTo>
                  <a:pt x="511" y="18"/>
                </a:lnTo>
                <a:lnTo>
                  <a:pt x="511" y="17"/>
                </a:lnTo>
                <a:lnTo>
                  <a:pt x="520" y="13"/>
                </a:lnTo>
                <a:lnTo>
                  <a:pt x="542" y="13"/>
                </a:lnTo>
                <a:lnTo>
                  <a:pt x="551" y="13"/>
                </a:lnTo>
                <a:lnTo>
                  <a:pt x="561" y="13"/>
                </a:lnTo>
                <a:lnTo>
                  <a:pt x="561" y="11"/>
                </a:lnTo>
                <a:lnTo>
                  <a:pt x="561" y="9"/>
                </a:lnTo>
                <a:lnTo>
                  <a:pt x="561" y="6"/>
                </a:lnTo>
                <a:lnTo>
                  <a:pt x="592" y="6"/>
                </a:lnTo>
                <a:lnTo>
                  <a:pt x="644" y="2"/>
                </a:lnTo>
                <a:lnTo>
                  <a:pt x="644" y="0"/>
                </a:lnTo>
                <a:lnTo>
                  <a:pt x="644" y="2"/>
                </a:lnTo>
                <a:lnTo>
                  <a:pt x="653" y="4"/>
                </a:lnTo>
                <a:lnTo>
                  <a:pt x="674" y="4"/>
                </a:lnTo>
                <a:lnTo>
                  <a:pt x="694" y="4"/>
                </a:lnTo>
                <a:lnTo>
                  <a:pt x="705" y="4"/>
                </a:lnTo>
                <a:lnTo>
                  <a:pt x="716" y="4"/>
                </a:lnTo>
                <a:lnTo>
                  <a:pt x="735" y="4"/>
                </a:lnTo>
                <a:lnTo>
                  <a:pt x="755" y="4"/>
                </a:lnTo>
                <a:lnTo>
                  <a:pt x="766" y="4"/>
                </a:lnTo>
                <a:lnTo>
                  <a:pt x="777" y="4"/>
                </a:lnTo>
                <a:lnTo>
                  <a:pt x="786" y="4"/>
                </a:lnTo>
                <a:lnTo>
                  <a:pt x="796" y="4"/>
                </a:lnTo>
                <a:lnTo>
                  <a:pt x="807" y="4"/>
                </a:lnTo>
                <a:lnTo>
                  <a:pt x="818" y="4"/>
                </a:lnTo>
                <a:lnTo>
                  <a:pt x="838" y="4"/>
                </a:lnTo>
                <a:lnTo>
                  <a:pt x="848" y="4"/>
                </a:lnTo>
                <a:lnTo>
                  <a:pt x="868" y="4"/>
                </a:lnTo>
                <a:lnTo>
                  <a:pt x="879" y="4"/>
                </a:lnTo>
                <a:lnTo>
                  <a:pt x="890" y="4"/>
                </a:lnTo>
                <a:lnTo>
                  <a:pt x="909" y="4"/>
                </a:lnTo>
                <a:lnTo>
                  <a:pt x="920" y="4"/>
                </a:lnTo>
                <a:lnTo>
                  <a:pt x="929" y="4"/>
                </a:lnTo>
                <a:lnTo>
                  <a:pt x="951" y="4"/>
                </a:lnTo>
                <a:lnTo>
                  <a:pt x="960" y="4"/>
                </a:lnTo>
                <a:lnTo>
                  <a:pt x="970" y="4"/>
                </a:lnTo>
                <a:lnTo>
                  <a:pt x="981" y="4"/>
                </a:lnTo>
                <a:lnTo>
                  <a:pt x="1001" y="4"/>
                </a:lnTo>
                <a:lnTo>
                  <a:pt x="1012" y="4"/>
                </a:lnTo>
                <a:lnTo>
                  <a:pt x="1031" y="4"/>
                </a:lnTo>
                <a:lnTo>
                  <a:pt x="1042" y="6"/>
                </a:lnTo>
                <a:lnTo>
                  <a:pt x="1053" y="6"/>
                </a:lnTo>
                <a:lnTo>
                  <a:pt x="1073" y="9"/>
                </a:lnTo>
                <a:lnTo>
                  <a:pt x="1083" y="11"/>
                </a:lnTo>
                <a:lnTo>
                  <a:pt x="1103" y="11"/>
                </a:lnTo>
                <a:lnTo>
                  <a:pt x="1114" y="13"/>
                </a:lnTo>
                <a:lnTo>
                  <a:pt x="1125" y="13"/>
                </a:lnTo>
                <a:lnTo>
                  <a:pt x="1144" y="17"/>
                </a:lnTo>
                <a:lnTo>
                  <a:pt x="1164" y="20"/>
                </a:lnTo>
                <a:lnTo>
                  <a:pt x="1196" y="24"/>
                </a:lnTo>
                <a:lnTo>
                  <a:pt x="1205" y="26"/>
                </a:lnTo>
                <a:lnTo>
                  <a:pt x="1227" y="27"/>
                </a:lnTo>
                <a:lnTo>
                  <a:pt x="1247" y="33"/>
                </a:lnTo>
                <a:lnTo>
                  <a:pt x="1266" y="35"/>
                </a:lnTo>
                <a:lnTo>
                  <a:pt x="1288" y="36"/>
                </a:lnTo>
                <a:lnTo>
                  <a:pt x="1318" y="40"/>
                </a:lnTo>
                <a:lnTo>
                  <a:pt x="1329" y="42"/>
                </a:lnTo>
                <a:lnTo>
                  <a:pt x="1349" y="44"/>
                </a:lnTo>
                <a:lnTo>
                  <a:pt x="1369" y="47"/>
                </a:lnTo>
                <a:lnTo>
                  <a:pt x="1379" y="49"/>
                </a:lnTo>
                <a:lnTo>
                  <a:pt x="1410" y="52"/>
                </a:lnTo>
                <a:lnTo>
                  <a:pt x="1410" y="56"/>
                </a:lnTo>
                <a:lnTo>
                  <a:pt x="1421" y="58"/>
                </a:lnTo>
                <a:lnTo>
                  <a:pt x="1431" y="58"/>
                </a:lnTo>
                <a:lnTo>
                  <a:pt x="1451" y="63"/>
                </a:lnTo>
                <a:lnTo>
                  <a:pt x="1462" y="65"/>
                </a:lnTo>
                <a:lnTo>
                  <a:pt x="1482" y="67"/>
                </a:lnTo>
                <a:lnTo>
                  <a:pt x="1503" y="70"/>
                </a:lnTo>
                <a:lnTo>
                  <a:pt x="1534" y="76"/>
                </a:lnTo>
                <a:lnTo>
                  <a:pt x="1543" y="79"/>
                </a:lnTo>
                <a:lnTo>
                  <a:pt x="1553" y="81"/>
                </a:lnTo>
                <a:lnTo>
                  <a:pt x="1564" y="83"/>
                </a:lnTo>
                <a:lnTo>
                  <a:pt x="1573" y="87"/>
                </a:lnTo>
                <a:lnTo>
                  <a:pt x="1573" y="88"/>
                </a:lnTo>
                <a:lnTo>
                  <a:pt x="1573" y="90"/>
                </a:lnTo>
                <a:lnTo>
                  <a:pt x="1584" y="94"/>
                </a:lnTo>
                <a:lnTo>
                  <a:pt x="1595" y="96"/>
                </a:lnTo>
                <a:lnTo>
                  <a:pt x="1605" y="97"/>
                </a:lnTo>
                <a:lnTo>
                  <a:pt x="1614" y="103"/>
                </a:lnTo>
                <a:lnTo>
                  <a:pt x="1614" y="105"/>
                </a:lnTo>
                <a:lnTo>
                  <a:pt x="1625" y="112"/>
                </a:lnTo>
                <a:lnTo>
                  <a:pt x="1636" y="113"/>
                </a:lnTo>
                <a:lnTo>
                  <a:pt x="1656" y="117"/>
                </a:lnTo>
                <a:lnTo>
                  <a:pt x="1666" y="122"/>
                </a:lnTo>
                <a:lnTo>
                  <a:pt x="1686" y="126"/>
                </a:lnTo>
                <a:lnTo>
                  <a:pt x="1708" y="130"/>
                </a:lnTo>
                <a:lnTo>
                  <a:pt x="1727" y="135"/>
                </a:lnTo>
                <a:lnTo>
                  <a:pt x="1738" y="140"/>
                </a:lnTo>
                <a:lnTo>
                  <a:pt x="1758" y="142"/>
                </a:lnTo>
                <a:lnTo>
                  <a:pt x="1779" y="144"/>
                </a:lnTo>
                <a:lnTo>
                  <a:pt x="1788" y="149"/>
                </a:lnTo>
                <a:lnTo>
                  <a:pt x="1799" y="151"/>
                </a:lnTo>
                <a:lnTo>
                  <a:pt x="1819" y="153"/>
                </a:lnTo>
                <a:lnTo>
                  <a:pt x="1830" y="160"/>
                </a:lnTo>
                <a:lnTo>
                  <a:pt x="1849" y="167"/>
                </a:lnTo>
                <a:lnTo>
                  <a:pt x="1871" y="169"/>
                </a:lnTo>
                <a:lnTo>
                  <a:pt x="1901" y="176"/>
                </a:lnTo>
                <a:lnTo>
                  <a:pt x="1932" y="182"/>
                </a:lnTo>
                <a:lnTo>
                  <a:pt x="1943" y="187"/>
                </a:lnTo>
                <a:lnTo>
                  <a:pt x="1962" y="189"/>
                </a:lnTo>
                <a:lnTo>
                  <a:pt x="1973" y="191"/>
                </a:lnTo>
                <a:lnTo>
                  <a:pt x="1984" y="196"/>
                </a:lnTo>
                <a:lnTo>
                  <a:pt x="2004" y="198"/>
                </a:lnTo>
                <a:lnTo>
                  <a:pt x="2023" y="200"/>
                </a:lnTo>
                <a:lnTo>
                  <a:pt x="2045" y="207"/>
                </a:lnTo>
                <a:lnTo>
                  <a:pt x="2065" y="210"/>
                </a:lnTo>
                <a:lnTo>
                  <a:pt x="2086" y="212"/>
                </a:lnTo>
                <a:lnTo>
                  <a:pt x="2106" y="216"/>
                </a:lnTo>
                <a:lnTo>
                  <a:pt x="2126" y="216"/>
                </a:lnTo>
                <a:lnTo>
                  <a:pt x="2147" y="221"/>
                </a:lnTo>
                <a:lnTo>
                  <a:pt x="2147" y="223"/>
                </a:lnTo>
                <a:lnTo>
                  <a:pt x="2156" y="226"/>
                </a:lnTo>
                <a:lnTo>
                  <a:pt x="2167" y="226"/>
                </a:lnTo>
                <a:lnTo>
                  <a:pt x="2178" y="228"/>
                </a:lnTo>
                <a:lnTo>
                  <a:pt x="2197" y="228"/>
                </a:lnTo>
                <a:lnTo>
                  <a:pt x="2228" y="228"/>
                </a:lnTo>
                <a:lnTo>
                  <a:pt x="2239" y="228"/>
                </a:lnTo>
                <a:lnTo>
                  <a:pt x="2249" y="228"/>
                </a:lnTo>
                <a:lnTo>
                  <a:pt x="2258" y="228"/>
                </a:lnTo>
                <a:lnTo>
                  <a:pt x="2280" y="226"/>
                </a:lnTo>
                <a:lnTo>
                  <a:pt x="2300" y="216"/>
                </a:lnTo>
                <a:lnTo>
                  <a:pt x="2310" y="210"/>
                </a:lnTo>
                <a:lnTo>
                  <a:pt x="2310" y="212"/>
                </a:lnTo>
                <a:lnTo>
                  <a:pt x="2310" y="216"/>
                </a:lnTo>
                <a:lnTo>
                  <a:pt x="2310" y="219"/>
                </a:lnTo>
                <a:lnTo>
                  <a:pt x="2336" y="271"/>
                </a:lnTo>
              </a:path>
            </a:pathLst>
          </a:custGeom>
          <a:noFill/>
          <a:ln w="46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998800"/>
            <a:ext cx="1800" cy="2324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38520" y="3271680"/>
            <a:ext cx="1800" cy="205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1280" y="2998800"/>
            <a:ext cx="2870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38520" y="3271680"/>
            <a:ext cx="19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78680" y="2725560"/>
            <a:ext cx="1440" cy="82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041880" y="3271680"/>
            <a:ext cx="136800" cy="138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78680" y="3271680"/>
            <a:ext cx="136440" cy="138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6041880" y="2862000"/>
            <a:ext cx="1368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178680" y="2862000"/>
            <a:ext cx="13644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71960" y="4229280"/>
            <a:ext cx="1639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538520" y="4092480"/>
            <a:ext cx="136800" cy="136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38520" y="4229280"/>
            <a:ext cx="1368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3444480" y="4092480"/>
            <a:ext cx="136440" cy="136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444480" y="4229280"/>
            <a:ext cx="13644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06880" y="5487840"/>
            <a:ext cx="15066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z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65520" y="1523880"/>
            <a:ext cx="342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28840" y="384804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72760" y="3027240"/>
            <a:ext cx="3038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37680" y="3816360"/>
            <a:ext cx="171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71520" y="2995560"/>
            <a:ext cx="171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51480" y="5510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89520" y="5554800"/>
            <a:ext cx="74880" cy="668160"/>
          </a:xfrm>
          <a:custGeom>
            <a:avLst/>
            <a:gdLst>
              <a:gd name="textAreaLeft" fmla="*/ 47880 w 74880"/>
              <a:gd name="textAreaRight" fmla="*/ 75240 w 74880"/>
              <a:gd name="textAreaTop" fmla="*/ 17280 h 668160"/>
              <a:gd name="textAreaBottom" fmla="*/ 650880 h 66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7487640" y="5545080"/>
            <a:ext cx="74520" cy="668520"/>
          </a:xfrm>
          <a:custGeom>
            <a:avLst/>
            <a:gdLst>
              <a:gd name="textAreaLeft" fmla="*/ 47160 w 74520"/>
              <a:gd name="textAreaRight" fmla="*/ 74520 w 74520"/>
              <a:gd name="textAreaTop" fmla="*/ 17280 h 668520"/>
              <a:gd name="textAreaBottom" fmla="*/ 651240 h 668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62520" y="1380960"/>
            <a:ext cx="506664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Dryft wzmocnienia także powstaje wskutek zm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unktów pracy element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1440" y="5560920"/>
            <a:ext cx="50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Dryft krótkookresowy - zmiany temperatury w czas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Dryft długookresowy - starzenie się element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owanie dryf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86480" y="227016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2498760"/>
            <a:ext cx="23004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43240" y="2043000"/>
            <a:ext cx="114120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30440" y="236376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zmacniac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23240" y="2592360"/>
            <a:ext cx="77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zeczywi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114280" y="2271600"/>
            <a:ext cx="228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114280" y="288144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199880" y="2271600"/>
            <a:ext cx="685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00240" y="2271600"/>
            <a:ext cx="144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00240" y="2881440"/>
            <a:ext cx="685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85760" y="250020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04800" y="2195640"/>
            <a:ext cx="30492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81160" y="245124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71800" y="2233440"/>
            <a:ext cx="75960" cy="76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71800" y="2843280"/>
            <a:ext cx="75960" cy="7596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86240" y="2881440"/>
            <a:ext cx="380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86240" y="2271600"/>
            <a:ext cx="380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67120" y="2271600"/>
            <a:ext cx="144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90800" y="24242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18320" y="25160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95880" y="1754280"/>
            <a:ext cx="80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  = f(Rg,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93440" y="187488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03720" y="19828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52160" y="251604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88120" y="2041560"/>
            <a:ext cx="114156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39320" y="236232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zmacniac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38240" y="259092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ezdryfto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059160" y="227016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059160" y="2879640"/>
            <a:ext cx="228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6480" y="2270160"/>
            <a:ext cx="1373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86480" y="2879640"/>
            <a:ext cx="1373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62440" y="2193840"/>
            <a:ext cx="30636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00080" y="244944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21360" y="2232000"/>
            <a:ext cx="76320" cy="76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21360" y="2841480"/>
            <a:ext cx="76320" cy="76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31120" y="2879640"/>
            <a:ext cx="380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31120" y="2270160"/>
            <a:ext cx="380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12000" y="2270160"/>
            <a:ext cx="18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736040" y="242244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963560" y="25146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61360" y="19810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39840" y="251460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73720" y="216072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59520" y="227016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945040" y="2470320"/>
            <a:ext cx="228600" cy="228600"/>
            <a:chOff x="5945040" y="2470320"/>
            <a:chExt cx="228600" cy="228600"/>
          </a:xfrm>
        </p:grpSpPr>
        <p:sp>
          <p:nvSpPr>
            <p:cNvPr id="187" name=""/>
            <p:cNvSpPr/>
            <p:nvPr/>
          </p:nvSpPr>
          <p:spPr>
            <a:xfrm>
              <a:off x="5945040" y="2470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968800" y="2499120"/>
              <a:ext cx="181080" cy="171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5373000" y="1905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50040" y="20257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54600" y="25588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678280" y="2438280"/>
            <a:ext cx="3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01600" y="4861080"/>
            <a:ext cx="18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87480" y="508968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01800" y="4632480"/>
            <a:ext cx="1141560" cy="99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53000" y="495288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zmacniac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51920" y="518148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ezdryfto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72840" y="486108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472840" y="547056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01600" y="4861080"/>
            <a:ext cx="1371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01600" y="5470560"/>
            <a:ext cx="1371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77920" y="4784760"/>
            <a:ext cx="30492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15560" y="504036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44800" y="5470560"/>
            <a:ext cx="381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44800" y="4861080"/>
            <a:ext cx="381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26040" y="486108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49720" y="501336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77240" y="510552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76840" y="45720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53880" y="510552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87400" y="47512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86680" y="4495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63720" y="4616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44600" y="47512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43880" y="4495680"/>
            <a:ext cx="35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   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20920" y="4616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35120" y="4327560"/>
            <a:ext cx="1066680" cy="228600"/>
          </a:xfrm>
          <a:custGeom>
            <a:avLst/>
            <a:gdLst/>
            <a:ahLst/>
            <a:rect l="l" t="t" r="r" b="b"/>
            <a:pathLst>
              <a:path w="672" h="144">
                <a:moveTo>
                  <a:pt x="0" y="144"/>
                </a:moveTo>
                <a:lnTo>
                  <a:pt x="0" y="96"/>
                </a:lnTo>
                <a:lnTo>
                  <a:pt x="48" y="48"/>
                </a:lnTo>
                <a:lnTo>
                  <a:pt x="288" y="48"/>
                </a:lnTo>
                <a:lnTo>
                  <a:pt x="336" y="0"/>
                </a:lnTo>
                <a:lnTo>
                  <a:pt x="384" y="48"/>
                </a:lnTo>
                <a:lnTo>
                  <a:pt x="624" y="48"/>
                </a:lnTo>
                <a:lnTo>
                  <a:pt x="672" y="96"/>
                </a:lnTo>
                <a:lnTo>
                  <a:pt x="672" y="1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97200" y="385128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5410080" y="4495680"/>
                <a:ext cx="1665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3606840" y="1496880"/>
            <a:ext cx="12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05640" y="1636560"/>
            <a:ext cx="12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59360" y="4338720"/>
            <a:ext cx="12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92440" y="3448080"/>
            <a:ext cx="2708280" cy="368280"/>
          </a:xfrm>
          <a:prstGeom prst="borderCallout1">
            <a:avLst>
              <a:gd name="adj1" fmla="val 18750"/>
              <a:gd name="adj2" fmla="val -8333"/>
              <a:gd name="adj3" fmla="val -283592"/>
              <a:gd name="adj4" fmla="val 1333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pięciowe źródło dryf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22440" y="938160"/>
            <a:ext cx="2708280" cy="368280"/>
          </a:xfrm>
          <a:prstGeom prst="borderCallout1">
            <a:avLst>
              <a:gd name="adj1" fmla="val 18750"/>
              <a:gd name="adj2" fmla="val -8333"/>
              <a:gd name="adj3" fmla="val 412398"/>
              <a:gd name="adj4" fmla="val 1294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ądowe źródło dryf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owanie dryftu - przykła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90560" y="1157040"/>
            <a:ext cx="7788240" cy="5037480"/>
            <a:chOff x="790560" y="1157040"/>
            <a:chExt cx="7788240" cy="5037480"/>
          </a:xfrm>
        </p:grpSpPr>
        <p:grpSp>
          <p:nvGrpSpPr>
            <p:cNvPr id="227" name=""/>
            <p:cNvGrpSpPr/>
            <p:nvPr/>
          </p:nvGrpSpPr>
          <p:grpSpPr>
            <a:xfrm>
              <a:off x="1668600" y="1911240"/>
              <a:ext cx="503280" cy="500040"/>
              <a:chOff x="1668600" y="1911240"/>
              <a:chExt cx="503280" cy="500040"/>
            </a:xfrm>
          </p:grpSpPr>
          <p:sp>
            <p:nvSpPr>
              <p:cNvPr id="228" name=""/>
              <p:cNvSpPr/>
              <p:nvPr/>
            </p:nvSpPr>
            <p:spPr>
              <a:xfrm>
                <a:off x="1670040" y="1911240"/>
                <a:ext cx="501840" cy="500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1857240" y="2034720"/>
                <a:ext cx="1800" cy="25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1857240" y="1932120"/>
                <a:ext cx="16200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857240" y="2222640"/>
                <a:ext cx="168480" cy="168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668600" y="2160720"/>
                <a:ext cx="1886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1982880" y="2286000"/>
                <a:ext cx="144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1920960" y="2347920"/>
                <a:ext cx="61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 flipV="1">
              <a:off x="2046240" y="174276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212920" y="115704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46240" y="241308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2920" y="2579760"/>
              <a:ext cx="1800" cy="922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57240" y="2162160"/>
              <a:ext cx="754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57240" y="2162160"/>
              <a:ext cx="144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0560" y="2747880"/>
              <a:ext cx="334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73000" y="2832120"/>
              <a:ext cx="168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57240" y="2832120"/>
              <a:ext cx="1440" cy="669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57240" y="3502080"/>
              <a:ext cx="16747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125360" y="2077920"/>
              <a:ext cx="333720" cy="1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30480" y="2832120"/>
              <a:ext cx="166680" cy="333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212920" y="1407960"/>
              <a:ext cx="842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flipV="1">
              <a:off x="2130120" y="1407960"/>
              <a:ext cx="824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52080" y="1760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425320" y="2849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72920" y="2981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01120" y="1892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251360" y="268272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01120" y="2813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437920" y="1238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588040" y="1258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657880" y="13906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88840" y="182412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759040" y="1928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21800" y="18241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76240" y="20955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26360" y="222732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21800" y="2327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72280" y="2347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42120" y="247824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B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21800" y="20750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82880" y="1827360"/>
              <a:ext cx="252360" cy="834840"/>
            </a:xfrm>
            <a:custGeom>
              <a:avLst/>
              <a:gdLst/>
              <a:ahLst/>
              <a:rect l="l" t="t" r="r" b="b"/>
              <a:pathLst>
                <a:path w="159" h="526">
                  <a:moveTo>
                    <a:pt x="0" y="0"/>
                  </a:moveTo>
                  <a:lnTo>
                    <a:pt x="53" y="0"/>
                  </a:lnTo>
                  <a:lnTo>
                    <a:pt x="106" y="43"/>
                  </a:lnTo>
                  <a:lnTo>
                    <a:pt x="106" y="262"/>
                  </a:lnTo>
                  <a:lnTo>
                    <a:pt x="159" y="306"/>
                  </a:lnTo>
                  <a:lnTo>
                    <a:pt x="106" y="350"/>
                  </a:lnTo>
                  <a:lnTo>
                    <a:pt x="106" y="482"/>
                  </a:lnTo>
                  <a:lnTo>
                    <a:pt x="53" y="526"/>
                  </a:lnTo>
                  <a:lnTo>
                    <a:pt x="0" y="52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18040" y="2244600"/>
              <a:ext cx="1681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18040" y="2328840"/>
              <a:ext cx="1681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3218040" y="2161800"/>
              <a:ext cx="168120" cy="250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68600" y="2160720"/>
              <a:ext cx="168480" cy="252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6610320" y="1911240"/>
              <a:ext cx="501840" cy="500040"/>
              <a:chOff x="6610320" y="1911240"/>
              <a:chExt cx="501840" cy="500040"/>
            </a:xfrm>
          </p:grpSpPr>
          <p:sp>
            <p:nvSpPr>
              <p:cNvPr id="273" name=""/>
              <p:cNvSpPr/>
              <p:nvPr/>
            </p:nvSpPr>
            <p:spPr>
              <a:xfrm>
                <a:off x="6610320" y="1911240"/>
                <a:ext cx="501840" cy="500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6797520" y="2034720"/>
                <a:ext cx="1800" cy="25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6797520" y="1932120"/>
                <a:ext cx="16380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797520" y="2222640"/>
                <a:ext cx="168480" cy="168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610320" y="2160720"/>
                <a:ext cx="1872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6923160" y="2286000"/>
                <a:ext cx="144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6861240" y="2347920"/>
                <a:ext cx="61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 flipV="1">
              <a:off x="6986520" y="174276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7153200" y="115704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86520" y="241308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53200" y="2579760"/>
              <a:ext cx="1800" cy="922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57600" y="2162160"/>
              <a:ext cx="2178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57600" y="216216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90920" y="2747880"/>
              <a:ext cx="3351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475160" y="2832120"/>
              <a:ext cx="166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557600" y="2832120"/>
              <a:ext cx="1800" cy="669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57600" y="3502080"/>
              <a:ext cx="25956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26080" y="2077920"/>
              <a:ext cx="334800" cy="1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70760" y="2832120"/>
              <a:ext cx="166680" cy="333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7153200" y="1407960"/>
              <a:ext cx="842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7070400" y="1407960"/>
              <a:ext cx="824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54240" y="1760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65600" y="2849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513200" y="2981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01480" y="1892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853160" y="268272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001480" y="2813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378200" y="1238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28320" y="1258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598160" y="13906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629120" y="182412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99320" y="1928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462080" y="18241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16520" y="20955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66640" y="222732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462080" y="2327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12560" y="2347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682760" y="247824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B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462080" y="20750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823160" y="1827360"/>
              <a:ext cx="252360" cy="834840"/>
            </a:xfrm>
            <a:custGeom>
              <a:avLst/>
              <a:gdLst/>
              <a:ahLst/>
              <a:rect l="l" t="t" r="r" b="b"/>
              <a:pathLst>
                <a:path w="159" h="526">
                  <a:moveTo>
                    <a:pt x="0" y="0"/>
                  </a:moveTo>
                  <a:lnTo>
                    <a:pt x="53" y="0"/>
                  </a:lnTo>
                  <a:lnTo>
                    <a:pt x="106" y="43"/>
                  </a:lnTo>
                  <a:lnTo>
                    <a:pt x="106" y="262"/>
                  </a:lnTo>
                  <a:lnTo>
                    <a:pt x="159" y="306"/>
                  </a:lnTo>
                  <a:lnTo>
                    <a:pt x="106" y="350"/>
                  </a:lnTo>
                  <a:lnTo>
                    <a:pt x="106" y="482"/>
                  </a:lnTo>
                  <a:lnTo>
                    <a:pt x="53" y="526"/>
                  </a:lnTo>
                  <a:lnTo>
                    <a:pt x="0" y="52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58320" y="2244600"/>
              <a:ext cx="1681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158320" y="2328840"/>
              <a:ext cx="1681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408880" y="2160720"/>
              <a:ext cx="169920" cy="252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311800" y="1994040"/>
              <a:ext cx="334800" cy="334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5981760" y="2162160"/>
              <a:ext cx="1440" cy="1339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5815080" y="2664000"/>
              <a:ext cx="333360" cy="334800"/>
              <a:chOff x="5815080" y="2664000"/>
              <a:chExt cx="333360" cy="334800"/>
            </a:xfrm>
          </p:grpSpPr>
          <p:sp>
            <p:nvSpPr>
              <p:cNvPr id="319" name=""/>
              <p:cNvSpPr/>
              <p:nvPr/>
            </p:nvSpPr>
            <p:spPr>
              <a:xfrm>
                <a:off x="5815080" y="2664000"/>
                <a:ext cx="333360" cy="3348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856120" y="2706840"/>
                <a:ext cx="250920" cy="250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5439960" y="16779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88280" y="1808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84080" y="16574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68320" y="2662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20240" y="26827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588280" y="2813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176640" y="4589640"/>
              <a:ext cx="501480" cy="500040"/>
              <a:chOff x="3176640" y="4589640"/>
              <a:chExt cx="501480" cy="500040"/>
            </a:xfrm>
          </p:grpSpPr>
          <p:sp>
            <p:nvSpPr>
              <p:cNvPr id="328" name=""/>
              <p:cNvSpPr/>
              <p:nvPr/>
            </p:nvSpPr>
            <p:spPr>
              <a:xfrm>
                <a:off x="3176640" y="4589640"/>
                <a:ext cx="501480" cy="500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3365640" y="4713120"/>
                <a:ext cx="1440" cy="25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3365640" y="4609800"/>
                <a:ext cx="161640" cy="1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65640" y="4902120"/>
                <a:ext cx="166680" cy="1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176640" y="4838760"/>
                <a:ext cx="1890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3490920" y="4965840"/>
                <a:ext cx="144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3427560" y="5027760"/>
                <a:ext cx="633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 flipV="1">
              <a:off x="3552840" y="4422600"/>
              <a:ext cx="168120" cy="167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3720960" y="383652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52840" y="5092560"/>
              <a:ext cx="16812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20960" y="5259240"/>
              <a:ext cx="1800" cy="920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25360" y="4842000"/>
              <a:ext cx="21765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1125360" y="4841640"/>
              <a:ext cx="1800" cy="1338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90560" y="6180120"/>
              <a:ext cx="39355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711440" y="4757760"/>
              <a:ext cx="334800" cy="1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37080" y="5511960"/>
              <a:ext cx="166680" cy="333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720960" y="4087800"/>
              <a:ext cx="842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3636720" y="4087800"/>
              <a:ext cx="8388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839600" y="44402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931920" y="55292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080960" y="56610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986840" y="45720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944160" y="391788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096440" y="39387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65920" y="407052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197240" y="450360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265640" y="46083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28400" y="45036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84280" y="47750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332600" y="490680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028400" y="50054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80320" y="50259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248720" y="515772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B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28400" y="47545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390920" y="4506840"/>
              <a:ext cx="250920" cy="835200"/>
            </a:xfrm>
            <a:custGeom>
              <a:avLst/>
              <a:gdLst/>
              <a:ahLst/>
              <a:rect l="l" t="t" r="r" b="b"/>
              <a:pathLst>
                <a:path w="158" h="526">
                  <a:moveTo>
                    <a:pt x="0" y="0"/>
                  </a:moveTo>
                  <a:lnTo>
                    <a:pt x="53" y="0"/>
                  </a:lnTo>
                  <a:lnTo>
                    <a:pt x="105" y="42"/>
                  </a:lnTo>
                  <a:lnTo>
                    <a:pt x="105" y="262"/>
                  </a:lnTo>
                  <a:lnTo>
                    <a:pt x="158" y="306"/>
                  </a:lnTo>
                  <a:lnTo>
                    <a:pt x="105" y="350"/>
                  </a:lnTo>
                  <a:lnTo>
                    <a:pt x="105" y="482"/>
                  </a:lnTo>
                  <a:lnTo>
                    <a:pt x="53" y="526"/>
                  </a:lnTo>
                  <a:lnTo>
                    <a:pt x="0" y="52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726080" y="4924440"/>
              <a:ext cx="166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726080" y="5008680"/>
              <a:ext cx="166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976640" y="4840200"/>
              <a:ext cx="168480" cy="252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209600" y="4673520"/>
              <a:ext cx="333360" cy="335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800440" y="4841640"/>
              <a:ext cx="1440" cy="1338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2631960" y="5343480"/>
              <a:ext cx="335160" cy="335160"/>
              <a:chOff x="2631960" y="5343480"/>
              <a:chExt cx="335160" cy="335160"/>
            </a:xfrm>
          </p:grpSpPr>
          <p:sp>
            <p:nvSpPr>
              <p:cNvPr id="369" name=""/>
              <p:cNvSpPr/>
              <p:nvPr/>
            </p:nvSpPr>
            <p:spPr>
              <a:xfrm>
                <a:off x="2631960" y="5343480"/>
                <a:ext cx="335160" cy="3351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674800" y="5386320"/>
                <a:ext cx="249480" cy="249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1335240" y="435780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486080" y="4487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181880" y="43369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107520" y="53402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58000" y="53611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327480" y="5492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872640" y="3836880"/>
              <a:ext cx="38530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381400" y="3836880"/>
              <a:ext cx="1440" cy="234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297160" y="4087800"/>
              <a:ext cx="166680" cy="33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297160" y="5343480"/>
              <a:ext cx="166680" cy="335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592000" y="41054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741760" y="4237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006280" y="536112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56040" y="5492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28840" y="47973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70200" y="48150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346480" y="61196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70200" y="61023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687840" y="37926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170080" y="34574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45040" y="3457440"/>
              <a:ext cx="7488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5040" y="2119320"/>
              <a:ext cx="7488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705120" y="6119640"/>
              <a:ext cx="7488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76400" y="61196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46480" y="37926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13:48:31Z</dcterms:created>
  <dc:creator>Agnieszka Kukawczynska</dc:creator>
  <dc:description/>
  <dc:language>en-US</dc:language>
  <cp:lastModifiedBy>MK</cp:lastModifiedBy>
  <dcterms:modified xsi:type="dcterms:W3CDTF">2005-04-19T14:58:41Z</dcterms:modified>
  <cp:revision>75</cp:revision>
  <dc:subject/>
  <dc:title>Wzmacniacze prądu stałego</dc:title>
</cp:coreProperties>
</file>