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073-A7E6-445A-A47D-84E0E672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825-4BA7-4FBC-AB54-2A7000D6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637-F533-4153-9F37-68D175C8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57A-8243-4577-8674-1B9B01F5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D91-D01B-4C61-84F1-41988CF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7EE-799B-477F-95B9-4E33F0E3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545-77E7-4C4C-B8B0-337A91D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C4F-6B02-47E9-B553-8382D2BF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7A5-DE95-4FAB-A28A-6C1F949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43A-B0B8-4DED-BEF2-01F8BAD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2F6-7154-4FEF-8E2A-DBD9166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65B-52CC-4C17-9FD5-0D0911C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D7E-FB7D-4F3E-B8DB-9A9605B72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4840" y="6285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W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2160" y="5508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W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000" y="56664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W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5520" y="1822320"/>
                <a:ext cx="115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86440" y="5759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m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47160" y="572436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d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6480" y="572436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częstotliwości 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415880" y="2145960"/>
            <a:ext cx="6890040" cy="3421440"/>
            <a:chOff x="1415880" y="2145960"/>
            <a:chExt cx="6890040" cy="3421440"/>
          </a:xfrm>
        </p:grpSpPr>
        <p:sp>
          <p:nvSpPr>
            <p:cNvPr id="495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460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512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516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553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584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592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601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620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629" name="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645" name="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669" name="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55520" y="3538440"/>
            <a:ext cx="8667720" cy="3097440"/>
            <a:chOff x="155520" y="3538440"/>
            <a:chExt cx="8667720" cy="3097440"/>
          </a:xfrm>
        </p:grpSpPr>
        <p:sp>
          <p:nvSpPr>
            <p:cNvPr id="694" name=""/>
            <p:cNvSpPr/>
            <p:nvPr/>
          </p:nvSpPr>
          <p:spPr>
            <a:xfrm>
              <a:off x="1768320" y="472608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5130720" y="6181560"/>
                  <a:ext cx="295272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79760" y="496404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938920" y="4857840"/>
              <a:ext cx="456480" cy="771120"/>
              <a:chOff x="5938920" y="4857840"/>
              <a:chExt cx="456480" cy="771120"/>
            </a:xfrm>
          </p:grpSpPr>
          <p:sp>
            <p:nvSpPr>
              <p:cNvPr id="698" name=""/>
              <p:cNvSpPr/>
              <p:nvPr/>
            </p:nvSpPr>
            <p:spPr>
              <a:xfrm>
                <a:off x="5938920" y="4857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950800" y="5135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90920" y="5046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251240" y="5122800"/>
              <a:ext cx="353880" cy="87120"/>
              <a:chOff x="4251240" y="5122800"/>
              <a:chExt cx="353880" cy="87120"/>
            </a:xfrm>
          </p:grpSpPr>
          <p:sp>
            <p:nvSpPr>
              <p:cNvPr id="702" name=""/>
              <p:cNvSpPr/>
              <p:nvPr/>
            </p:nvSpPr>
            <p:spPr>
              <a:xfrm>
                <a:off x="4258080" y="512280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51240" y="520992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917960" y="4569120"/>
              <a:ext cx="88560" cy="348840"/>
              <a:chOff x="4917960" y="4569120"/>
              <a:chExt cx="88560" cy="34884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4917960" y="456912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006520" y="457596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2023920" y="4722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70280" y="474192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581280" y="47419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432320" y="4741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81280" y="553896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2164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63600" y="5899320"/>
              <a:ext cx="58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99200" y="4761000"/>
              <a:ext cx="9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2720" y="476100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7364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19280" y="421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92520" y="44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0640" y="566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54680" y="5070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851520" y="4761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060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86080" y="4071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17720" y="5048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0440" y="5040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91320" y="40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08560" y="496584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062080" y="4874760"/>
              <a:ext cx="7920" cy="825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67920" y="50641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209760" y="4890960"/>
              <a:ext cx="0" cy="873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5400" y="4221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6760" y="5859360"/>
              <a:ext cx="828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10280" y="5827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2440" y="58388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2320" y="4680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53120" y="473076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1640" y="4710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5086440" y="3633840"/>
              <a:ext cx="18864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432320" y="388728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192720" y="3904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1560" y="4711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874960" y="5886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3" name=""/>
            <p:cNvSpPr/>
            <p:nvPr/>
          </p:nvSpPr>
          <p:spPr>
            <a:xfrm>
              <a:off x="1511280" y="4722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31760" y="41292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55520" y="4619520"/>
              <a:ext cx="1077840" cy="1330560"/>
              <a:chOff x="155520" y="4619520"/>
              <a:chExt cx="1077840" cy="133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65040" y="5946840"/>
                <a:ext cx="66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5520" y="480852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6200000">
                <a:off x="67176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5520" y="5045040"/>
                <a:ext cx="41580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03640" y="53434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480000" y="4052880"/>
                  <a:ext cx="22053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5" name=""/>
            <p:cNvSpPr/>
            <p:nvPr/>
          </p:nvSpPr>
          <p:spPr>
            <a:xfrm flipV="1">
              <a:off x="5332320" y="5417640"/>
              <a:ext cx="53208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2320" y="583740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2584440" y="4425480"/>
              <a:ext cx="190440" cy="58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856640" y="4824360"/>
              <a:ext cx="0" cy="928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1160" y="496728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3232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476680" y="3905280"/>
              <a:ext cx="7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333840" y="476244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3807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210440" y="3538440"/>
                  <a:ext cx="16128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"/>
            <p:cNvSpPr/>
            <p:nvPr/>
          </p:nvSpPr>
          <p:spPr>
            <a:xfrm>
              <a:off x="4429080" y="47512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998600" y="4775040"/>
              <a:ext cx="11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1149480" y="6181560"/>
                  <a:ext cx="133812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"/>
            <p:cNvSpPr/>
            <p:nvPr/>
          </p:nvSpPr>
          <p:spPr>
            <a:xfrm>
              <a:off x="1690560" y="505944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46360" y="469584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24040" y="588168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03200" y="5122800"/>
              <a:ext cx="289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0160" y="52927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84360" y="4599000"/>
              <a:ext cx="0" cy="14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2000" y="573264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6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3600" y="117936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772080" y="96696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38560" y="21510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33720" y="1940040"/>
                <a:ext cx="4200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592920" y="38908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46400" y="3726000"/>
                <a:ext cx="4232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681520" y="5207040"/>
                <a:ext cx="2629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567000" y="298116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450040" y="2770200"/>
                <a:ext cx="2885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795" name="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813" name="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842" name="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860" name="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878" name="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934" name="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6" name="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7" name="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30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3406680" y="1427040"/>
                <a:ext cx="3699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2104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051440" y="2536920"/>
                <a:ext cx="365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75400" y="35942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625920" y="3635280"/>
                <a:ext cx="5344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26316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595680" y="4454640"/>
                <a:ext cx="5092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34344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636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965" name="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969" name="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009" name="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021" name="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028" name="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042" name="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058" name="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061" name="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080" name="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086" name="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105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10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119" name="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123" name="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468720" y="23544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159080" y="2133720"/>
                <a:ext cx="2757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0520" y="38656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854520" y="3713040"/>
                <a:ext cx="5079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470880" y="46213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51360" y="4626000"/>
                <a:ext cx="1407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467280" y="53769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464080" y="537840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7" name=""/>
          <p:cNvSpPr/>
          <p:nvPr/>
        </p:nvSpPr>
        <p:spPr>
          <a:xfrm>
            <a:off x="4698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743280" y="6153120"/>
                <a:ext cx="1231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66920" y="311004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470560" y="290520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146" name="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154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155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161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187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24" name="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225" name="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228" name="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231" name="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232" name="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5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9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306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7320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1324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1327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361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392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400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409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428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429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438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440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466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1515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532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558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578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485280" y="857160"/>
            <a:ext cx="7706160" cy="3603960"/>
            <a:chOff x="485280" y="857160"/>
            <a:chExt cx="7706160" cy="3603960"/>
          </a:xfrm>
        </p:grpSpPr>
        <p:sp>
          <p:nvSpPr>
            <p:cNvPr id="1600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617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643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663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685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1699" name="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1700" name="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1702" name="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3" name="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2" name="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0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791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817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837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861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1877" name="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1882" name="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1917" name="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7" name="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1929" name="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32" name="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1934" name="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1935" name="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7" name="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1974" name="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988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017" name="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042" name="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2046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2047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9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2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2120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2134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4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2145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7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3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4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65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0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1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3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4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5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6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8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9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194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217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220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257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3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4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5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6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344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984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mał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2393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2396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242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244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247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248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250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253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257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257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1101600" y="313560"/>
            <a:ext cx="6727680" cy="5414760"/>
            <a:chOff x="1101600" y="313560"/>
            <a:chExt cx="6727680" cy="5414760"/>
          </a:xfrm>
        </p:grpSpPr>
        <mc:AlternateContent>
          <mc:Choice xmlns:a14="http://schemas.microsoft.com/office/drawing/2010/main" Requires="a14">
            <p:sp>
              <p:nvSpPr>
                <p:cNvPr id="2596" name=""/>
                <p:cNvSpPr txBox="1"/>
                <p:nvPr/>
              </p:nvSpPr>
              <p:spPr>
                <a:xfrm>
                  <a:off x="2297160" y="4811760"/>
                  <a:ext cx="80496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597" name=""/>
            <p:cNvGrpSpPr/>
            <p:nvPr/>
          </p:nvGrpSpPr>
          <p:grpSpPr>
            <a:xfrm>
              <a:off x="1101600" y="313560"/>
              <a:ext cx="6727680" cy="5414760"/>
              <a:chOff x="1101600" y="313560"/>
              <a:chExt cx="6727680" cy="5414760"/>
            </a:xfrm>
          </p:grpSpPr>
          <p:sp>
            <p:nvSpPr>
              <p:cNvPr id="2598" name=""/>
              <p:cNvSpPr/>
              <p:nvPr/>
            </p:nvSpPr>
            <p:spPr>
              <a:xfrm flipV="1">
                <a:off x="2146680" y="1283760"/>
                <a:ext cx="0" cy="329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52800" y="4582080"/>
                <a:ext cx="512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622040" y="2469960"/>
                <a:ext cx="223236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622040" y="2473200"/>
                <a:ext cx="0" cy="216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473240" y="43408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578680" y="1660680"/>
                <a:ext cx="152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dB/dekad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44640" y="2076840"/>
                <a:ext cx="291600" cy="10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>
                <a:off x="2104560" y="24732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195920" y="2083320"/>
                <a:ext cx="109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17163000">
                <a:off x="3579120" y="276588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104920" y="2644200"/>
                <a:ext cx="24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101600" y="26413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3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3815640" y="2473200"/>
                <a:ext cx="806400" cy="10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2341080" y="3556440"/>
                <a:ext cx="147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15640" y="3556440"/>
                <a:ext cx="0" cy="102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rot="6316200">
                <a:off x="1855800" y="89316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2142360" y="3556440"/>
                <a:ext cx="28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5" name=""/>
                <p:cNvSpPr txBox="1"/>
                <p:nvPr/>
              </p:nvSpPr>
              <p:spPr>
                <a:xfrm>
                  <a:off x="5197320" y="4842000"/>
                  <a:ext cx="175608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e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6" name=""/>
            <p:cNvSpPr/>
            <p:nvPr/>
          </p:nvSpPr>
          <p:spPr>
            <a:xfrm flipH="1" flipV="1">
              <a:off x="4646160" y="4708440"/>
              <a:ext cx="43812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243240" y="4671720"/>
              <a:ext cx="52884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6-03-09T15:55:40Z</dcterms:modified>
  <cp:revision>132</cp:revision>
  <dc:subject/>
  <dc:title>Właściwości częstotliwościowe wzmacniaczy tranzystorowych</dc:title>
</cp:coreProperties>
</file>